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29F-7212-4AFE-9F70-7C6AF303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E61-5C91-4033-8703-FDFF6AC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98D-488B-4424-87B2-899FF27A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8EC-5CCA-4D63-A450-1A30BCD3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6EE-5AB9-4AFD-890F-8EEBEBBC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EA4-DDEF-48BF-8C68-632406A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822-E247-4510-B7D2-73FCA14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BA6-7E52-4AC4-BA0F-3129AF7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036-E958-4DA6-9B1A-52D9AE8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087-1D6F-42F0-AD05-E269DF3D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F4D-8E76-4FB5-970C-452346E4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3D3-90FD-40DE-BFC2-8F4D112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F0D-B4B7-40E5-9219-C23FAF2E7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04 Instrumental.wav" descr=""/>
          <p:cNvPicPr/>
          <p:nvPr/>
        </p:nvPicPr>
        <p:blipFill>
          <a:blip r:embed="rId1"/>
          <a:stretch/>
        </p:blipFill>
        <p:spPr>
          <a:xfrm>
            <a:off x="4419720" y="2730600"/>
            <a:ext cx="304560" cy="2538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4" descr="d30_216258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Rechteck 5" descr=""/>
          <p:cNvPicPr/>
          <p:nvPr/>
        </p:nvPicPr>
        <p:blipFill>
          <a:blip r:embed="rId3"/>
          <a:stretch/>
        </p:blipFill>
        <p:spPr>
          <a:xfrm>
            <a:off x="444600" y="378000"/>
            <a:ext cx="6773760" cy="1811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nhaltsplatzhalter 3" descr="d13_21651097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nhaltsplatzhalter 3" descr="d14_21638255.jpg"/>
          <p:cNvPicPr/>
          <p:nvPr/>
        </p:nvPicPr>
        <p:blipFill>
          <a:blip r:embed="rId1"/>
          <a:stretch/>
        </p:blipFill>
        <p:spPr>
          <a:xfrm>
            <a:off x="0" y="0"/>
            <a:ext cx="9460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nhaltsplatzhalter 3" descr="d16_21669329.jpg"/>
          <p:cNvPicPr/>
          <p:nvPr/>
        </p:nvPicPr>
        <p:blipFill>
          <a:blip r:embed="rId1"/>
          <a:stretch/>
        </p:blipFill>
        <p:spPr>
          <a:xfrm>
            <a:off x="-93600" y="0"/>
            <a:ext cx="96264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nhaltsplatzhalter 3" descr="d17_21656867.jpg"/>
          <p:cNvPicPr/>
          <p:nvPr/>
        </p:nvPicPr>
        <p:blipFill>
          <a:blip r:embed="rId1"/>
          <a:stretch/>
        </p:blipFill>
        <p:spPr>
          <a:xfrm>
            <a:off x="-69840" y="119160"/>
            <a:ext cx="9267840" cy="559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nhaltsplatzhalter 3" descr="d18_21649859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nhaltsplatzhalter 3" descr="d19_21668933.jpg"/>
          <p:cNvPicPr/>
          <p:nvPr/>
        </p:nvPicPr>
        <p:blipFill>
          <a:blip r:embed="rId1"/>
          <a:stretch/>
        </p:blipFill>
        <p:spPr>
          <a:xfrm>
            <a:off x="-128520" y="0"/>
            <a:ext cx="9497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nhaltsplatzhalter 3" descr="d20_21651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nhaltsplatzhalter 3" descr="d21_21649911.jpg"/>
          <p:cNvPicPr/>
          <p:nvPr/>
        </p:nvPicPr>
        <p:blipFill>
          <a:blip r:embed="rId1"/>
          <a:stretch/>
        </p:blipFill>
        <p:spPr>
          <a:xfrm>
            <a:off x="-411120" y="0"/>
            <a:ext cx="9912240" cy="573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nhaltsplatzhalter 3" descr="d22_21669369.jpg"/>
          <p:cNvPicPr/>
          <p:nvPr/>
        </p:nvPicPr>
        <p:blipFill>
          <a:blip r:embed="rId1"/>
          <a:stretch/>
        </p:blipFill>
        <p:spPr>
          <a:xfrm>
            <a:off x="-285840" y="-536400"/>
            <a:ext cx="10072800" cy="6352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nhaltsplatzhalter 3" descr="d23_21655983.jpg"/>
          <p:cNvPicPr/>
          <p:nvPr/>
        </p:nvPicPr>
        <p:blipFill>
          <a:blip r:embed="rId1"/>
          <a:stretch/>
        </p:blipFill>
        <p:spPr>
          <a:xfrm>
            <a:off x="-44280" y="0"/>
            <a:ext cx="91882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nhaltsplatzhalter 3" descr="d01_21614403.jpg"/>
          <p:cNvPicPr/>
          <p:nvPr/>
        </p:nvPicPr>
        <p:blipFill>
          <a:blip r:embed="rId1"/>
          <a:stretch/>
        </p:blipFill>
        <p:spPr>
          <a:xfrm>
            <a:off x="-28440" y="0"/>
            <a:ext cx="9192960" cy="57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nhaltsplatzhalter 3" descr="d24_21660167.jpg"/>
          <p:cNvPicPr/>
          <p:nvPr/>
        </p:nvPicPr>
        <p:blipFill>
          <a:blip r:embed="rId1"/>
          <a:stretch/>
        </p:blipFill>
        <p:spPr>
          <a:xfrm>
            <a:off x="0" y="0"/>
            <a:ext cx="94028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nhaltsplatzhalter 3" descr="d25_21669945.jpg"/>
          <p:cNvPicPr/>
          <p:nvPr/>
        </p:nvPicPr>
        <p:blipFill>
          <a:blip r:embed="rId1"/>
          <a:stretch/>
        </p:blipFill>
        <p:spPr>
          <a:xfrm>
            <a:off x="-73080" y="0"/>
            <a:ext cx="9002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nhaltsplatzhalter 3" descr="d26_21607229.jpg"/>
          <p:cNvPicPr/>
          <p:nvPr/>
        </p:nvPicPr>
        <p:blipFill>
          <a:blip r:embed="rId1"/>
          <a:stretch/>
        </p:blipFill>
        <p:spPr>
          <a:xfrm>
            <a:off x="-7920" y="0"/>
            <a:ext cx="96217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nhaltsplatzhalter 3" descr="d27_21639499.jpg"/>
          <p:cNvPicPr/>
          <p:nvPr/>
        </p:nvPicPr>
        <p:blipFill>
          <a:blip r:embed="rId1"/>
          <a:stretch/>
        </p:blipFill>
        <p:spPr>
          <a:xfrm>
            <a:off x="-19080" y="0"/>
            <a:ext cx="9339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d28_216141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nhaltsplatzhalter 3" descr="d29_21639835.jpg"/>
          <p:cNvPicPr/>
          <p:nvPr/>
        </p:nvPicPr>
        <p:blipFill>
          <a:blip r:embed="rId1"/>
          <a:stretch/>
        </p:blipFill>
        <p:spPr>
          <a:xfrm>
            <a:off x="-42840" y="0"/>
            <a:ext cx="96584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nhaltsplatzhalter 3" descr="d32_21626601.jpg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nhaltsplatzhalter 3" descr="d33_21627503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nhaltsplatzhalter 3" descr="d34_21649613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nhaltsplatzhalter 3" descr="d36_21625719.jpg"/>
          <p:cNvPicPr/>
          <p:nvPr/>
        </p:nvPicPr>
        <p:blipFill>
          <a:blip r:embed="rId1"/>
          <a:stretch/>
        </p:blipFill>
        <p:spPr>
          <a:xfrm>
            <a:off x="-12600" y="0"/>
            <a:ext cx="9153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nhaltsplatzhalter 3" descr="d02_21578477.jpg"/>
          <p:cNvPicPr/>
          <p:nvPr/>
        </p:nvPicPr>
        <p:blipFill>
          <a:blip r:embed="rId1"/>
          <a:stretch/>
        </p:blipFill>
        <p:spPr>
          <a:xfrm>
            <a:off x="0" y="297000"/>
            <a:ext cx="9374040" cy="559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nhaltsplatzhalter 3" descr="d35_21669493.jpg"/>
          <p:cNvPicPr/>
          <p:nvPr/>
        </p:nvPicPr>
        <p:blipFill>
          <a:blip r:embed="rId1"/>
          <a:stretch/>
        </p:blipFill>
        <p:spPr>
          <a:xfrm>
            <a:off x="-106200" y="0"/>
            <a:ext cx="9250200" cy="571500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5" descr="20_3408.gif"/>
          <p:cNvPicPr/>
          <p:nvPr/>
        </p:nvPicPr>
        <p:blipFill>
          <a:blip r:embed="rId2"/>
          <a:stretch/>
        </p:blipFill>
        <p:spPr>
          <a:xfrm>
            <a:off x="6948360" y="2209680"/>
            <a:ext cx="1238400" cy="2476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4778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56000" y="5165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360" y="4950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nhaltsplatzhalter 3" descr="d03_21588225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571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haltsplatzhalter 3" descr="d06_21591813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582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nhaltsplatzhalter 3" descr="d07_21591809.jpg"/>
          <p:cNvPicPr/>
          <p:nvPr/>
        </p:nvPicPr>
        <p:blipFill>
          <a:blip r:embed="rId1"/>
          <a:stretch/>
        </p:blipFill>
        <p:spPr>
          <a:xfrm>
            <a:off x="-285840" y="0"/>
            <a:ext cx="10417320" cy="5869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nhaltsplatzhalter 3" descr="d08_21597369.jpg"/>
          <p:cNvPicPr/>
          <p:nvPr/>
        </p:nvPicPr>
        <p:blipFill>
          <a:blip r:embed="rId1"/>
          <a:stretch/>
        </p:blipFill>
        <p:spPr>
          <a:xfrm>
            <a:off x="0" y="0"/>
            <a:ext cx="9234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nhaltsplatzhalter 3" descr="d09_2164020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nhaltsplatzhalter 3" descr="d12_21649667.jpg"/>
          <p:cNvPicPr/>
          <p:nvPr/>
        </p:nvPicPr>
        <p:blipFill>
          <a:blip r:embed="rId1"/>
          <a:stretch/>
        </p:blipFill>
        <p:spPr>
          <a:xfrm>
            <a:off x="-270000" y="0"/>
            <a:ext cx="98078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9:49:44Z</dcterms:created>
  <dc:creator/>
  <dc:description/>
  <dc:language>en-US</dc:language>
  <cp:lastModifiedBy/>
  <dcterms:modified xsi:type="dcterms:W3CDTF">2011-02-07T20:06:21Z</dcterms:modified>
  <cp:revision>8</cp:revision>
  <dc:subject/>
  <dc:title>Folie 1</dc:title>
</cp:coreProperties>
</file>