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C8552-B2A9-4671-9868-90EFE048DA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01D60-D9CA-465A-AAAB-4055C6E54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90409F-1883-4168-8072-98278DA6E3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52FC11-70DE-4471-9CFD-78DF2B8524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70F9D-DB85-408F-865B-0B0B309F4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9B93D-7E8C-4E68-9B9B-CFC1CEC7A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0087F-D03D-4C91-8B6D-219C23E70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C5DAA-F121-4C04-9835-7BB08615E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71856-FE09-4D27-84C9-9FBE06DBC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E9D03-7A6B-4DDC-B833-46801707A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53E4E-DA79-4CA0-A6CF-029C1FCE8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F69F7-FB18-4741-A5F5-4C09FFE15C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C978B-A83A-46C2-9657-F287D43AAE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commons/b/ba/Flag_of_Germany.svg"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File:Flag of Germany.svg">
            <a:hlinkClick r:id="rId1"/>
          </p:cNvPr>
          <p:cNvPicPr/>
          <p:nvPr/>
        </p:nvPicPr>
        <p:blipFill>
          <a:blip r:embed="rId2">
            <a:lum bright="-6000"/>
            <a:alphaModFix amt="25000"/>
          </a:blip>
          <a:stretch/>
        </p:blipFill>
        <p:spPr>
          <a:xfrm>
            <a:off x="0" y="0"/>
            <a:ext cx="9180360" cy="6858000"/>
          </a:xfrm>
          <a:prstGeom prst="rect">
            <a:avLst/>
          </a:prstGeom>
          <a:ln w="0">
            <a:noFill/>
          </a:ln>
        </p:spPr>
      </p:pic>
      <p:sp>
        <p:nvSpPr>
          <p:cNvPr id="42" name=""/>
          <p:cNvSpPr txBox="1"/>
          <p:nvPr/>
        </p:nvSpPr>
        <p:spPr>
          <a:xfrm>
            <a:off x="3492360" y="907920"/>
            <a:ext cx="204804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cc00"/>
                </a:solidFill>
                <a:effectLst>
                  <a:outerShdw dist="153753" dir="2700000" blurRad="0" rotWithShape="0">
                    <a:srgbClr val="c0c0c0">
                      <a:alpha val="80000"/>
                    </a:srgbClr>
                  </a:outerShdw>
                </a:effectLst>
                <a:latin typeface="Broadway"/>
              </a:rPr>
              <a:t>German</a:t>
            </a:r>
            <a:endParaRPr b="0" lang="en-US" sz="1800" spc="1" strike="noStrike">
              <a:ln w="12600">
                <a:solidFill>
                  <a:srgbClr val="000000"/>
                </a:solidFill>
                <a:miter/>
              </a:ln>
              <a:solidFill>
                <a:srgbClr val="ffcc00"/>
              </a:solidFill>
              <a:effectLst>
                <a:outerShdw dist="153753" dir="2700000" blurRad="0" rotWithShape="0">
                  <a:srgbClr val="c0c0c0">
                    <a:alpha val="80000"/>
                  </a:srgbClr>
                </a:outerShdw>
              </a:effectLst>
              <a:latin typeface="Broadway"/>
              <a:ea typeface="Broadway"/>
            </a:endParaRPr>
          </a:p>
        </p:txBody>
      </p:sp>
      <p:sp>
        <p:nvSpPr>
          <p:cNvPr id="43" name=""/>
          <p:cNvSpPr txBox="1"/>
          <p:nvPr/>
        </p:nvSpPr>
        <p:spPr>
          <a:xfrm>
            <a:off x="3203640" y="2997360"/>
            <a:ext cx="24289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3300"/>
                </a:solidFill>
                <a:effectLst>
                  <a:outerShdw dist="153753" dir="2700000" blurRad="0" rotWithShape="0">
                    <a:srgbClr val="c0c0c0">
                      <a:alpha val="80000"/>
                    </a:srgbClr>
                  </a:outerShdw>
                </a:effectLst>
                <a:latin typeface="Broadway"/>
              </a:rPr>
              <a:t>Exchange</a:t>
            </a:r>
            <a:endParaRPr b="0" lang="en-US" sz="1800" spc="1" strike="noStrike">
              <a:ln w="12600">
                <a:solidFill>
                  <a:srgbClr val="000000"/>
                </a:solidFill>
                <a:miter/>
              </a:ln>
              <a:solidFill>
                <a:srgbClr val="ff3300"/>
              </a:solidFill>
              <a:effectLst>
                <a:outerShdw dist="153753" dir="2700000" blurRad="0" rotWithShape="0">
                  <a:srgbClr val="c0c0c0">
                    <a:alpha val="80000"/>
                  </a:srgbClr>
                </a:outerShdw>
              </a:effectLst>
              <a:latin typeface="Broadway"/>
              <a:ea typeface="Broadway"/>
            </a:endParaRPr>
          </a:p>
        </p:txBody>
      </p:sp>
      <p:sp>
        <p:nvSpPr>
          <p:cNvPr id="44" name=""/>
          <p:cNvSpPr txBox="1"/>
          <p:nvPr/>
        </p:nvSpPr>
        <p:spPr>
          <a:xfrm>
            <a:off x="3132000" y="4797360"/>
            <a:ext cx="29340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000000"/>
                </a:solidFill>
                <a:effectLst>
                  <a:outerShdw dist="153753" dir="2700000" blurRad="0" rotWithShape="0">
                    <a:srgbClr val="c0c0c0">
                      <a:alpha val="80000"/>
                    </a:srgbClr>
                  </a:outerShdw>
                </a:effectLst>
                <a:latin typeface="Broadway"/>
              </a:rPr>
              <a:t>Celebration</a:t>
            </a:r>
            <a:endParaRPr b="0" lang="en-US" sz="1800" spc="1" strike="noStrike">
              <a:ln w="12600">
                <a:solidFill>
                  <a:srgbClr val="eaeaea"/>
                </a:solidFill>
                <a:miter/>
              </a:ln>
              <a:solidFill>
                <a:srgbClr val="000000"/>
              </a:solidFill>
              <a:effectLst>
                <a:outerShdw dist="153753" dir="2700000" blurRad="0" rotWithShape="0">
                  <a:srgbClr val="c0c0c0">
                    <a:alpha val="80000"/>
                  </a:srgbClr>
                </a:outerShdw>
              </a:effectLst>
              <a:latin typeface="Broadway"/>
              <a:ea typeface="Broadway"/>
            </a:endParaRPr>
          </a:p>
        </p:txBody>
      </p:sp>
      <p:sp>
        <p:nvSpPr>
          <p:cNvPr id="45" name=""/>
          <p:cNvSpPr txBox="1"/>
          <p:nvPr/>
        </p:nvSpPr>
        <p:spPr>
          <a:xfrm>
            <a:off x="4284720" y="5516640"/>
            <a:ext cx="792000" cy="107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solidFill>
                  <a:srgbClr val="000000"/>
                </a:solidFill>
                <a:effectLst>
                  <a:outerShdw dist="153753" dir="2700000" blurRad="0" rotWithShape="0">
                    <a:srgbClr val="c0c0c0">
                      <a:alpha val="80000"/>
                    </a:srgbClr>
                  </a:outerShdw>
                </a:effectLst>
                <a:latin typeface="Arial Black"/>
              </a:rPr>
              <a:t>09</a:t>
            </a:r>
            <a:endParaRPr b="0" lang="en-US" sz="1800" spc="1" strike="noStrike">
              <a:ln w="12600">
                <a:solidFill>
                  <a:srgbClr val="ff0000"/>
                </a:solidFill>
                <a:miter/>
              </a:ln>
              <a:solidFill>
                <a:srgbClr val="000000"/>
              </a:soli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rlin Sans FB Demi"/>
              </a:rPr>
              <a:t>Our Presentation!</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100000"/>
              </a:lnSpc>
              <a:spcBef>
                <a:spcPts val="1100"/>
              </a:spcBef>
              <a:buClr>
                <a:srgbClr val="ffffff"/>
              </a:buClr>
              <a:buFont typeface="Bauhaus 93"/>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auhaus 93"/>
              </a:rPr>
              <a:t>This is a presentation by Grace and Louise about our week with our German exchange partners. We are looking forward to seeing them again at the end of Ju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bbe0e3"/>
                </a:solidFill>
                <a:uFillTx/>
                <a:latin typeface="Broadway"/>
              </a:rPr>
              <a:t>Arrival</a:t>
            </a:r>
            <a:endParaRPr b="0" lang="en-US" sz="6000" spc="-1" strike="noStrike">
              <a:solidFill>
                <a:srgbClr val="000000"/>
              </a:solidFill>
              <a:latin typeface="Arial"/>
            </a:endParaRPr>
          </a:p>
        </p:txBody>
      </p:sp>
      <p:sp>
        <p:nvSpPr>
          <p:cNvPr id="49"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Bookman Old Style"/>
              </a:rPr>
              <a:t>   </a:t>
            </a:r>
            <a:r>
              <a:rPr b="1" lang="en-US" sz="2800" spc="-1" strike="noStrike">
                <a:solidFill>
                  <a:srgbClr val="ff3300"/>
                </a:solidFill>
                <a:latin typeface="Bookman Old Style"/>
              </a:rPr>
              <a:t>On Tuesday our German exchanges arrived at school. At first we were excited but then got a bit nervous before they arrived. However, once we had met them, we got on really well. It was awkward at first but once we got to know each other we began to relax and enjoy the experience. Many of us received lovely gifts from our exchanges; which included bags, jewellery, magnets, other Germany related things; but most importantly .. Chocol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0000ff"/>
                </a:solidFill>
                <a:uFillTx/>
                <a:latin typeface="Broadway"/>
              </a:rPr>
              <a:t>The first day</a:t>
            </a:r>
            <a:endParaRPr b="0" lang="en-US" sz="66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100000"/>
              </a:lnSpc>
              <a:spcBef>
                <a:spcPts val="901"/>
              </a:spcBef>
              <a:buClr>
                <a:srgbClr val="ffcc00"/>
              </a:buClr>
              <a:buFont typeface="Colonna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Colonna MT"/>
              </a:rPr>
              <a:t>On the first day they went to Windsor. They thoroughly  enjoyed their trip and came back with lots of stories to tell. That afternoon we went down to our village and showed them Tesco’s and some of Hook. We both decided to give our exchanges an English meal. They found the English countryside beautiful and enjoyed the trip ou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stellar"/>
              </a:rPr>
              <a:t>The week</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Bel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rPr>
              <a:t>Through out the week we enjoyed spending time with our exchanges and they enjoyed their trips to Windsor, London and Portsmouth. On the final Tuesday our exchanges came into two of our lessons. Which were music and art. They found it interesting to experience an English les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roadway"/>
              </a:rPr>
              <a:t>London</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ff"/>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 Sans FB Demi"/>
              </a:rPr>
              <a:t>At the weekend, we took our German exchanges to London to see some famous landmarks. We took them to Harrods and Hamley’s and had a trip on the London eye. They enjoyed their visit and came home with many souvenirs.</a:t>
            </a:r>
            <a:r>
              <a:rPr b="0" lang="en-US" sz="3600" spc="-1" strike="noStrike">
                <a:solidFill>
                  <a:srgbClr val="000000"/>
                </a:solidFill>
                <a:latin typeface="Berlin Sans FB Demi"/>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Bookman Old Style"/>
              </a:rPr>
              <a:t>Celebration day</a:t>
            </a:r>
            <a:endParaRPr b="0" lang="en-US" sz="48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On the Monday before they left, we had a celebration on our school field. We played rounder's and had football matches. We also did traditional maypole dancing and had a delicious hog roast and cake for afterwar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0T13:45:24Z</dcterms:created>
  <dc:creator>Authorised User</dc:creator>
  <dc:description/>
  <dc:language>en-US</dc:language>
  <cp:lastModifiedBy>Authorised User</cp:lastModifiedBy>
  <dcterms:modified xsi:type="dcterms:W3CDTF">2009-06-03T14:24:47Z</dcterms:modified>
  <cp:revision>6</cp:revision>
  <dc:subject/>
  <dc:title>Slide 1</dc:title>
</cp:coreProperties>
</file>