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BAA-C740-4CF2-9AEA-7094B576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83E-0EA1-4DFF-82F5-B88D99BD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DED-FF9E-4B92-BDCD-21D45A6C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3F8-E5BB-4AF8-A338-16AFF66E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7EE-9C4D-4057-A16A-7FFFF46B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9EF-E9EF-4B76-91CC-87E7B778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9C5-0176-4EB8-9B72-6B364583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D42-7449-4D3C-8707-CE43F893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185-C8A3-49BB-A1BD-51BD80D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FC3-BCFF-4DE7-BDBB-7631DA49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3AA-623C-4243-A890-2DB72B0A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EAD-D287-45DE-9428-16D5350F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0888-DBA3-4454-B1BA-ACB7383DA2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616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981080"/>
            <a:ext cx="777240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86ded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Monotype Corsiva"/>
              </a:rPr>
              <a:t>Organize your ti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86ded"/>
                  </a:gs>
                  <a:gs pos="100000">
                    <a:srgbClr val="ffff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4564080"/>
            <a:ext cx="2057400" cy="15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oca_mar_lilaesc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072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9. Dedicate time to laugh:</a:t>
            </a:r>
            <a:endParaRPr b="1" lang="en-US" sz="4000" spc="1" strike="noStrike">
              <a:ln w="0">
                <a:noFill/>
              </a:ln>
              <a:solidFill>
                <a:srgbClr val="cc99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 mitigates the stress in your life. </a:t>
            </a:r>
            <a:endParaRPr b="1" lang="en-US" sz="4000" spc="1" strike="noStrike">
              <a:ln w="0">
                <a:noFill/>
              </a:ln>
              <a:solidFill>
                <a:srgbClr val="cc99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id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434340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10.Dedicate time to plan: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it's the secret to find time for the previous nine things.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5029200"/>
            <a:ext cx="8458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dicate time to GOD.</a:t>
            </a:r>
            <a:endParaRPr b="1" i="1" lang="en-US" sz="24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81080" y="167652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6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E HAPPY!!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085840" y="2462040"/>
            <a:ext cx="49723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w find some ti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d send thi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 a frie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ca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609480"/>
            <a:ext cx="7696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1. Dedicate time to work: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price of success. 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oça%20Pens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5800" y="43434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2. Dedicate time to think: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fountain of power. 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racao_amigos1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33520" y="22860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3. Dedicate time to enjoy: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secret of youth. 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ible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62120" y="457200"/>
            <a:ext cx="7391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4. Dedicate time to read:</a:t>
            </a:r>
            <a:endParaRPr b="1" lang="en-US" sz="2400" spc="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basis of knowledge. </a:t>
            </a:r>
            <a:endParaRPr b="1" lang="en-US" sz="2400" spc="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o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533520"/>
            <a:ext cx="7924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5. Dedicate time to worship: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path to salvation. </a:t>
            </a:r>
            <a:endParaRPr b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%20DOLPHINS%20PARADI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04920" y="380880"/>
            <a:ext cx="8610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6. Dedicate time for your friends:</a:t>
            </a:r>
            <a:endParaRPr b="1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path to happiness. </a:t>
            </a:r>
            <a:endParaRPr b="1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wan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04920" y="0"/>
            <a:ext cx="8534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7. Dedicate time to love and be loved:</a:t>
            </a:r>
            <a:endParaRPr b="1" lang="en-US" sz="2400" spc="1" strike="noStrike">
              <a:ln w="0">
                <a:noFill/>
              </a:ln>
              <a:solidFill>
                <a:srgbClr val="ff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's the source of joy and satisfaction. </a:t>
            </a:r>
            <a:endParaRPr b="1" lang="en-US" sz="2400" spc="1" strike="noStrike">
              <a:ln w="0">
                <a:noFill/>
              </a:ln>
              <a:solidFill>
                <a:srgbClr val="ff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if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28600" y="0"/>
            <a:ext cx="8915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8. Dedicate time to dream: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it raises your soul to the stars.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9:46:16Z</dcterms:created>
  <dc:creator>Maria Cristina Zacaria</dc:creator>
  <dc:description/>
  <dc:language>en-US</dc:language>
  <cp:lastModifiedBy>Smets</cp:lastModifiedBy>
  <dcterms:modified xsi:type="dcterms:W3CDTF">2008-09-05T17:52:27Z</dcterms:modified>
  <cp:revision>7</cp:revision>
  <dc:subject/>
  <dc:title>Apresentação do PowerPoint</dc:title>
</cp:coreProperties>
</file>