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B3A-4BC3-44D8-91C6-2A3A3A5C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B76-C032-406C-A926-A02633A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5CA-4792-4C85-B2A8-BCF0E34F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FB6-13CF-429E-8007-E28BF98F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260A-78B9-4033-9E59-A0F726D0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B190-6406-47F4-83F9-145CFB61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578E-9511-4D75-B0FD-EF89B721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C7DC-0F6C-46C1-89D8-16F0DD02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13D5-ADB9-44DE-90E8-06E7FD56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2BB3-5A31-490F-A42A-5F8E935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3653-2D15-4065-B98B-D8DEB75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8FB-4B08-4368-ABDE-9871DE39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D968-1B0F-46CA-AC55-D6F7C870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E4D3-CBC9-4A33-A856-923D4AAF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88EA-8CD6-4C88-9ADF-E577022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D6A9-2381-428E-8584-A6AE18BD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7F7F-449E-4676-902F-FCC45B57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D7C-5B60-4A4A-8E5A-B575CD07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8BE-53C2-4B15-B23A-DDEA26E9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CEB-1099-4FB1-B512-48800C1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F75-45CC-469E-8F5E-779FC7B7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0E1-5A54-4CD0-9424-528BBE0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9A8-FC37-43FE-BFE9-754CB420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15B-2882-4A17-808E-EBC3B73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DC76-FFDF-47BC-8982-B3ED7614C3A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650A-F843-4BA3-9663-9EEA673A538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427640" y="1844640"/>
            <a:ext cx="4464000" cy="4105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ري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icl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 طريق الف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و موضعيا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ور مبعثَ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ed Phas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ور مبعثِ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ng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أو وسط التبعث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معلق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مستحلب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ضبوب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هلام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صيدلانية المبعثرة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br>
              <a:rPr sz="32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دكتور أنطون اللح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79280" y="1844640"/>
            <a:ext cx="4032360" cy="4105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بعثرات غرو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بعثرات خش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arse Disp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ُظم غير ثابت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stab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عادة التوز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Re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حري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03640" y="2492280"/>
            <a:ext cx="3746520" cy="1441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مواد الكربوهيدراتي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Carbohyd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صمغ العرب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cac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كثيرا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agacan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آغارِ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gar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البكتي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c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43640" y="1844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58920" y="4149720"/>
            <a:ext cx="7200720" cy="259236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أغوال بوزن جزيئي مرتف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igh-molecular-weight alcoh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ستيريلي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n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سيتيلي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alcoho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ستيارات الغليسير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lyceryl monostearate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كوتينا)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.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ستيارات البروب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glycol monostea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.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لورات البروب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glycol monolau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ستيارات الدي اث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iethylene glycol monostea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دي ستيارات اث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thylene glycol distea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900000" y="2492280"/>
            <a:ext cx="3746520" cy="1441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واد بروتيني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rotein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ati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فار البيض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gg 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زئين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se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826920" y="1844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771640" y="2349360"/>
            <a:ext cx="367200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Wet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11280" y="11592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443640" y="1655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826920" y="1655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5796000" y="2997360"/>
            <a:ext cx="2952720" cy="2808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صوابين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o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أحادية التكافؤ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onovalent</a:t>
            </a: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(ز/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ole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1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tassium ole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2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تعددة التكافؤ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olyvalent</a:t>
            </a: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(م/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lcium ole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ضوية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organic</a:t>
            </a: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(ز/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iethanolamine oleate    12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lauryl sulfate       4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66560" y="2997360"/>
            <a:ext cx="2953080" cy="1439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- سيتريميد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Cetrim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- السيتافلون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Cetav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كلوريد البنزلكوني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zalkonium chlo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 rot="10800000">
            <a:off x="3419640" y="2923920"/>
            <a:ext cx="2304720" cy="28098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714920" y="3456000"/>
            <a:ext cx="936720" cy="549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41"/>
                </a:solidFill>
                <a:latin typeface="Times New Roman"/>
                <a:cs typeface="Times New Roman"/>
              </a:rPr>
              <a:t>أنيو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4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41"/>
                </a:solidFill>
                <a:latin typeface="Times New Roman"/>
                <a:ea typeface="Times New Roman"/>
              </a:rPr>
              <a:t>Ani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3492360" y="3456000"/>
            <a:ext cx="936720" cy="549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اتيو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ti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3"/>
          <p:cNvSpPr/>
          <p:nvPr/>
        </p:nvSpPr>
        <p:spPr>
          <a:xfrm>
            <a:off x="5292720" y="2995560"/>
            <a:ext cx="360360" cy="358920"/>
          </a:xfrm>
          <a:prstGeom prst="ellipse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3492360" y="2995560"/>
            <a:ext cx="360360" cy="358920"/>
          </a:xfrm>
          <a:prstGeom prst="ellipse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 baseline="2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3962520" y="5784840"/>
            <a:ext cx="1224000" cy="82332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Arial"/>
              </a:rPr>
              <a:t>عديمة الشحنة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ni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4394160" y="5300640"/>
            <a:ext cx="360360" cy="358920"/>
          </a:xfrm>
          <a:prstGeom prst="ellipse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2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6588000" y="6021360"/>
            <a:ext cx="1224000" cy="27468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 = &gt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1258920" y="4653000"/>
            <a:ext cx="1224000" cy="27468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 = 3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2556000" y="5877000"/>
            <a:ext cx="1224000" cy="27468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 = 3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692360" y="2349360"/>
            <a:ext cx="597528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Wetting agents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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ديمة الشحن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Non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1280" y="11592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443640" y="1655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826920" y="1655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713120" y="2952720"/>
            <a:ext cx="4251600" cy="2232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ركبات السوربيتان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orbitan 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trioleate (Span 8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oleate (Span 8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tristearae (Span 6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stearae (Span 6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palmitate (Span 4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laurate (Span 2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214200" y="2952720"/>
            <a:ext cx="4357800" cy="2232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ركبات السوربيتان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orbitan Compounds</a:t>
            </a:r>
            <a:r>
              <a:rPr b="1" lang="ar-SY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i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trioleate (Tween 8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oleate (Tween 8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tristearae (Tween 6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stearae (Tween 6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palmitate (Tween 40)15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laurate (Tween 2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6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851280" y="5300640"/>
            <a:ext cx="5114880" cy="1341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غار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uric aci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نخ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almitic acid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4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شحم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ic acid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8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زيت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ic acid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8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=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443640" y="1844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826920" y="1844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716360" y="3933720"/>
            <a:ext cx="4251600" cy="2232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سترات الأحماض الدسمة مع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</a:t>
            </a: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 monostearae (Myrj 45)   1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 monostearae (Myrj 52)   16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 monostearae (Myrj 53)   17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14200" y="3141720"/>
            <a:ext cx="4357800" cy="3311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تيرات الأغوال الدسم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ع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</a:t>
            </a: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uryl ether (Brij 3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uryl ether (Brij 3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6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ether (Brij 5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ether (Brij 56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ether (Brij 58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5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6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2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8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0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yl ether (Brij 9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yl ether (Brij 96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2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yl ether (Brij 98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619280" y="2565360"/>
            <a:ext cx="604836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ابع /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Wetting agents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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ديمة الشحن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Non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 flipV="1">
            <a:off x="5076720" y="3141000"/>
            <a:ext cx="1727280" cy="71892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443640" y="1844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826920" y="1844640"/>
            <a:ext cx="5329440" cy="432000"/>
          </a:xfrm>
          <a:prstGeom prst="wedgeRoundRectCallout">
            <a:avLst>
              <a:gd name="adj1" fmla="val 48185"/>
              <a:gd name="adj2" fmla="val 104412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716360" y="3141720"/>
            <a:ext cx="4178520" cy="11509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نتونيت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Bent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هيدروكسيد الألمنيوم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Aluminum 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هيدروكسيد المغنيزيوم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agnesium 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716360" y="2565360"/>
            <a:ext cx="417528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غضاريات الغروا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c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92040" y="2565360"/>
            <a:ext cx="4251240" cy="3816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اد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LB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ز/م)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LB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م/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شحم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ول الشحم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انولين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مع عسلي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ت الفول السوداني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ت القطن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وت نباتي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وت معدنية ثقيل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.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وت معدنية خفيف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افي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395280" y="29242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3059280" y="2565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1692360" y="2565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435640" y="1820880"/>
            <a:ext cx="3457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ي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435640" y="2852640"/>
            <a:ext cx="3456000" cy="11527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تطلبات الدستورية للكري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endial Requir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or C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435640" y="4146480"/>
            <a:ext cx="3459240" cy="23781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محتوى المكروبي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icrobi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ملئ الأدنى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inimum 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عبئة، التخزين، والعنو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ackaging, Storage, and Lab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لزوجة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Visc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درجة الباهاء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إطلاق الدواء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Drug-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"/>
          <p:cNvPicPr/>
          <p:nvPr/>
        </p:nvPicPr>
        <p:blipFill>
          <a:blip r:embed="rId1"/>
          <a:stretch/>
        </p:blipFill>
        <p:spPr>
          <a:xfrm>
            <a:off x="250920" y="1863720"/>
            <a:ext cx="4968720" cy="46609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257" name="Text Box 11"/>
          <p:cNvSpPr/>
          <p:nvPr/>
        </p:nvSpPr>
        <p:spPr>
          <a:xfrm>
            <a:off x="5435640" y="2421000"/>
            <a:ext cx="3457440" cy="612360"/>
          </a:xfrm>
          <a:prstGeom prst="rect">
            <a:avLst/>
          </a:prstGeom>
          <a:solidFill>
            <a:srgbClr val="d8d8e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يمات المتلاشية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Vanishing cre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صنف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cription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صف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xamples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مثل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Simplified Arabic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organi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ظم ثنائية الطو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luminum hydroxide ge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لا عضوية</a:t>
            </a:r>
            <a:r>
              <a:rPr b="1" lang="ar-SY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	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Two-phase system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 ma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rgani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ظم أحادية الطو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pol (Carbopol) 910, 934, 934 P, 940, 13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عضوية</a:t>
            </a:r>
            <a:r>
              <a:rPr b="0" lang="ar-SY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 </a:t>
            </a:r>
            <a:r>
              <a:rPr b="1" lang="ar-SY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Single-phase system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agaca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gel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امات مائية عضو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ctin paste, Tragacanth je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هلامات مائ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وغ طبيعية واصطناع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ethycellulose, sodium CMC, Plu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امات مائية لا عضو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 gel (10-25%), Veegum, Si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rganogel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نمط الهيدروكربوني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trolatum, mineral oil/polyethylene 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هلامات عضو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دهون حيوانية / نبات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rd, cocoa bu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حوم بأساس صابوني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luminum stearate with heavy mineral oil 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امات عضوية محبة للماء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bowax bases (PEG oint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369720" y="321300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361800" y="383544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357120" y="444492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49200" y="537372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أمثلة لعوامل مهلمة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Examples of Gell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صمغ العرب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cacia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ألجيني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lginic acid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 – 5%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00 – 30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بنتونيت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%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9.5 – 1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ربومير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imer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0.5%  - 1%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2.5 - 3.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رواق ولزوجة بـ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7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←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ربوكسي م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xymethylcellu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 – 6%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ثبات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–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توافق مع الكحو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ربوكسي ميثيل سلولوز الصود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xymethylcellulose sodium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ثبات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–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سيتوستيريل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ostearyl alcohol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ثاني أكسيد السيليكون الغروان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silicon dioxid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thylcellu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أمثلة لعوامل مهلمة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Examples of Gell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غوار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uar g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دروكسي ا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xyethyl cellu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دروكسي بروب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xypropyl cellu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دروكسي بروبيل م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xypropylmethylcel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PMC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ليكات المغنيزيوم والألمنيو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gnesium aluminum silica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الفيغ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Veegum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التودكستري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ltodext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ethylcel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بولي فينيل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vinyl alcoh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أمثلة لعوامل مهلمة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Examples of Gell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بولوكسامير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oxamer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و البلوروني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luronic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4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8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3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38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0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بولي فينيل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vinyl alcohol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VA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   2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بوفيدو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vidon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بونات البروبيلي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carbo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لجينات البروبيلين غليكول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glycol alg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لجينات الصوديو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algina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4 -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ليكولات نشا الصوديو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starch glycola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نشاء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arc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كثيراء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agacant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4 -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كزانتا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xanthan g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219640" y="2635200"/>
            <a:ext cx="3600360" cy="2881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عري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عوامل معلق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d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عوامل مبعثر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واد حافظ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اء مقط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صرف الدواء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n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908000" y="1916280"/>
            <a:ext cx="46087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ق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39640" y="2637000"/>
            <a:ext cx="4176720" cy="2879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سباب تحضير المعلق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for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خصائص المرغوبة في المعلق الصيدلا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ures Desired in a Pharmaceutical 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رعة ترسب الأجزاء في المعلق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imentation Rate of the Particles of a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1547640" y="5661000"/>
            <a:ext cx="3456000" cy="954360"/>
          </a:xfrm>
          <a:prstGeom prst="rect">
            <a:avLst/>
          </a:prstGeom>
          <a:solidFill>
            <a:srgbClr val="d8d8e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P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P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Y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2268360" y="61437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8"/>
          <p:cNvSpPr/>
          <p:nvPr/>
        </p:nvSpPr>
        <p:spPr>
          <a:xfrm>
            <a:off x="5005440" y="5734080"/>
            <a:ext cx="3527280" cy="719280"/>
          </a:xfrm>
          <a:prstGeom prst="leftArrow">
            <a:avLst>
              <a:gd name="adj1" fmla="val 50000"/>
              <a:gd name="adj2" fmla="val 12259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ff0000"/>
                </a:solidFill>
                <a:latin typeface="Arial"/>
              </a:rPr>
              <a:t>علاقة ستوكس</a:t>
            </a:r>
            <a:r>
              <a:rPr b="1" lang="ar-SY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okes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9640" y="2635200"/>
            <a:ext cx="8280360" cy="9381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خصائص الفيزيائية للطور المبعثر في المعلق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Factures of the Dispersed phase of 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908000" y="1916280"/>
            <a:ext cx="46087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ق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39640" y="3789360"/>
            <a:ext cx="8280360" cy="1224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أبعاد الأجزاء المبعثر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 of the Dispersed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* كتلة متراص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ke compact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      * تجم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* تند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cculation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  * عامل مند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cculating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219640" y="5157720"/>
            <a:ext cx="3600360" cy="1923480"/>
          </a:xfrm>
          <a:prstGeom prst="rect">
            <a:avLst/>
          </a:prstGeom>
          <a:solidFill>
            <a:srgbClr val="ffffa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جينة البنتوني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 ma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هار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lectrol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 الفعالة سطحيا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urf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كاثي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95280" y="5464080"/>
            <a:ext cx="4681440" cy="1008720"/>
          </a:xfrm>
          <a:prstGeom prst="rect">
            <a:avLst/>
          </a:prstGeom>
          <a:solidFill>
            <a:srgbClr val="ffffa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سط التبعث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عوامل المعلقة – التوافر الحيو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io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547640" y="2708280"/>
            <a:ext cx="5543640" cy="25210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ئل نيوتونية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ton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ئل لا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وتونية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Newton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غير القوام بالرج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xo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08000" y="1916280"/>
            <a:ext cx="460872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لم الجريان (الانسيابية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Rh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8360" y="2565360"/>
            <a:ext cx="8207280" cy="27367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وامل مرطب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ئل مرطب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rosc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جانس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واد حافظ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ركيب الآني للمعلق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mporaneous Compounding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بات الدواء في سواغ سائ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ty of the drug in the liquid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ركيبات الآ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mporaneous formul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58920" y="1916280"/>
            <a:ext cx="597708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ضير المعلق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eparation of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5516640"/>
            <a:ext cx="8207280" cy="863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تعبئة المعلقات وحفظها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ackaging and Storage of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لمساحيق الجافة لتحضير المعلقات الفموي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Dry Powders for oral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924360" y="2349360"/>
            <a:ext cx="4824360" cy="1656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 تعر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طور مبعثَر أو طور داخل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ternal Pha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وسط التبعثر أو طور خارج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xternal Phase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أو طور مستم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ntinuou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 العامل الاستحلاب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ying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835280" y="1773360"/>
            <a:ext cx="4824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39640" y="4797360"/>
            <a:ext cx="8207640" cy="1800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*</a:t>
            </a:r>
            <a:r>
              <a:rPr b="1" lang="ar-SY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نظرية التوتر السطحي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Surface-Tens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* نظرية الوتد الموَّجه (توجه جزيئات العامل الاستحلابي في سطح الفصل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Oriented-Wedge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* نظرية الفلم اللدن أو في سطح الفصل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lastic or Interfacial Film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539640" y="2565360"/>
            <a:ext cx="3240360" cy="1440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ater- loving = Hydrophi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حب للشحم أو محب للز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ipophilic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il-l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203640" y="4149720"/>
            <a:ext cx="5543640" cy="503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*</a:t>
            </a:r>
            <a:r>
              <a:rPr b="1" lang="ar-SY" sz="22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 نظريات الاستحلاب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eories of Emuls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258920" y="2565360"/>
            <a:ext cx="6192720" cy="11509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عوامل الاستحلابية ونظام التوازن المائي الزيتي (ت م 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phile – Lipophile Balance (H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835280" y="1916280"/>
            <a:ext cx="4824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755640" y="4221000"/>
            <a:ext cx="7488360" cy="165600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طرق تحضير المستحلبات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Simplified Arabic"/>
              </a:rPr>
              <a:t>Methods of Emulsions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ريقة الصمغ الجا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ry Gum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ريقة الصمغ الرط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et Gum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ريقة القارور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ott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547640" y="2565360"/>
            <a:ext cx="5977080" cy="647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المكروية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icroemul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050920" y="1844640"/>
            <a:ext cx="46818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042920" y="3645000"/>
            <a:ext cx="6769080" cy="100800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ثبات المستحلب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ability of 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كدس والالتحا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ggregation and Coa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55640" y="5157720"/>
            <a:ext cx="7488360" cy="50472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مثلة للمستحلبات الفمو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xamples of Oral 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547640" y="2492280"/>
            <a:ext cx="5977080" cy="5050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عوامل الاستحلاب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ying Agents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050920" y="1844640"/>
            <a:ext cx="46818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716360" y="3500280"/>
            <a:ext cx="4103640" cy="266400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مواد كربوهيدرات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hyd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مواد بروتي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tein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أغوال بوزن جزيئي مرتف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igh-molecular-weight alcoh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وامل مبلل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et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مواد الصلبة كالغضاريات الغروا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c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68360" y="3213000"/>
            <a:ext cx="4103640" cy="30956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</a:t>
            </a:r>
            <a:r>
              <a:rPr b="1" lang="ar-SY" sz="20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فعالية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	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	</a:t>
            </a:r>
            <a:r>
              <a:rPr b="1" lang="ar-SY" sz="20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قيم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Simplified Arabic"/>
              </a:rPr>
              <a:t>H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ضاد رغو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ntifoaming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استحلابية (م/ز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iers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/O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etting agents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استحلابية (ز/م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iers      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/W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مساعدة على الانحلال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lubilize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نظفات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tergents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3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08:45:30Z</dcterms:created>
  <dc:creator>.</dc:creator>
  <dc:description/>
  <dc:language>en-US</dc:language>
  <cp:lastModifiedBy>hp</cp:lastModifiedBy>
  <dcterms:modified xsi:type="dcterms:W3CDTF">2008-10-07T11:08:28Z</dcterms:modified>
  <cp:revision>57</cp:revision>
  <dc:subject/>
  <dc:title>الشريحة 1</dc:title>
</cp:coreProperties>
</file>