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61F-CA93-4F1C-A727-F4A7D379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6B1-793F-4C5B-AF22-91C94871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5B2-5DFA-4324-95FE-3238CADA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AE16-6E36-4D12-A2F8-AFD38C73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D8E6-6C4D-4293-8DEA-9B43D471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FCDC-B73B-42CC-A7E9-5A4B2BFA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266E-00EA-4EDF-8A1F-EF8978F2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5E29-5441-4256-99EF-45941F48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C8D4-B409-46B5-9D4A-99667B13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8632-D1C0-47AD-849A-D56EA52A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44AC-A798-4F33-9B86-201CA47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297-994C-40A2-BC8E-999FA641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D944-AD54-4BD6-820F-1199B8A8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81EE-133C-4CEC-A555-D42B7AF3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B932-FF32-4B30-9693-E4E45D4B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40B9-3BAB-4129-8DA7-B12DEFB2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1E68-E35E-45AB-BAD7-FE2EEDDE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F88-E358-4384-818D-F3F0EA0E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311-E4D1-49E6-948A-F22245D5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950-15D4-4750-9052-7893DDFD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5F1-572C-4E96-A85C-41F46AFE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6C7-2901-4DFB-A455-A4252274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F49-D217-4630-A88F-2F91B99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887-F074-42D0-B9E0-81E5CD8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FDA6-A3D0-4467-847F-322C5B0FFC0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FEFE-4C07-4F12-A533-CA09A07AC33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427640" y="1844640"/>
            <a:ext cx="4464000" cy="4105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ري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وا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hicle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ن طريق الف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و موضعيا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ور مبعثَ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ed Phase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ور مبعثِ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ng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أو وسط التبعث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on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معلق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مستحلب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ضبوب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هلام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صيدلانية المبعثرة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br>
              <a:rPr sz="32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دكتور أنطون اللح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79280" y="1844640"/>
            <a:ext cx="4032360" cy="4105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بعثرات غرو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Disp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بعثرات خش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arse Disp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نُظم غير ثابت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stab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عادة التوز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Re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تحري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003640" y="2492280"/>
            <a:ext cx="3746520" cy="1441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مواد الكربوهيدراتي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Carbohyd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صمغ العرب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caci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مغ الكثيراء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ragacan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آغارِ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gar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البكتي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c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443640" y="1844640"/>
            <a:ext cx="2449440" cy="703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58920" y="4149720"/>
            <a:ext cx="7200720" cy="259236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أغوال بوزن جزيئي مرتف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igh-molecular-weight alcoh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حول الستيريلي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yln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حول السيتيلي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etyl alcohol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ونوستيارات الغليسيرو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lyceryl monostearate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كوتينا)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.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ونوستيارات البروبيلين غليكو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opylene glycol monostearat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.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ونولورات البروبيلين غليكو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opylene glycol monolaurat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.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ونوستيارات الدي اثيلين غليكو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iethylene glycol monostearat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.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دي ستيارات اثيلين غليكو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thylene glycol distearate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.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900000" y="2492280"/>
            <a:ext cx="3746520" cy="1441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واد بروتيني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rotein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ati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فار البيض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gg yo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ازئين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se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826920" y="1844640"/>
            <a:ext cx="5329440" cy="432000"/>
          </a:xfrm>
          <a:prstGeom prst="wedgeRoundRectCallout">
            <a:avLst>
              <a:gd name="adj1" fmla="val 25009"/>
              <a:gd name="adj2" fmla="val 91175"/>
              <a:gd name="adj3" fmla="val 16667"/>
            </a:avLst>
          </a:prstGeom>
          <a:solidFill>
            <a:srgbClr val="ffffa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عوامل الاستحلا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sify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771640" y="2349360"/>
            <a:ext cx="3672000" cy="460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وامل مبلل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Wett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11280" y="11592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443640" y="1655640"/>
            <a:ext cx="2449440" cy="703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826920" y="1655640"/>
            <a:ext cx="5329440" cy="432000"/>
          </a:xfrm>
          <a:prstGeom prst="wedgeRoundRectCallout">
            <a:avLst>
              <a:gd name="adj1" fmla="val 25009"/>
              <a:gd name="adj2" fmla="val 91175"/>
              <a:gd name="adj3" fmla="val 16667"/>
            </a:avLst>
          </a:prstGeom>
          <a:solidFill>
            <a:srgbClr val="ffffa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عوامل الاستحلا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sify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5796000" y="2997360"/>
            <a:ext cx="2952720" cy="2808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صوابين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So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أحادية التكافؤ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monovalent</a:t>
            </a:r>
            <a:r>
              <a:rPr b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(ز/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dium ole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1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tassium ole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2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تعددة التكافؤ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olyvalent</a:t>
            </a:r>
            <a:r>
              <a:rPr b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(م/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lcium olea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ضوية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organic</a:t>
            </a:r>
            <a:r>
              <a:rPr b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(ز/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riethanolamine oleate    12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dium lauryl sulfate       4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466560" y="2997360"/>
            <a:ext cx="2953080" cy="1439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- سيتريميد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Cetrim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- السيتافلون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Cetav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كلوريد البنزلكوني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enzalkonium chlo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 rot="10800000">
            <a:off x="3419640" y="2923920"/>
            <a:ext cx="2304720" cy="28098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714920" y="3456000"/>
            <a:ext cx="936720" cy="549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41"/>
                </a:solidFill>
                <a:latin typeface="Times New Roman"/>
                <a:cs typeface="Times New Roman"/>
              </a:rPr>
              <a:t>أنيو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ff4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41"/>
                </a:solidFill>
                <a:latin typeface="Times New Roman"/>
                <a:ea typeface="Times New Roman"/>
              </a:rPr>
              <a:t>Ani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3492360" y="3456000"/>
            <a:ext cx="936720" cy="549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اتيو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ti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3"/>
          <p:cNvSpPr/>
          <p:nvPr/>
        </p:nvSpPr>
        <p:spPr>
          <a:xfrm>
            <a:off x="5292720" y="2995560"/>
            <a:ext cx="360360" cy="358920"/>
          </a:xfrm>
          <a:prstGeom prst="ellipse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 baseline="30000">
                <a:solidFill>
                  <a:srgbClr val="00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4"/>
          <p:cNvSpPr/>
          <p:nvPr/>
        </p:nvSpPr>
        <p:spPr>
          <a:xfrm>
            <a:off x="3492360" y="2995560"/>
            <a:ext cx="360360" cy="358920"/>
          </a:xfrm>
          <a:prstGeom prst="ellipse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 baseline="2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3962520" y="5784840"/>
            <a:ext cx="1224000" cy="823320"/>
          </a:xfrm>
          <a:prstGeom prst="rect">
            <a:avLst/>
          </a:prstGeom>
          <a:solidFill>
            <a:srgbClr val="ffffa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Arial"/>
              </a:rPr>
              <a:t>عديمة الشحنة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ni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7"/>
          <p:cNvSpPr/>
          <p:nvPr/>
        </p:nvSpPr>
        <p:spPr>
          <a:xfrm>
            <a:off x="4394160" y="5300640"/>
            <a:ext cx="360360" cy="358920"/>
          </a:xfrm>
          <a:prstGeom prst="ellipse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2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0"/>
          <p:cNvSpPr/>
          <p:nvPr/>
        </p:nvSpPr>
        <p:spPr>
          <a:xfrm>
            <a:off x="6588000" y="6021360"/>
            <a:ext cx="1224000" cy="274680"/>
          </a:xfrm>
          <a:prstGeom prst="rect">
            <a:avLst/>
          </a:prstGeom>
          <a:solidFill>
            <a:srgbClr val="ffffa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 = &gt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2"/>
          <p:cNvSpPr/>
          <p:nvPr/>
        </p:nvSpPr>
        <p:spPr>
          <a:xfrm>
            <a:off x="1258920" y="4653000"/>
            <a:ext cx="1224000" cy="274680"/>
          </a:xfrm>
          <a:prstGeom prst="rect">
            <a:avLst/>
          </a:prstGeom>
          <a:solidFill>
            <a:srgbClr val="ffffa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 = 3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2556000" y="5877000"/>
            <a:ext cx="1224000" cy="274680"/>
          </a:xfrm>
          <a:prstGeom prst="rect">
            <a:avLst/>
          </a:prstGeom>
          <a:solidFill>
            <a:srgbClr val="ffffa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 = 3 -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692360" y="2349360"/>
            <a:ext cx="5975280" cy="460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وامل مبلل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Wetting agents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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ديمة الشحن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Non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11280" y="11592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443640" y="1655640"/>
            <a:ext cx="2449440" cy="703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826920" y="1655640"/>
            <a:ext cx="5329440" cy="432000"/>
          </a:xfrm>
          <a:prstGeom prst="wedgeRoundRectCallout">
            <a:avLst>
              <a:gd name="adj1" fmla="val 25009"/>
              <a:gd name="adj2" fmla="val 91175"/>
              <a:gd name="adj3" fmla="val 16667"/>
            </a:avLst>
          </a:prstGeom>
          <a:solidFill>
            <a:srgbClr val="ffffa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عوامل الاستحلا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sify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713120" y="2952720"/>
            <a:ext cx="4251600" cy="2232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مركبات السوربيتان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Sorbitan Com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trioleate (Span 85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monooleate (Span 8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tristearae (Span 65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monostearae (Span 6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monopalmitate (Span 4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rbitan monolaurate (Span 2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214200" y="2952720"/>
            <a:ext cx="4357800" cy="2232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مركبات السوربيتان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Sorbitan Compounds</a:t>
            </a:r>
            <a:r>
              <a:rPr b="1" lang="ar-SY" sz="16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r>
              <a:rPr b="1" i="1" lang="ar-SY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+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trioleate (Tween 85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monooleate (Tween 8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tristearae (Tween 65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monostearae (Tween 6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monopalmitate (Tween 40)15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E Sorbitan monolaurate (Tween 2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6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851280" y="5300640"/>
            <a:ext cx="5114880" cy="13413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غار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Lauric acid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2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كربون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نخل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almitic acid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4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كربون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شحم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ic acid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8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كربون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زيت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leic acid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8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كربون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=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443640" y="1844640"/>
            <a:ext cx="2449440" cy="703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826920" y="1844640"/>
            <a:ext cx="5329440" cy="432000"/>
          </a:xfrm>
          <a:prstGeom prst="wedgeRoundRectCallout">
            <a:avLst>
              <a:gd name="adj1" fmla="val 25009"/>
              <a:gd name="adj2" fmla="val 91175"/>
              <a:gd name="adj3" fmla="val 16667"/>
            </a:avLst>
          </a:prstGeom>
          <a:solidFill>
            <a:srgbClr val="ffffa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عوامل الاستحلا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sify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4716360" y="3933720"/>
            <a:ext cx="4251600" cy="2232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سترات الأحماض الدسمة مع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oxyethylene</a:t>
            </a: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oxyethylene monostearae (Myrj 45)   1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oxyethylene monostearae (Myrj 52)   16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oxyethylene monostearae (Myrj 53)   17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14200" y="3141720"/>
            <a:ext cx="4357800" cy="3311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تيرات الأغوال الدسم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مع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oxyethylene</a:t>
            </a: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4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Lauryl ether (Brij 3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Lauryl ether (Brij 35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6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etyl ether (Brij 52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1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etyl ether (Brij 56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etyl ether (Brij 58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5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yl ether (Brij 72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1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yl ether (Brij 76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2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yl ether (Brij 78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10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earyl ether (Brij 700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leyl ether (Brij 92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1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leyl ether (Brij 96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2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Times New Roman"/>
                <a:ea typeface="Simplified Arabic"/>
              </a:rPr>
              <a:t>POE = 2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leyl ether (Brij 98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1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1619280" y="2565360"/>
            <a:ext cx="6048360" cy="460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ابع /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وامل مبلل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Wetting agents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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عديمة الشحن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Non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 flipV="1">
            <a:off x="5076720" y="3141000"/>
            <a:ext cx="1727280" cy="71892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443640" y="1844640"/>
            <a:ext cx="2449440" cy="703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826920" y="1844640"/>
            <a:ext cx="5329440" cy="432000"/>
          </a:xfrm>
          <a:prstGeom prst="wedgeRoundRectCallout">
            <a:avLst>
              <a:gd name="adj1" fmla="val 48185"/>
              <a:gd name="adj2" fmla="val 104412"/>
              <a:gd name="adj3" fmla="val 16667"/>
            </a:avLst>
          </a:prstGeom>
          <a:solidFill>
            <a:srgbClr val="ffffa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عوامل الاستحلا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sify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716360" y="3141720"/>
            <a:ext cx="4178520" cy="115092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بنتونيت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Bento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هيدروكسيد الألمنيوم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Aluminum 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هيدروكسيد المغنيزيوم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Magnesium 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4716360" y="2565360"/>
            <a:ext cx="4175280" cy="460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غضاريات الغروان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c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392040" y="2565360"/>
            <a:ext cx="4251240" cy="38163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ادة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LB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ز/م)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LB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م/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شحم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7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ول الشحم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انولين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5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مع عسلي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زيت الفول السوداني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زيت القطن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زيوت نباتية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زيوت معدنية ثقيلة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.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زيوت معدنية خفيفة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ارافين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395280" y="292428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3059280" y="256536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1692360" y="256536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435640" y="1820880"/>
            <a:ext cx="345744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ريم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435640" y="2852640"/>
            <a:ext cx="3456000" cy="115272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تطلبات الدستورية للكري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endial Requirem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or C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5435640" y="4146480"/>
            <a:ext cx="3459240" cy="23781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محتوى المكروبي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Microbia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ملئ الأدنى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Minimum 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تعبئة، التخزين، والعنو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r>
              <a:rPr b="1" lang="en-US" sz="17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ackaging, Storage, and Labe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لزوجة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Visc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درجة الباهاء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إطلاق الدواء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Drug-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0" descr=""/>
          <p:cNvPicPr/>
          <p:nvPr/>
        </p:nvPicPr>
        <p:blipFill>
          <a:blip r:embed="rId1"/>
          <a:stretch/>
        </p:blipFill>
        <p:spPr>
          <a:xfrm>
            <a:off x="250920" y="1863720"/>
            <a:ext cx="4968720" cy="46609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257" name="Text Box 11"/>
          <p:cNvSpPr/>
          <p:nvPr/>
        </p:nvSpPr>
        <p:spPr>
          <a:xfrm>
            <a:off x="5435640" y="2421000"/>
            <a:ext cx="3457440" cy="612360"/>
          </a:xfrm>
          <a:prstGeom prst="rect">
            <a:avLst/>
          </a:prstGeom>
          <a:solidFill>
            <a:srgbClr val="d8d8e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ريمات المتلاشية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Vanishing cre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755640" y="1844640"/>
            <a:ext cx="3960720" cy="7905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صنيف وأنماط الهلا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lassification and Types of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859280" y="1773360"/>
            <a:ext cx="3889440" cy="121212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بعثرات الغرواني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Disp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24000" y="2924280"/>
            <a:ext cx="8496000" cy="367344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lass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صنف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scription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وصف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xamples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مثل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Simplified Arabic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organi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ظم ثنائية الطور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luminum hydroxide ge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7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لا عضوية</a:t>
            </a:r>
            <a:r>
              <a:rPr b="1" lang="ar-SY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  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	</a:t>
            </a:r>
            <a:r>
              <a:rPr b="0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Two-phase system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entonite mag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rgani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ظم أحادية الطور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rbopol (Carbopol) 910, 934, 934 P, 940, 13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7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عضوية</a:t>
            </a:r>
            <a:r>
              <a:rPr b="0" lang="ar-SY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  </a:t>
            </a:r>
            <a:r>
              <a:rPr b="1" lang="ar-SY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 </a:t>
            </a:r>
            <a:r>
              <a:rPr b="0" lang="en-US" sz="16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Single-phase system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ragaca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ydrogel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امات مائية عضو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ctin paste, Tragacanth je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0" lang="ar-SY" sz="17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هلامات مائ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موغ طبيعية واصطناع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ethycellulose, sodium CMC, Pluro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امات مائية لا عضو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entonite gel (10-25%), Veegum, Si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rganogel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نمط الهيدروكربوني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trolatum, mineral oil/polyethylene g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7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هلامات عضو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دهون حيوانية / نباتي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Lard, cocoa bu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شحوم بأساس صابوني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luminum stearate with heavy mineral oil 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لامات عضوية محبة للماء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bowax bases (PEG oint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369720" y="3213000"/>
            <a:ext cx="842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361800" y="3835440"/>
            <a:ext cx="842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357120" y="4444920"/>
            <a:ext cx="842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349200" y="5373720"/>
            <a:ext cx="842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755640" y="1844640"/>
            <a:ext cx="3960720" cy="7905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صنيف وأنماط الهلا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lassification and Types of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859280" y="1773360"/>
            <a:ext cx="3889440" cy="121212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بعثرات الغرواني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Disp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24000" y="2924280"/>
            <a:ext cx="8496000" cy="367344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أمثلة لعوامل مهلمة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Examples of Gell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صمغ العرب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cacia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مض الألجينيك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lginic acid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 – 5%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00 – 30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بنتونيت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entonit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%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9.5 – 1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اربومير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rbimer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0.5%  - 1%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2.5 - 3.5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رواق ولزوجة بـ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7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←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اربوكسي ميث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rboxymethylcellulos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 – 6%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ثبات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–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توافق مع الكحو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اربوكسي ميثيل سلولوز الصود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rboxymethylcellulose sodium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ثبات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–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حول السيتوستيريل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etostearyl alcohol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ثاني أكسيد السيليكون الغروان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silicon dioxid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يث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thylcellulos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755640" y="1844640"/>
            <a:ext cx="3960720" cy="7905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صنيف وأنماط الهلا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lassification and Types of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859280" y="1773360"/>
            <a:ext cx="3889440" cy="121212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بعثرات الغرواني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Disp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324000" y="2924280"/>
            <a:ext cx="8496000" cy="367344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أمثلة لعوامل مهلمة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Examples of Gell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a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مغ الغوار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uar g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دروكسي ايث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ydroxyethyl cellu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دروكسي بروب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ydroxypropyl cellu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دروكسي بروبيل ميث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ydroxypropylmethylcellos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PMC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سليكات المغنيزيوم والألمنيو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gnesium aluminum silicat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الفيغ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Veegum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%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التودكسترين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ltodext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يثيل سلولو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ethylcellos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حول البولي فينيل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vinyl alcoh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755640" y="1844640"/>
            <a:ext cx="3960720" cy="7905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صنيف وأنماط الهلا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lassification and Types of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859280" y="1773360"/>
            <a:ext cx="3889440" cy="121212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هلام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بعثرات الغرواني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Disp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24000" y="2924280"/>
            <a:ext cx="8496000" cy="367344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660066"/>
                </a:solidFill>
                <a:latin typeface="Times New Roman"/>
                <a:cs typeface="Simplified Arabic"/>
              </a:rPr>
              <a:t>أمثلة لعوامل مهلمة 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  <a:ea typeface="Simplified Arabic"/>
              </a:rPr>
              <a:t>Examples of Gell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بولوكسامير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oxamer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أو البلورونيك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luronic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24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8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37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38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و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07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حول البولي فينيلي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vinyl alcohol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VA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   2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بوفيدون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vidon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ربونات البروبيلين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opylene carbo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لجينات البروبيلين غليكول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opylene glycol alg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لجينات الصوديو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dium alginat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%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4 -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ليكولات نشا الصوديو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dium starch glycolate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نشاء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arc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مغ الكثيراء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ragacant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H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4 -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صمغ الكزانتان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xanthan g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219640" y="2635200"/>
            <a:ext cx="3600360" cy="2881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عري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عوامل معلق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d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عوامل مبعثر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واد حافظ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اء مقط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ll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صرف الدواء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n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908000" y="1916280"/>
            <a:ext cx="460872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ق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539640" y="2637000"/>
            <a:ext cx="4176720" cy="2879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سباب تحضير المعلق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 for susp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خصائص المرغوبة في المعلق الصيدلا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ures Desired in a Pharmaceutical 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رعة ترسب الأجزاء في المعلق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imentation Rate of the Particles of a Susp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1547640" y="5661000"/>
            <a:ext cx="3456000" cy="954360"/>
          </a:xfrm>
          <a:prstGeom prst="rect">
            <a:avLst/>
          </a:prstGeom>
          <a:solidFill>
            <a:srgbClr val="d8d8e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P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P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ar-SY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7"/>
          <p:cNvSpPr/>
          <p:nvPr/>
        </p:nvSpPr>
        <p:spPr>
          <a:xfrm>
            <a:off x="2268360" y="61437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8"/>
          <p:cNvSpPr/>
          <p:nvPr/>
        </p:nvSpPr>
        <p:spPr>
          <a:xfrm>
            <a:off x="5005440" y="5734080"/>
            <a:ext cx="3527280" cy="719280"/>
          </a:xfrm>
          <a:prstGeom prst="leftArrow">
            <a:avLst>
              <a:gd name="adj1" fmla="val 50000"/>
              <a:gd name="adj2" fmla="val 12259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ff0000"/>
                </a:solidFill>
                <a:latin typeface="Arial"/>
              </a:rPr>
              <a:t>علاقة ستوكس</a:t>
            </a:r>
            <a:r>
              <a:rPr b="1" lang="ar-SY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okes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918036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9640" y="2635200"/>
            <a:ext cx="8280360" cy="9381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خصائص الفيزيائية للطور المبعثر في المعلق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Factures of the Dispersed phase of  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908000" y="1916280"/>
            <a:ext cx="460872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ق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39640" y="3789360"/>
            <a:ext cx="8280360" cy="1224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أبعاد الأجزاء المبعثر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 of the Dispersed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* كتلة متراص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ke compact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       * تجم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* تند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cculation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        * عامل مند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cculating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219640" y="5157720"/>
            <a:ext cx="3600360" cy="1923480"/>
          </a:xfrm>
          <a:prstGeom prst="rect">
            <a:avLst/>
          </a:prstGeom>
          <a:solidFill>
            <a:srgbClr val="ffffa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جينة البنتوني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entonite mag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هار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lectrol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واد الفعالة سطحيا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urf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كاثي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95280" y="5464080"/>
            <a:ext cx="4681440" cy="1008720"/>
          </a:xfrm>
          <a:prstGeom prst="rect">
            <a:avLst/>
          </a:prstGeom>
          <a:solidFill>
            <a:srgbClr val="ffffa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سط التبعث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ispersion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عوامل المعلقة – التوافر الحيو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io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547640" y="2708280"/>
            <a:ext cx="5543640" cy="25210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وائل نيوتونية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ton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وائل لا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وتونية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Newton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غير القوام بالرج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xotr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908000" y="1916280"/>
            <a:ext cx="460872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لم الجريان (الانسيابية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Rhe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68360" y="2565360"/>
            <a:ext cx="8207280" cy="273672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وامل مرطب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t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وائل مرطب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grosc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جانس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واد حافظ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ركيب الآني للمعلق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mporaneous Compounding Susp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بات الدواء في سواغ سائ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ty of the drug in the liquid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تركيبات الآن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mporaneous formul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58920" y="1916280"/>
            <a:ext cx="597708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حضير المعلق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eparation of 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5516640"/>
            <a:ext cx="8207280" cy="863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تعبئة المعلقات وحفظها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ackaging and Storage of Susp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المساحيق الجافة لتحضير المعلقات الفموية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Dry Powders for oral Susp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924360" y="2349360"/>
            <a:ext cx="4824360" cy="1656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 تعري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طور مبعثَر أو طور داخل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ternal Pha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وسط التبعثر أو طور خارج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xternal Phase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أو طور مستمر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ntinuou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 العامل الاستحلاب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fying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835280" y="1773360"/>
            <a:ext cx="48243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39640" y="4797360"/>
            <a:ext cx="8207640" cy="18003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*</a:t>
            </a:r>
            <a:r>
              <a:rPr b="1" lang="ar-SY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نظرية التوتر السطحي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Surface-Tension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* نظرية الوتد الموَّجه (توجه جزيئات العامل الاستحلابي في سطح الفصل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Oriented-Wedge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* نظرية الفلم اللدن أو في سطح الفصل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Plastic or Interfacial Film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539640" y="2565360"/>
            <a:ext cx="3240360" cy="1440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ater- loving = Hydrophi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حب للشحم أو محب للز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Lipophilic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il-l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203640" y="4149720"/>
            <a:ext cx="5543640" cy="5032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*</a:t>
            </a:r>
            <a:r>
              <a:rPr b="1" lang="ar-SY" sz="22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 نظريات الاستحلاب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Theories of Emuls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258920" y="2565360"/>
            <a:ext cx="6192720" cy="115092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عوامل الاستحلابية ونظام التوازن المائي الزيتي (ت م 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ydrophile – Lipophile Balance (HL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835280" y="1916280"/>
            <a:ext cx="48243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755640" y="4221000"/>
            <a:ext cx="7488360" cy="165600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cc00"/>
                </a:solidFill>
                <a:latin typeface="Times New Roman"/>
                <a:cs typeface="Simplified Arabic"/>
              </a:rPr>
              <a:t>طرق تحضير المستحلبات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Simplified Arabic"/>
              </a:rPr>
              <a:t>Methods of Emulsions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طريقة الصمغ الجا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ry Gum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طريقة الصمغ الرط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et Gum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طريقة القارور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ottl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547640" y="2565360"/>
            <a:ext cx="5977080" cy="647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المكروية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icroemul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050920" y="1844640"/>
            <a:ext cx="46818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042920" y="3645000"/>
            <a:ext cx="6769080" cy="100800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ثبات المستحلب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tability of Em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كدس والالتحا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ggregation and Coal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755640" y="5157720"/>
            <a:ext cx="7488360" cy="50472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مثلة للمستحلبات الفموي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xamples of Oral Em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547640" y="2492280"/>
            <a:ext cx="5977080" cy="5050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عوامل الاستحلابي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fying Agents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ُظُم المبعثرة الصيدلاني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maceutical Disper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050920" y="1844640"/>
            <a:ext cx="46818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حلبا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716360" y="3500280"/>
            <a:ext cx="4103640" cy="266400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مواد كربوهيدرات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arbohyd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مواد بروتين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otein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أغوال بوزن جزيئي مرتف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igh-molecular-weight alcoh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عوامل مبلل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etting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لمواد الصلبة كالغضاريات الغروان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lloidal c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68360" y="3213000"/>
            <a:ext cx="4103640" cy="3095640"/>
          </a:xfrm>
          <a:prstGeom prst="rect">
            <a:avLst/>
          </a:prstGeom>
          <a:solidFill>
            <a:srgbClr val="ffffaf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 </a:t>
            </a:r>
            <a:r>
              <a:rPr b="1" lang="ar-SY" sz="2000" spc="-1" strike="noStrike" u="sng">
                <a:solidFill>
                  <a:srgbClr val="000066"/>
                </a:solidFill>
                <a:uFillTx/>
                <a:latin typeface="Times New Roman"/>
                <a:cs typeface="Simplified Arabic"/>
              </a:rPr>
              <a:t>الفعالية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	</a:t>
            </a:r>
            <a:r>
              <a:rPr b="1" lang="ar-SY" sz="20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	</a:t>
            </a:r>
            <a:r>
              <a:rPr b="1" lang="ar-SY" sz="2000" spc="-1" strike="noStrike" u="sng">
                <a:solidFill>
                  <a:srgbClr val="000066"/>
                </a:solidFill>
                <a:uFillTx/>
                <a:latin typeface="Times New Roman"/>
                <a:cs typeface="Simplified Arabic"/>
              </a:rPr>
              <a:t>قيم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Simplified Arabic"/>
              </a:rPr>
              <a:t>H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ضاد رغوة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ntifoaming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وامل استحلابية (م/ز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fiers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/O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وامل مبللة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Wetting agents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7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وامل استحلابية (ز/م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8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Emulsifiers      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O/W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عوامل مساعدة على الانحلال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5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olubilizer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*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نظفات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tergents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3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إلى </a:t>
            </a:r>
            <a:r>
              <a:rPr b="1" lang="ar-SY" sz="1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2T08:45:30Z</dcterms:created>
  <dc:creator>.</dc:creator>
  <dc:description/>
  <dc:language>en-US</dc:language>
  <cp:lastModifiedBy>hp</cp:lastModifiedBy>
  <dcterms:modified xsi:type="dcterms:W3CDTF">2008-10-07T11:08:28Z</dcterms:modified>
  <cp:revision>57</cp:revision>
  <dc:subject/>
  <dc:title>الشريحة 1</dc:title>
</cp:coreProperties>
</file>