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4A3-4247-496C-AAD4-93373B9A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046-F655-4ADF-BFF7-BE9C44F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2F0-0AB9-4CCE-9F03-1D84BB12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29D-288F-49C5-8A78-CA17301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406-C529-4CFD-A339-D4B9985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AD1-D9F4-4D22-A90E-EAFDB5F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033-496D-4F9C-8D66-D19D0AD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849-A85C-402C-B2F9-9FD31550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5BC-0133-4DB3-B0C7-E3F4AE6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6BD-46EE-4B01-A277-7AF6C29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9D4-A031-40C7-A1E0-5E689D4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8F3-7131-4E00-BB18-845819A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DD599-1957-40E2-87A2-F26F365501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89F53-7B88-4B85-81CB-43809991BAC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11:00Z</dcterms:created>
  <dc:creator>최봉수</dc:creator>
  <dc:description/>
  <dc:language>en-US</dc:language>
  <cp:lastModifiedBy>맛있다 군만두</cp:lastModifiedBy>
  <dcterms:modified xsi:type="dcterms:W3CDTF">2024-09-24T07:55:13Z</dcterms:modified>
  <cp:revision>4</cp:revision>
  <dc:subject/>
  <dc:title>슬라이드 1</dc:title>
</cp:coreProperties>
</file>