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167-0A7D-415D-8838-ED20C67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909-7733-4F60-8062-BA9021D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37A-1F51-4298-91BC-CA3576FA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682-AF6C-47DC-AB1D-925FD5E9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E6F-9C24-436E-86C1-8684899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DC4-E59D-4D76-9F2F-C3DCB87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D35-657C-418C-B3B2-E767855D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E49-74DC-47E5-B99C-922658E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1F2-A2D3-4CFE-917B-235B854D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63D-7913-4852-A8A0-2061E84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1F6-08E7-4C33-8E2F-40614F9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3EB-6C43-4E6F-91BE-26308DCA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ED0B0-4BC9-48F4-9A0E-ECC5CE37E9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EEE39-63D3-457A-B0B1-A432F7DF076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11:00Z</dcterms:created>
  <dc:creator>최봉수</dc:creator>
  <dc:description/>
  <dc:language>en-US</dc:language>
  <cp:lastModifiedBy>맛있다 군만두</cp:lastModifiedBy>
  <dcterms:modified xsi:type="dcterms:W3CDTF">2024-09-24T07:55:13Z</dcterms:modified>
  <cp:revision>4</cp:revision>
  <dc:subject/>
  <dc:title>슬라이드 1</dc:title>
</cp:coreProperties>
</file>