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</p:sldIdLst>
  <p:sldSz cx="9144000" cy="6858000"/>
  <p:notesSz cx="7099300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930-E501-43D7-9F5D-EB34794E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FF0-CABF-420F-9AA3-810375D4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E83-C040-41F9-8B95-1614B421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5BB-354C-4524-A6FD-3F708FA6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25E1-BE1F-4730-8C47-2D8832B9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1BB9-577E-4D41-B969-8A87C901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3D85-32D7-4C1A-87AB-A80B3D6E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EE76-46F1-43ED-BBD9-3DBD1E80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BEBF-C129-4CEE-AE67-AC53F2D1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D8FF-5BEE-4812-BF30-374D78F6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8671-1C77-4497-909B-E47CFB0E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896-2D88-4E84-A1D1-E3122994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62F2-8215-47F1-8E91-C7B35D8E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F6C7-2C87-40CE-870F-9CF75BF2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2EB8-0F12-44DE-9521-D6C5E226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5974-F434-486D-A4E4-7D6E645F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D2F7-2700-4780-9F82-757AED1E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EC38-9395-474A-AC1F-C4771AD2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A7B3F-96A9-4995-BFBF-95086C1F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4591-CEBA-41B4-B8DB-78C01A8E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BCAFE-356B-4082-AC46-35E0A938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4E78-DF7F-46F5-8C3F-E04584AA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EB7-6B9C-4EE9-A0D5-1563E72C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6400-5F34-4BE9-947B-F0BBC866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FE8B2-CCB5-41F4-9BC5-C4AFC6DB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03455-DB56-42CE-B1B6-E2941965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F1A44-9E0C-45F4-9610-70E5DFCF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7C7A6-7C10-49AF-90E4-39C8312B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8A21-1098-43C4-A8FA-1DB4F65E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49113-9EC1-425E-B328-6A4BEA1A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AE102-1E57-4A51-A247-A3C9B3EF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226F1-DAB3-4D5E-85EB-04019346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5ED37-2E6F-47EF-83C3-B5A13358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588-AF0D-43CD-8D00-2CC1DD5D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5BC7F-7008-4E4C-ADA5-E21CAF5B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636D7-354E-41B1-A673-C5BA0AE6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DA255-C6C6-4A9A-B371-9ADFDC1B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4AFC1-33EC-435B-AA3F-14BD03F3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890F-36E4-4B98-A598-6B4D9493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DBC26-0EE4-4A3D-A9D9-8051DF6F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2BC3A-70F3-44F5-AD23-88D2A4D1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7FE7B-DCD5-4DA1-AD42-1D11E903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D9B4E-2608-4B0C-A869-2A809D28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ECEAA-0DD8-465F-8CFA-03FFE5C6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F1C6-3288-4AB5-8D31-21DECD1C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A3C4A-F577-48F4-AF46-0803AD20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ACA80-0B27-4CF9-9984-507DEA93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849B2-7F45-4FCD-8DBE-604A8EF1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E6DAB-C20D-4230-9148-7AB23F13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C630D-E25C-44FC-8DBE-3496D9F7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AFD5A-572C-45BE-81E9-58B8FE03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55E9E-C98A-4949-85B7-6913AC21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971FB-1D9C-4AAF-A66A-94FE7C0B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1C9E7-7802-4365-833E-42272215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8D83A-DD41-400F-8FEA-902843B9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B52-1A32-46A0-AC14-64EA9DDF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1164F-32D1-4997-8F05-1FC68587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9B5-C177-455F-9DC0-604B337F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16A-DEEB-4694-A809-52E1C7D0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6D7-6BC2-4D14-9138-91E706C4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618B-BAAF-4B1C-A2C8-85DB691E2D5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7E2A-3BB6-43E7-A045-61D16449244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292D-999D-4E4B-A254-EA7C949BF68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2C38-3D26-405C-A351-8238594D517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8C65-0493-4CEE-A234-CFFBC5354F1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d3e"/>
                </a:solidFill>
                <a:latin typeface="Verdana"/>
              </a:rPr>
              <a:t>Benign Breast Diseases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5181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epartment of Obstetrics and Gynec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FEU-NRMF Institute of Medici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any lobes are in one breas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4-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8-1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12-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 25-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any lobes are in one breas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4-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8-1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.12-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 25-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are accessory glands in the periphery of the areol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are accessory glands in the periphery of the areol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lands of Montgome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are fibrous septa that support the breast and extends from the skin to the pectoralis fascia. They cause skin retraction upon malignant infiltr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are fibrous septa that support the breast and extends from the skin to the pectoralis fascia. They cause skin retraction upon malignant infiltr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oper’s liga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jority of breast lymphatics drain into nodes in the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 axil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 mediastin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 contralateral brea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 pectoralis mus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jority of breast lymphatics drain into nodes in the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. axil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 mediastin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 contralateral brea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 pectoralis mus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reast is sensitive to hormonal changes in the menstrual cycle. This statement is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 Tr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 Fal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reast is sensitive to hormonal changes in the menstrual cycle. This statement is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. Tr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 Fal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8d3e"/>
                </a:solidFill>
                <a:latin typeface="Verdana"/>
              </a:rPr>
              <a:t>Review of Breast Anatomy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ich of the following cause/s premenstrual breast symptom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increased blood f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vascular engor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water reten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a and 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.ab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ich iof the following cause/s premenstrual breast symptom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increased blood f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vascular engor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water reten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a and 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E.ab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uctal parenchymal proliferation is seen in what phase of the menstrual cycl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. Follicul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. Lute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uctal parenchymal proliferation is seen in what phase of the menstrual cycl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. Follic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 Lute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latation of ducts and differentiation of alveolar to secretory cells occurs in what phase of the menstrual cycl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follic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lute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latation of ducts and differentiation of alveolar to secretory cells occurs in what phase of the menstrual cycl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follic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.lute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Assignment </a:t>
            </a:r>
            <a:br>
              <a:rPr sz="3200"/>
            </a:b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(Individual Instruction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D ON THE FOLLOWING COMMON ANOMALIES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.accessory breasts and nip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.polythelia, polymast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.breast asymmet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.virginal hypertrop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brocystic Chang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common benign breast dise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men in their 20’s to 50’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opausal rece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auses of Fibrocystic Chang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ggerated physiologic respon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rmonal imbal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prolact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Fibrocystic Change: Signs and Symptom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yclic bilateral breast pai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Classic sympt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gns- Increased engorgement and density, excessive nodularity, rapid changes in cystic sizes, tenderness, spontaneous nipple dischar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inent premenstrual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>
            <a:lum bright="-20000"/>
          </a:blip>
          <a:srcRect l="4392" t="6051" r="2632" b="9087"/>
          <a:stretch/>
        </p:blipFill>
        <p:spPr>
          <a:xfrm>
            <a:off x="533520" y="609480"/>
            <a:ext cx="80769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hysical Exam Finding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eful of peas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lpable lumpi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ter-filled ballo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tages of Fibrocystic Chang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stopl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eno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yst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*stages are clinically indistinct and overlap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Histopathology of Fibrocystic Chang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pithelial prolif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brous tissue prolif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stologic variants (cysts, adenosis, fibroplasias, duct ectasia, apocrine metaplasia, ductal epithelial hyperplasia,papillomatosi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uctal epithelial hyperplasia and atypia and apocrine metaplasi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Diagnostic Aids for Fibrocystic Chang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aging techni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e needle aspiration cytolo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stopathologic evaluation (core needle biopsy or excision biops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MAMMOGRAM(FIBROCYSTIC CHANGES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rcRect l="7495" t="0" r="0" b="0"/>
          <a:stretch/>
        </p:blipFill>
        <p:spPr>
          <a:xfrm>
            <a:off x="1676520" y="457200"/>
            <a:ext cx="563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rcRect l="0" t="909" r="1985" b="0"/>
          <a:stretch/>
        </p:blipFill>
        <p:spPr>
          <a:xfrm>
            <a:off x="457200" y="650880"/>
            <a:ext cx="80010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atment of Fibrocystic Chang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rt Brassie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etary modif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ure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al Contracep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naz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romocrip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moxif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nRH agon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Mastectom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broadenom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m, rubbery, mobile, sol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ten solitary, occasionally mult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olescents, 20’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true neoplasi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Clinical features of Fibroadenom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idental discoveri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inless, non-tender,  slow grow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ccasional rapid grow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fluctuate with the cy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cases may reg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Diagnostic Aids for Fibroadenoma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reast sonograp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mmography (may not be done  for &lt;35 years ol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e need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rgical exc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type of glands are the breast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 apocr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 sebaceo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 swe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 endocr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atment of Fibroadenom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rgical Exc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in those &lt;35: nonoperative approach possible upon meet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clinical parameter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establish the diagnosis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.clinical ex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.ultrasound, mammograp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.cytology (FNA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Chances for malignancy or recurrenc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rent in 2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ng term risk for cancer : 2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ystosarcoma Phyllod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re fibroepithelial tumor but are the MOST common breast sarco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nective tissue hypercellula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.5% of fibroepithelial tum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% of breast maligna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Clinical Features of Cystosarcoma Phyllode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th decade of lif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pid grow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meter of 5 cm at the time of det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Diagnostic Aids for Cystosarcoma Phyllode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ict histologic criteria poor in distinguishing benign and malignant fo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ow cytomet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atment of Cystosarcoma Phyllode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de exc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positive margins determine recurrenc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traductal Papillom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croscopic to 2-3m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al extension from areo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imenopa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Small, well-circumscribed polypoid nodules occur in a dilated duct. 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rcRect l="0" t="0" r="5433" b="0"/>
          <a:stretch/>
        </p:blipFill>
        <p:spPr>
          <a:xfrm>
            <a:off x="914400" y="762120"/>
            <a:ext cx="70102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Clinical Features of Intraductal Papillom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ontaneous and intermittent bloody nipple discharg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classical sympto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5% located beneath areo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fficult to palp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Diagnosis for Intraductal Papillom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ircumferential radial pres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solitary or multiple lobe sou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lactrograp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stopatholo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type of glands are the breast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 apocr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. sebaceo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 swe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 endocr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atment of Intraductal Papillom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cisional biops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Prognosis of Intraductal Papillom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ds to regress (menopaus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fold increase risk for carcino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at Necrosi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re but often misdiagnosed as maligna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uma rela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nical features of fat necrosi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m, tender, indurated, ill-defin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rrounding ecchymo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undergo liquefaction and become cyst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kin retr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AT NECROSI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78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iagnostic aids for fat necrosi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mmograp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atment of Fat Necrosi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cision Biops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Prognosis for malignancy of fat necrosi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related to breast carcino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Nipple Discharg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ent in benign and malignant ent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ductal source- more likely benig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DICALLY SIGNIFICAN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ontaneo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sist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-lactating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teral extension of the breast tissue into the axillary area is th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wo most common caus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raductal papillo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brocystic 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termination of malignanc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a prio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or does not differenti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lood- consider malignancy unless proven otherw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Determination of malignancy: Cytolog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but not diagnost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lse negatives of 2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gative results should not deter a biops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termination of malignanc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excisional mammograpn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cisional biops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teral extension of the breast tissue into the axillary area is th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xillary tail of Sp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kinds of tissues comprise the breas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 gland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 fat and connective tiss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 smooth mus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ab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.a and 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kinds of tissues comprise the breas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 gland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 fat and connective tiss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 smooth mus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ab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E.a and 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1:40:50Z</dcterms:created>
  <dc:creator>Dr. Jessica  Cruz</dc:creator>
  <dc:description/>
  <dc:language>en-US</dc:language>
  <cp:lastModifiedBy>joseph c. nash</cp:lastModifiedBy>
  <dcterms:modified xsi:type="dcterms:W3CDTF">2012-05-15T07:14:21Z</dcterms:modified>
  <cp:revision>15</cp:revision>
  <dc:subject/>
  <dc:title>Benign Breast Diseases</dc:title>
</cp:coreProperties>
</file>