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</p:sldIdLst>
  <p:sldSz cx="9144000" cy="6858000"/>
  <p:notesSz cx="7099300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777-BD8A-4073-89B6-6EC43B52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BC9-1907-489D-9731-009D7C13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2AB-E967-4F4F-BA13-220E60E6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560-D37E-4B0C-9584-8A976666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51B1-90AC-4A63-BD4F-22D96520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4556-D69D-4FC8-92C7-D53D4192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3BE0-84A3-41D3-8F80-3DF99116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31D4-3C99-4109-B64D-36808D6D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BFCC-8A2C-436B-A003-9DC8B229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431B-1DAA-4FC7-B0B8-9CB62F78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0F87-2EBA-4E95-B54F-8858F6EA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9B2-4323-4B10-B181-7151CA95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4F1B-F1B0-4A64-BAF3-4A4B40A5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849A-EDC2-4E95-BD1F-5464013F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1DAD-F24D-4086-BDC9-36368BF7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EF03-8C41-47C3-B82D-F31FB8D8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F726-1C4B-4614-ABA4-FA3B2575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3517-D519-47E6-A3E9-B2291818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7451F-0DAE-4969-A9F5-54DACD11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7E2C2-BE27-468A-ABB3-FA99199A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F9FC5-2DAB-4BAC-9766-EEF51B1B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6AE55-E88A-4F35-A19C-AA0AD489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EF4-C259-4810-A6DC-075346D1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AB05-DA17-40F4-9AF9-C9AA151A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EC171-2296-4CEA-A9EC-8F2FD880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E24BD-F73A-41F6-9208-AF843882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CC065-B406-463B-BF71-45E5006B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1E847-01DE-4673-928F-BF6781B3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08959-A669-446F-9F1F-6EA545F1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76632-A009-4DBE-986E-2B74EBF2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AC5D1-0E4D-4901-891C-04CBD0E8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CC922-132E-479F-98A9-798DDAE7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DE31B-A426-4FD7-BD9C-842ACC87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F03-A7F9-42EB-926D-E686F383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210A9-528F-4050-9655-D98533FD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E223E-E4B0-460D-B983-EBE63D6B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5B735-87EB-4F51-9F48-86928F7A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57ED5-3B03-4C28-9A4F-9C98AE3A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D8419-279A-49AD-A757-54CD2A5D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EB656-D3A2-4972-AA01-97B47219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20F65-BBBA-4371-9E87-4DDC9177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1A359-DFFF-4406-A866-28209E3F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4BCE4-CB3C-4177-A991-7BCA43F0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B00C6-1315-4A7C-B0B7-05C47B13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1B33-55A9-4286-8D44-64291B5D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0F611-C259-4DA7-A0A0-46DB3339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B7454-A36B-49C5-AF69-FF36C409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7E0B1-75B4-4CD6-A9F8-DAB53341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39FAF-AB26-4041-A01F-8CDB105D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FF190-B56C-424D-85E0-BCC07720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798E8-7CDB-40B1-B497-C1C5BBAC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8B59F-E349-41C5-A2E5-8BD72E80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6B9B3-83F2-40A3-B55A-50C49D7D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E565B-B099-4332-B176-1BC4DEA9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F9FDA-F1D6-481C-A386-51719059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D8B-56DB-4691-B65E-F31CCFD7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128D2-D6C0-4DF6-8CDC-4394A18F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F26-8DE9-41C5-B2B1-FB3CBE57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AF53-3271-46CE-B36F-B6464055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1C6-1F62-4E1B-A0C8-8FDC6C4D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DA0E-FFC3-4490-9A7C-2C279E2B285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A4F1-78E9-41CF-B2D3-4B7A9D7C648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2B80-8290-454A-814B-C8B91CF55F4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DC7B-DCA8-45EF-AEA4-4FB096C2831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57B8-8405-401C-AA6B-3B3D052E5CD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d3e"/>
                </a:solidFill>
                <a:latin typeface="Verdana"/>
              </a:rPr>
              <a:t>Benign Breast Diseases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5181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epartment of Obstetrics and Gynec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FEU-NRMF Institute of Medici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any lobes are in one breas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4-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8-1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12-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 25-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any lobes are in one breas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4-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8-1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.12-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 25-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are accessory glands in the periphery of the areol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are accessory glands in the periphery of the areol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lands of Montgome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are fibrous septa that support the breast and extends from the skin to the pectoralis fascia. They cause skin retraction upon malignant infiltr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are fibrous septa that support the breast and extends from the skin to the pectoralis fascia. They cause skin retraction upon malignant infiltr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oper’s liga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jority of breast lymphatics drain into nodes in the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 axil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 mediastin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 contralateral brea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 pectoralis mus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jority of breast lymphatics drain into nodes in the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. axil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 mediastin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 contralateral brea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 pectoralis mus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reast is sensitive to hormonal changes in the menstrual cycle. This statement is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 Tr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 Fal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reast is sensitive to hormonal changes in the menstrual cycle. This statement is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. Tr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 Fal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8d3e"/>
                </a:solidFill>
                <a:latin typeface="Verdana"/>
              </a:rPr>
              <a:t>Review of Breast Anatomy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ich of the following cause/s premenstrual breast symptom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increased blood fl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vascular engor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water reten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a and 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.ab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ich iof the following cause/s premenstrual breast symptom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increased blood fl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vascular engor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water reten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a and 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E.ab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uctal parenchymal proliferation is seen in what phase of the menstrual cycl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. Follicul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. Lute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uctal parenchymal proliferation is seen in what phase of the menstrual cycl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. Follic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 Lute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latation of ducts and differentiation of alveolar to secretory cells occurs in what phase of the menstrual cycl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follic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lute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latation of ducts and differentiation of alveolar to secretory cells occurs in what phase of the menstrual cycl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follic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.lute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Assignment </a:t>
            </a:r>
            <a:br>
              <a:rPr sz="3200"/>
            </a:b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(Individual Instruction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D ON THE FOLLOWING COMMON ANOMALIES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.accessory breasts and nip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.polythelia, polymast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.breast asymmet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.virginal hypertrop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brocystic Chang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common benign breast dise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men in their 20’s to 50’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opausal rece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auses of Fibrocystic Chang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ggerated physiologic respon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rmonal imbal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prolact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Fibrocystic Change: Signs and Symptom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yclic bilateral breast pai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Classic sympt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gns- Increased engorgement and density, excessive nodularity, rapid changes in cystic sizes, tenderness, spontaneous nipple dischar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inent premenstrual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>
            <a:lum bright="-20000"/>
          </a:blip>
          <a:srcRect l="4392" t="6051" r="2632" b="9087"/>
          <a:stretch/>
        </p:blipFill>
        <p:spPr>
          <a:xfrm>
            <a:off x="533520" y="609480"/>
            <a:ext cx="80769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hysical Exam Finding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eful of peas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lpable lumpi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ter-filled ballo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tages of Fibrocystic Chang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stopla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eno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yst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*stages are clinically indistinct and overlap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Histopathology of Fibrocystic Chang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pithelial prolif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brous tissue prolif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stologic variants (cysts, adenosis, fibroplasias, duct ectasia, apocrine metaplasia, ductal epithelial hyperplasia,papillomatosi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uctal epithelial hyperplasia and atypia and apocrine metaplasi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Diagnostic Aids for Fibrocystic Chang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aging techni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e needle aspiration cytolo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stopathologic evaluation (core needle biopsy or excision biops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MAMMOGRAM(FIBROCYSTIC CHANGES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rcRect l="7495" t="0" r="0" b="0"/>
          <a:stretch/>
        </p:blipFill>
        <p:spPr>
          <a:xfrm>
            <a:off x="1676520" y="457200"/>
            <a:ext cx="5638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rcRect l="0" t="909" r="1985" b="0"/>
          <a:stretch/>
        </p:blipFill>
        <p:spPr>
          <a:xfrm>
            <a:off x="457200" y="650880"/>
            <a:ext cx="80010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atment of Fibrocystic Chang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rt Brassie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etary modif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ure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al Contracep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naz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romocrip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moxif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nRH agon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Mastectom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broadenom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m, rubbery, mobile, sol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ten solitary, occasionally mult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olescents, 20’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true neoplasi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Clinical features of Fibroadenom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idental discoveri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inless, non-tender,  slow grow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ccasional rapid grow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fluctuate with the cy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cases may reg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Diagnostic Aids for Fibroadenoma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reast sonograp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mmography (may not be done  for &lt;35 years ol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e need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rgical exci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type of glands are the breast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 apocr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 sebaceo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 swe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 endocr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atment of Fibroadenom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rgical Exci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in those &lt;35: nonoperative approach possible upon meeting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clinical parameter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establish the diagnosis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.clinical ex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.ultrasound, mammograp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.cytology (FNA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Chances for malignancy or recurrenc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rent in 2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ng term risk for cancer : 2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ystosarcoma Phyllod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re fibroepithelial tumor but are the MOST common breast sarco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nective tissue hypercellula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.5% of fibroepithelial tum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% of breast maligna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Clinical Features of Cystosarcoma Phyllode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th decade of lif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pid grow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meter of 5 cm at the time of det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Diagnostic Aids for Cystosarcoma Phyllode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ict histologic criteria poor in distinguishing benign and malignant fo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ow cytomet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atment of Cystosarcoma Phyllode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de exci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positive margins determine recurrenc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traductal Papillom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croscopic to 2-3m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al extension from areo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imenopa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Small, well-circumscribed polypoid nodules occur in a dilated duct. 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rcRect l="0" t="0" r="5433" b="0"/>
          <a:stretch/>
        </p:blipFill>
        <p:spPr>
          <a:xfrm>
            <a:off x="914400" y="762120"/>
            <a:ext cx="70102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Clinical Features of Intraductal Papillom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ontaneous and intermittent bloody nipple discharg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classical sympto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5% located beneath areo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fficult to palp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Diagnosis for Intraductal Papillom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ircumferential radial pres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solitary or multiple lobe sou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lactrograp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stopatholo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type of glands are the breast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 apocr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. sebaceo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 swe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 endocr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atment of Intraductal Papillom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cisional biops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Prognosis of Intraductal Papillom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ds to regress (menopaus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fold increase risk for carcino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at Necrosi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re but often misdiagnosed as maligna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uma rela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nical features of fat necrosi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m, tender, indurated, ill-defin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rrounding ecchymo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undergo liquefaction and become cyst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kin retr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AT NECROSI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78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iagnostic aids for fat necrosi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mmograp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atment of Fat Necrosi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cision Biops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Prognosis for malignancy of fat necrosi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related to breast carcino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Nipple Discharg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ent in benign and malignant ent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ductal source- more likely benig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DICALLY SIGNIFICAN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ontaneo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sist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-lactating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teral extension of the breast tissue into the axillary area is th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wo most common caus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raductal papillo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brocystic 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termination of malignanc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a prio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or does not differenti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lood- consider malignancy unless proven otherw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Determination of malignancy: Cytolog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but not diagnost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lse negatives of 2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gative results should not deter a biops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termination of malignanc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excisional mammograpn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cisional biops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teral extension of the breast tissue into the axillary area is th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xillary tail of Sp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kinds of tissues comprise the breas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 gland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 fat and connective tiss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 smooth mus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ab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.a and 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kinds of tissues comprise the breas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. gland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 fat and connective tiss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. smooth mus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.ab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E.a and 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01:40:50Z</dcterms:created>
  <dc:creator>Dr. Jessica  Cruz</dc:creator>
  <dc:description/>
  <dc:language>en-US</dc:language>
  <cp:lastModifiedBy>joseph c. nash</cp:lastModifiedBy>
  <dcterms:modified xsi:type="dcterms:W3CDTF">2012-05-15T07:14:21Z</dcterms:modified>
  <cp:revision>15</cp:revision>
  <dc:subject/>
  <dc:title>Benign Breast Diseases</dc:title>
</cp:coreProperties>
</file>