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DB36-E82C-4E5B-B39C-13055CFF8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0198-8DA0-46C9-A4D3-40E5DA3CC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F943-9561-43C3-AA36-BDB82E4A9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76F9-ED7F-4915-A6BB-FA44C207B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2B9F-2CB2-4757-865B-C98F4EEDF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E921-13C9-4D37-B933-3E614A10E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6280-7576-4B01-9803-B953550DD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13DA-9934-4E59-8C51-3DDE43D16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B1EE-BE98-438C-B601-B22D8C462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043E-7100-482D-89CD-5CBF5F3E3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FCA0-44A8-46CE-BBDE-12F596CC3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A583-64B2-4D23-ADDF-84C44169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75EDF-AF5F-4CF4-874A-310F38DA97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mulation de la politique environnementale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politique environnementale défin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importance de la protection de l’environnement au sein de l’entrepr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même que l’engagement de la direction vis-à-v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 collaborateur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 cl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 de la sociét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mulation de la politique environnementale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79480" y="1988640"/>
            <a:ext cx="75088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direction définit les grandes lignes de la politique et les adapte aux circonsta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politique peut être rendue publique, sous forme de principes directeurs ou d’un rapport environnemen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mulation de la politique environnementale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71280" y="2647440"/>
            <a:ext cx="771516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 collaborateurs doivent être informés par le biais de notes internes, d’affiches ou de réun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mulation de la politique environnementale (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politique environnemental doit tenir compte des exigences suivant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rer l’importance que l’entreprise attache à la protection de l’environn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’engager à respecter les lois corresponda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’engager pour une amélioration contin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ir compte des exigences des parties intéressées et des conditions-cadres locales particulièr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1T10:07:20Z</dcterms:created>
  <dc:creator>SALEM</dc:creator>
  <dc:description/>
  <dc:language>en-US</dc:language>
  <cp:lastModifiedBy>SALEM</cp:lastModifiedBy>
  <dcterms:modified xsi:type="dcterms:W3CDTF">2003-06-21T10:55:34Z</dcterms:modified>
  <cp:revision>11</cp:revision>
  <dc:subject/>
  <dc:title>Situation initiale</dc:title>
</cp:coreProperties>
</file>