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7A8-100B-457A-B21E-E80FF231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18B-F39B-456A-84A9-7E1AC104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071-6E67-4AD4-863D-E9BB802F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965-54B9-45F3-B9AF-F643A905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A4F-FCEF-4D49-A39E-EB71E5B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FB8-9A08-428C-B89F-A0D75A7C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49C-82FC-4A46-A0EB-C9F3CFB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B06-45DB-47FA-99CF-45B29F77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262-91C2-448F-93A1-A4BC177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A79-9E34-49D0-831F-C652360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4FA-44D9-4339-963B-B3222894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385-839B-4807-86D8-872F6996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B02-73FF-4604-80B9-9935738D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litique environnementale défi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mportance de la protection de l’environnement au sein de l’entrep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ême que l’engagement de la direction vis-à-v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collaborateu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de la socié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9480" y="1988640"/>
            <a:ext cx="7508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rection définit les grandes lignes de la politique et les adapte aux circon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litique peut être rendue publique, sous forme de principes directeurs ou d’un rapport environnem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264744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llaborateurs doivent être informés par le biais de notes internes, d’affiches ou de réu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 de la politique environnementale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litique environnemental doit tenir compte des exigences suiv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r l’importance que l’entreprise attache à la protection de l’environn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engager à respecter les lois correspond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engager pour une amélioration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ir compte des exigences des parties intéressées et des conditions-cadres locales particuliè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10:07:20Z</dcterms:created>
  <dc:creator>SALEM</dc:creator>
  <dc:description/>
  <dc:language>en-US</dc:language>
  <cp:lastModifiedBy>SALEM</cp:lastModifiedBy>
  <dcterms:modified xsi:type="dcterms:W3CDTF">2003-06-21T10:55:34Z</dcterms:modified>
  <cp:revision>11</cp:revision>
  <dc:subject/>
  <dc:title>Situation initiale</dc:title>
</cp:coreProperties>
</file>