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7EF-35FF-42BC-A221-A90E944D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1A9-BC9A-4B04-9854-B4F9DE8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087-B12E-4B2A-AB53-B7693365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4D7-9D0C-4321-885A-A1F38688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91E-E034-4C7B-85BC-D1CCE17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019-E088-4623-9936-DA270A57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E7E-973F-4ED7-AA3B-976ED86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745-22D1-4C90-93F4-CF6A7BDC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F27-05E2-4B90-967C-6619621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2E0-9AF0-421F-B607-3E1C7BE9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DBA-D710-4B63-8814-6A354F2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F42-003C-4034-97C3-7D0F427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513-249D-4EB6-BCA2-D3E97B710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22480" y="32457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tzeng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559960"/>
            <a:ext cx="413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Calligraph421 BT"/>
              </a:rPr>
              <a:t>Ik ben bij 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Calligraph421 BT"/>
              </a:rPr>
              <a:t>in u har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2000" y="1916280"/>
            <a:ext cx="53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40732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achter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voor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overal, maar u ziet mij nie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2000" y="1557360"/>
            <a:ext cx="53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92132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moedig  u,</a:t>
            </a:r>
            <a:br>
              <a:rPr sz="3200"/>
            </a:b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verwarm u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U vraagt zich af wie ik be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1916280"/>
            <a:ext cx="518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240732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geef u alle liefde die u nodig heeft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Als u valt , vang ik u op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651640" y="3355920"/>
            <a:ext cx="3492360" cy="3502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32000" y="1544400"/>
            <a:ext cx="456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geen vriend.</a:t>
            </a:r>
            <a:br>
              <a:rPr sz="3200"/>
            </a:b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geen vijan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u beschermengel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66100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Calligraph421 BT"/>
              </a:rPr>
              <a:t>groe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1:27:27Z</dcterms:created>
  <dc:creator>nra</dc:creator>
  <dc:description/>
  <dc:language>en-US</dc:language>
  <cp:lastModifiedBy>Smets</cp:lastModifiedBy>
  <dcterms:modified xsi:type="dcterms:W3CDTF">2008-09-07T18:34:14Z</dcterms:modified>
  <cp:revision>5</cp:revision>
  <dc:subject/>
  <dc:title>schutzengel</dc:title>
</cp:coreProperties>
</file>