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gif" ContentType="image/gif"/>
  <Override PartName="/ppt/media/image4.gif" ContentType="image/gif"/>
  <Override PartName="/ppt/media/image5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61FD-BADA-43E0-B7CE-2A2428690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6A6A-B570-465E-BD50-7C60022B7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0210-450F-418B-BF05-62A388DD6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8160-3CBA-49C1-9DBB-9AAD5B10C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7A40-D2A2-464E-A533-E2F1E489F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8C2D-790E-4A7C-9FAA-2319950DE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6F33-AF8C-4F79-8461-F6F98CEF3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CD1A-5D68-41CE-A80D-C0EB0DAB7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E614-BB35-4927-A631-AEF76DD8F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E0A5-F5C7-429F-AE82-A9E91F2C3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58CA-4FFB-4E12-A7DF-F5EECBE59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A042-2D30-4359-A923-0EF5DBD60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68064-AB4C-4E8D-9937-5D9273BF5F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2.png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2.png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2.png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2.png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2.png"/><Relationship Id="rId4" Type="http://schemas.openxmlformats.org/officeDocument/2006/relationships/image" Target="../media/image3.gif"/><Relationship Id="rId5" Type="http://schemas.openxmlformats.org/officeDocument/2006/relationships/image" Target="../media/image4.gif"/><Relationship Id="rId6" Type="http://schemas.openxmlformats.org/officeDocument/2006/relationships/image" Target="../media/image5.gif"/><Relationship Id="rId7" Type="http://schemas.openxmlformats.org/officeDocument/2006/relationships/image" Target="../media/image5.gif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403280" y="0"/>
            <a:ext cx="774072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50920" y="2421000"/>
            <a:ext cx="2000160" cy="17622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7812000" y="476280"/>
            <a:ext cx="762120" cy="7239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822480" y="3245760"/>
            <a:ext cx="149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utzeng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32000" y="2559960"/>
            <a:ext cx="4135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cc00"/>
                </a:solidFill>
                <a:latin typeface="Calligraph421 BT"/>
              </a:rPr>
              <a:t>Ik ben bij u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cc00"/>
                </a:solidFill>
                <a:latin typeface="Calligraph421 BT"/>
              </a:rPr>
              <a:t>in u hart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403280" y="0"/>
            <a:ext cx="7740720" cy="6858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250920" y="2421000"/>
            <a:ext cx="2000160" cy="17622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7812000" y="476280"/>
            <a:ext cx="762120" cy="7239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132000" y="1916280"/>
            <a:ext cx="5327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32000" y="2407320"/>
            <a:ext cx="46688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cc00"/>
                </a:solidFill>
                <a:latin typeface="Calligraph421 BT"/>
              </a:rPr>
              <a:t>Ik ben achter 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cc00"/>
                </a:solidFill>
                <a:latin typeface="Calligraph421 BT"/>
              </a:rPr>
              <a:t>Ik ben voor 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cc00"/>
                </a:solidFill>
                <a:latin typeface="Calligraph421 BT"/>
              </a:rPr>
              <a:t>Ik ben overal, maar u ziet mij niet.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1403280" y="0"/>
            <a:ext cx="774072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0920" y="2421000"/>
            <a:ext cx="2000160" cy="17622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7812000" y="476280"/>
            <a:ext cx="762120" cy="7239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132000" y="1557360"/>
            <a:ext cx="5327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32000" y="1921320"/>
            <a:ext cx="4896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cc00"/>
                </a:solidFill>
                <a:latin typeface="Calligraph421 BT"/>
              </a:rPr>
              <a:t>Ik bemoedig  u,</a:t>
            </a:r>
            <a:br>
              <a:rPr sz="3200"/>
            </a:br>
            <a:r>
              <a:rPr b="1" lang="de-DE" sz="3200" spc="-1" strike="noStrike">
                <a:solidFill>
                  <a:srgbClr val="ffcc00"/>
                </a:solidFill>
                <a:latin typeface="Calligraph421 BT"/>
              </a:rPr>
              <a:t>ik verwarm u…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cc00"/>
                </a:solidFill>
                <a:latin typeface="Calligraph421 BT"/>
              </a:rPr>
              <a:t>U vraagt zich af wie ik ben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1403280" y="0"/>
            <a:ext cx="7740720" cy="6858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50920" y="2421000"/>
            <a:ext cx="2000160" cy="17622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7812000" y="476280"/>
            <a:ext cx="762120" cy="7239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132000" y="1916280"/>
            <a:ext cx="5185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32000" y="2407320"/>
            <a:ext cx="6012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cc00"/>
                </a:solidFill>
                <a:latin typeface="Calligraph421 BT"/>
              </a:rPr>
              <a:t>Ik geef u alle liefde die u nodig heeft…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cc00"/>
                </a:solidFill>
                <a:latin typeface="Calligraph421 BT"/>
              </a:rPr>
              <a:t>Als u valt , vang ik u op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1403280" y="0"/>
            <a:ext cx="7740720" cy="68580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250920" y="2421000"/>
            <a:ext cx="2000160" cy="17622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7812000" y="476280"/>
            <a:ext cx="762120" cy="723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5"/>
          <a:stretch/>
        </p:blipFill>
        <p:spPr>
          <a:xfrm>
            <a:off x="5651640" y="3355920"/>
            <a:ext cx="3492360" cy="35020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3132000" y="1544400"/>
            <a:ext cx="4564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cc00"/>
                </a:solidFill>
                <a:latin typeface="Calligraph421 BT"/>
              </a:rPr>
              <a:t>Ik ben geen vriend.</a:t>
            </a:r>
            <a:br>
              <a:rPr sz="3200"/>
            </a:br>
            <a:r>
              <a:rPr b="1" lang="de-DE" sz="3200" spc="-1" strike="noStrike">
                <a:solidFill>
                  <a:srgbClr val="ffcc00"/>
                </a:solidFill>
                <a:latin typeface="Calligraph421 BT"/>
              </a:rPr>
              <a:t>Ik ben geen vijand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cc00"/>
                </a:solidFill>
                <a:latin typeface="Calligraph421 BT"/>
              </a:rPr>
              <a:t>Ik ben u beschermengel.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236000" y="5661000"/>
            <a:ext cx="129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cc00"/>
                </a:solidFill>
                <a:latin typeface="Calligraph421 BT"/>
              </a:rPr>
              <a:t>groet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908000" y="6237360"/>
            <a:ext cx="5388120" cy="428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latin typeface="Mangal"/>
              </a:rPr>
              <a:t>more at   www.free-powerpoints.goedbegin.be</a:t>
            </a:r>
            <a:endParaRPr b="0" lang="en-US" sz="2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latin typeface="Mangal"/>
              <a:ea typeface="Mang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500" fill="hold"/>
                                        <p:tgtEl>
                                          <p:spTgt spid="8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8T11:27:27Z</dcterms:created>
  <dc:creator>nra</dc:creator>
  <dc:description/>
  <dc:language>en-US</dc:language>
  <cp:lastModifiedBy>Smets</cp:lastModifiedBy>
  <dcterms:modified xsi:type="dcterms:W3CDTF">2008-09-07T18:34:14Z</dcterms:modified>
  <cp:revision>5</cp:revision>
  <dc:subject/>
  <dc:title>schutzengel</dc:title>
</cp:coreProperties>
</file>