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5CDE-7A2F-488E-8E82-C90D9D17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36D5-8CD3-400E-A312-9A1909AB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BF44A-78DE-41F6-8DC6-C1806B88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EC5F-5B34-4077-8B71-F3C0081D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5DB0-ACF1-4EC6-8167-EF83D93A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82B0-291A-4B54-8E77-CDCD277C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5F3C-4787-4498-8132-8B7B771E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9C74-F369-44DE-BF88-E94C7F34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9229-BD51-44C4-966A-F603534B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6A73-47F4-45B4-8E4A-E068AEE3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0FAF-6EA5-4C02-8CDA-F256C4C5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A50D1-D87F-4D26-823A-F834CF84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B568-EDE5-4FAB-8EA1-23BC9870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15A7-69E0-4F51-94BA-DE4FEE79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E02F-3014-4232-B054-6E78FBC4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2278-D034-4430-9A20-6A2C5B5D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0375-BF78-4FA1-84D5-E5E08C14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42925-12C6-4F01-9CE7-4EEB180C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1872-EBAA-419B-A002-C20F90E5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9C223-9588-43AF-ACEC-219325EA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DD52D-C78F-4CCA-BF74-322D3F10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756C-DC1E-4440-B44E-8ABECAD7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CDED5-EAFF-448C-A04B-87581455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96F61-1287-491D-A8F7-4D5373EB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05B9-2D26-4DB3-B9C2-64769E4217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142920" y="0"/>
            <a:ext cx="108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73080"/>
            <a:ext cx="9144000" cy="1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514"/>
                </a:solidFill>
                <a:latin typeface="Times New Roman"/>
              </a:rPr>
              <a:t>Network Simulator 2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굴림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AF0E-5476-46E2-BB28-7A09846EDA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3080"/>
            <a:ext cx="9144000" cy="1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514"/>
                </a:solidFill>
                <a:latin typeface="Times New Roman"/>
              </a:rPr>
              <a:t>Network Simulator 2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42920" y="0"/>
            <a:ext cx="108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imes New Roman"/>
              </a:rPr>
              <a:t>Network Simulator 2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Times New Roman"/>
              </a:rPr>
              <a:t>Source Code Analysis Method</a:t>
            </a: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58560" y="5726160"/>
            <a:ext cx="78850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HY헤드라인M"/>
              </a:rPr>
              <a:t>SungKyunKwan-Univ Mobile Computing LAB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HY헤드라인M"/>
              </a:rPr>
              <a:t>(http://csn.skku.ac.kr) </a:t>
            </a:r>
            <a:br>
              <a:rPr sz="2800"/>
            </a:b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HY헤드라인M"/>
              </a:rPr>
              <a:t>안혜환</a:t>
            </a: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HY헤드라인M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HY헤드라인M"/>
              </a:rPr>
              <a:t>hyehwan@ece.skku.ac.kr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You Must Have the Point Of View Event and Packet Scheduling Concept</a:t>
            </a:r>
            <a:endParaRPr b="1" lang="en-US" sz="36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4078440"/>
            <a:ext cx="863640" cy="79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de 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5364000" y="4005360"/>
            <a:ext cx="863640" cy="79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de 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1042920" y="335772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28544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1042920" y="38624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1042920" y="436572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1042920" y="48704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1042920" y="537372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1042920" y="587844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6732720" y="32846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278136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6732720" y="378936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6732720" y="42926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6732720" y="479736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6732720" y="530064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6732720" y="580536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1332000" y="2421000"/>
            <a:ext cx="0" cy="41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692360" y="2421000"/>
            <a:ext cx="0" cy="41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7093080" y="242100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380360" y="242064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3348000" y="1844640"/>
            <a:ext cx="2376360" cy="576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hedul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287" name=""/>
          <p:cNvCxnSpPr>
            <a:stCxn id="269" idx="3"/>
            <a:endCxn id="286" idx="2"/>
          </p:cNvCxnSpPr>
          <p:nvPr/>
        </p:nvCxnSpPr>
        <p:spPr>
          <a:xfrm flipV="1">
            <a:off x="2124000" y="2133000"/>
            <a:ext cx="1224720" cy="93708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68" idx="3"/>
            <a:endCxn id="286" idx="2"/>
          </p:cNvCxnSpPr>
          <p:nvPr/>
        </p:nvCxnSpPr>
        <p:spPr>
          <a:xfrm flipV="1">
            <a:off x="2124000" y="2133000"/>
            <a:ext cx="1224720" cy="144036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70" idx="3"/>
            <a:endCxn id="286" idx="2"/>
          </p:cNvCxnSpPr>
          <p:nvPr/>
        </p:nvCxnSpPr>
        <p:spPr>
          <a:xfrm flipV="1">
            <a:off x="2124000" y="2133360"/>
            <a:ext cx="1224720" cy="1945440"/>
          </a:xfrm>
          <a:prstGeom prst="curvedConnector5">
            <a:avLst>
              <a:gd name="adj1" fmla="val 49926"/>
              <a:gd name="adj2" fmla="val 4999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71" idx="3"/>
            <a:endCxn id="286" idx="2"/>
          </p:cNvCxnSpPr>
          <p:nvPr/>
        </p:nvCxnSpPr>
        <p:spPr>
          <a:xfrm flipV="1">
            <a:off x="2124000" y="2133000"/>
            <a:ext cx="1224720" cy="244836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72" idx="3"/>
            <a:endCxn id="286" idx="2"/>
          </p:cNvCxnSpPr>
          <p:nvPr/>
        </p:nvCxnSpPr>
        <p:spPr>
          <a:xfrm flipV="1">
            <a:off x="2124000" y="2133360"/>
            <a:ext cx="1224720" cy="2953440"/>
          </a:xfrm>
          <a:prstGeom prst="curvedConnector5">
            <a:avLst>
              <a:gd name="adj1" fmla="val 49926"/>
              <a:gd name="adj2" fmla="val 49993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73" idx="3"/>
            <a:endCxn id="286" idx="2"/>
          </p:cNvCxnSpPr>
          <p:nvPr/>
        </p:nvCxnSpPr>
        <p:spPr>
          <a:xfrm flipV="1">
            <a:off x="2124000" y="2133360"/>
            <a:ext cx="1224720" cy="3456720"/>
          </a:xfrm>
          <a:prstGeom prst="curvedConnector5">
            <a:avLst>
              <a:gd name="adj1" fmla="val 49926"/>
              <a:gd name="adj2" fmla="val 49994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74" idx="3"/>
            <a:endCxn id="286" idx="2"/>
          </p:cNvCxnSpPr>
          <p:nvPr/>
        </p:nvCxnSpPr>
        <p:spPr>
          <a:xfrm flipV="1">
            <a:off x="2124000" y="2133720"/>
            <a:ext cx="1224720" cy="396108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6" idx="1"/>
            <a:endCxn id="286" idx="6"/>
          </p:cNvCxnSpPr>
          <p:nvPr/>
        </p:nvCxnSpPr>
        <p:spPr>
          <a:xfrm rot="10800000">
            <a:off x="5723640" y="2133000"/>
            <a:ext cx="1008720" cy="86436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75" idx="1"/>
            <a:endCxn id="286" idx="6"/>
          </p:cNvCxnSpPr>
          <p:nvPr/>
        </p:nvCxnSpPr>
        <p:spPr>
          <a:xfrm rot="10800000">
            <a:off x="5723640" y="2133000"/>
            <a:ext cx="1008720" cy="1367280"/>
          </a:xfrm>
          <a:prstGeom prst="curvedConnector5">
            <a:avLst>
              <a:gd name="adj1" fmla="val 49910"/>
              <a:gd name="adj2" fmla="val 49986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7" idx="1"/>
            <a:endCxn id="286" idx="6"/>
          </p:cNvCxnSpPr>
          <p:nvPr/>
        </p:nvCxnSpPr>
        <p:spPr>
          <a:xfrm rot="10800000">
            <a:off x="5723640" y="2133000"/>
            <a:ext cx="1008720" cy="187236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78" idx="1"/>
            <a:endCxn id="286" idx="6"/>
          </p:cNvCxnSpPr>
          <p:nvPr/>
        </p:nvCxnSpPr>
        <p:spPr>
          <a:xfrm rot="10800000">
            <a:off x="5723640" y="2133000"/>
            <a:ext cx="1008720" cy="2375280"/>
          </a:xfrm>
          <a:prstGeom prst="curvedConnector5">
            <a:avLst>
              <a:gd name="adj1" fmla="val 49910"/>
              <a:gd name="adj2" fmla="val 49992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79" idx="1"/>
            <a:endCxn id="286" idx="6"/>
          </p:cNvCxnSpPr>
          <p:nvPr/>
        </p:nvCxnSpPr>
        <p:spPr>
          <a:xfrm rot="10800000">
            <a:off x="5723640" y="2133000"/>
            <a:ext cx="1008720" cy="288036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80" idx="1"/>
            <a:endCxn id="286" idx="6"/>
          </p:cNvCxnSpPr>
          <p:nvPr/>
        </p:nvCxnSpPr>
        <p:spPr>
          <a:xfrm rot="10800000">
            <a:off x="5723640" y="2133000"/>
            <a:ext cx="1008720" cy="338364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81" idx="1"/>
            <a:endCxn id="286" idx="6"/>
          </p:cNvCxnSpPr>
          <p:nvPr/>
        </p:nvCxnSpPr>
        <p:spPr>
          <a:xfrm rot="10800000">
            <a:off x="5723640" y="2133000"/>
            <a:ext cx="1008720" cy="388836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3059280" y="1484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ust schedule Event and Packe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79280" y="198900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rt of the Packet Scheduling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227640" y="198900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rt of the Packet Scheduling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635280" y="3068640"/>
            <a:ext cx="1656000" cy="1079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Created Events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by Ns user like you,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Such as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$ns at 0.1 “cbr start”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305" name=""/>
          <p:cNvCxnSpPr>
            <a:stCxn id="266" idx="6"/>
            <a:endCxn id="304" idx="2"/>
          </p:cNvCxnSpPr>
          <p:nvPr/>
        </p:nvCxnSpPr>
        <p:spPr>
          <a:xfrm flipV="1">
            <a:off x="3564000" y="4147920"/>
            <a:ext cx="900720" cy="32760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67" idx="2"/>
            <a:endCxn id="304" idx="2"/>
          </p:cNvCxnSpPr>
          <p:nvPr/>
        </p:nvCxnSpPr>
        <p:spPr>
          <a:xfrm rot="10800000">
            <a:off x="4463280" y="4147560"/>
            <a:ext cx="900720" cy="25452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304" idx="0"/>
            <a:endCxn id="286" idx="4"/>
          </p:cNvCxnSpPr>
          <p:nvPr/>
        </p:nvCxnSpPr>
        <p:spPr>
          <a:xfrm flipH="1" flipV="1" rot="5400000">
            <a:off x="4176360" y="2707560"/>
            <a:ext cx="648360" cy="73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8" name=""/>
          <p:cNvSpPr/>
          <p:nvPr/>
        </p:nvSpPr>
        <p:spPr>
          <a:xfrm>
            <a:off x="3203640" y="5013360"/>
            <a:ext cx="26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rt of the Event Scheduling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Don’t Forget the Important Concepts in NS-2</a:t>
            </a:r>
            <a:endParaRPr b="1" lang="en-US" sz="40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Scheduler is the core of NS-2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NS-2 Doesn’t Have MAIN() Function like Windows Programming, Please Don’t Find Continuous Procedures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Always Running a Packet Schedul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Always Running a Event Schedul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There are Shadow Objects between Otcl and C++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imes New Roman"/>
              </a:rPr>
              <a:t>Reference </a:t>
            </a: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Ns Manual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- http://www.isi.edu/nsnam/ns/ns-documentation.htm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Tc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- uist course: http://www.cs.huji.ac.il/~uis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Otcl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- http://www.isi.edu/nsnam/otcl/README.htm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NS-2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- http://www.isi.edu/nsnam/ns/tutorial/index.htm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- http://www.isi.edu/nsnam/ns/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Doxygen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- http://www.stack.nl/~dimitri/doxygen/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Graphviz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- http://www.research.att.com/sw/tools/graphviz/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ank You For Your Interest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195640" y="3716280"/>
            <a:ext cx="7714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imes New Roman"/>
              </a:rPr>
              <a:t>Contents</a:t>
            </a: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The Important Concepts in NS-2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The Very Progressive Source Analysis Tools  (ref. WinCam demo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Starting from the Tcl Exampl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Tracking Member Variances between Otcl and C++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Tracking from a Start Scheduler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Tracking Packet Processing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There are Three Part of NS Simulation Codes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You Must Have the Point Of View Event and Packet Scheduling Concept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Don’t Forget the Important Concepts in NS-2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Referenc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imes New Roman"/>
              </a:rPr>
              <a:t>The Important Concepts in NS-2</a:t>
            </a: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Scheduler is the core of NS-2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NS-2 Doesn’t Have MAIN() Function like Windows Programming, Please Don’t Find Continuous Procedures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Always Running a Packet Schedul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Always Running a Event Schedul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There are Shadow Objects between Otcl and C++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e5e5ff"/>
                </a:solidFill>
                <a:latin typeface="Times New Roman"/>
              </a:rPr>
              <a:t>The Very Progressive Source Analysis Tools  (ref. WinCam demo)</a:t>
            </a:r>
            <a:endParaRPr b="1" lang="en-US" sz="40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Doxygen</a:t>
            </a:r>
            <a:br>
              <a:rPr sz="3200"/>
            </a:b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- It can make the Documents from various source codes or directory</a:t>
            </a:r>
            <a:br>
              <a:rPr sz="3200"/>
            </a:br>
            <a:br>
              <a:rPr sz="3200"/>
            </a:b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Graphviz</a:t>
            </a:r>
            <a:br>
              <a:rPr sz="3200"/>
            </a:b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- It doesn’t work operations by itself </a:t>
            </a:r>
            <a:br>
              <a:rPr sz="3200"/>
            </a:b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- Added in Doxygen to make Map of source co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e5e5ff"/>
                </a:solidFill>
                <a:latin typeface="Times New Roman"/>
              </a:rPr>
              <a:t>Starting from the Tcl Example</a:t>
            </a:r>
            <a:endParaRPr b="1" lang="en-US" sz="40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Default example tcl source positoin in ns-2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- “ns-allinone-2.xx/ns-2.xx/tcl/ex”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Whatever You make start from the simulation tcl.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The architecture of simulation tcl source code in ns-2 or yours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1127160" y="4149720"/>
            <a:ext cx="2521080" cy="180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766800" y="4508640"/>
            <a:ext cx="76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4869000"/>
            <a:ext cx="76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5207040"/>
            <a:ext cx="76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766800" y="5567400"/>
            <a:ext cx="76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1271520" y="422100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t ns [new Simulator]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1271520" y="458136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Node-config Or binding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271520" y="494172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ing Topology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1271520" y="530064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$ns at 0.1 “cbr start” 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1271520" y="566100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$ns ru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3913200" y="422748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schedule Event and Packet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14640" y="4581360"/>
            <a:ext cx="383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setup Node configurations and Binding variances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3935520" y="495468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make simulation topology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935520" y="530064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run reserved simulation time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3936960" y="566100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run all of the simulation elements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e5e5ff"/>
                </a:solidFill>
                <a:latin typeface="Times New Roman"/>
              </a:rPr>
              <a:t>Tracking Member Variable </a:t>
            </a:r>
            <a:br>
              <a:rPr sz="4000"/>
            </a:br>
            <a:r>
              <a:rPr b="1" lang="ko-KR" sz="4000" spc="-1" strike="noStrike">
                <a:solidFill>
                  <a:srgbClr val="e5e5ff"/>
                </a:solidFill>
                <a:latin typeface="Times New Roman"/>
              </a:rPr>
              <a:t>between Otcl and C++ </a:t>
            </a:r>
            <a:endParaRPr b="1" lang="en-US" sz="40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There are shadow objects between Otcl and C++ Object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Shadow object can bind variances between Otcl and C++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We cannot see shadow objects, just knowing in there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4508640"/>
            <a:ext cx="72072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++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3571920"/>
            <a:ext cx="1150920" cy="431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Tcl </a:t>
            </a:r>
            <a:br>
              <a:rPr sz="1400"/>
            </a:b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4076640"/>
            <a:ext cx="1150920" cy="43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Tcl </a:t>
            </a:r>
            <a:br>
              <a:rPr sz="1400"/>
            </a:b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4581360"/>
            <a:ext cx="1150920" cy="43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Tcl </a:t>
            </a:r>
            <a:br>
              <a:rPr sz="1400"/>
            </a:b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356000" y="5589720"/>
            <a:ext cx="1150920" cy="431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Tcl </a:t>
            </a:r>
            <a:br>
              <a:rPr sz="1400"/>
            </a:b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5084640"/>
            <a:ext cx="1150920" cy="43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Tcl </a:t>
            </a:r>
            <a:br>
              <a:rPr sz="1400"/>
            </a:b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3645000"/>
            <a:ext cx="15130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adow 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4149720"/>
            <a:ext cx="15130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adow 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4653000"/>
            <a:ext cx="15130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adow 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5661000"/>
            <a:ext cx="15130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adow 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5157720"/>
            <a:ext cx="15130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adow 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42" name=""/>
          <p:cNvCxnSpPr>
            <a:stCxn id="132" idx="2"/>
            <a:endCxn id="137" idx="3"/>
          </p:cNvCxnSpPr>
          <p:nvPr/>
        </p:nvCxnSpPr>
        <p:spPr>
          <a:xfrm flipV="1" rot="10800000">
            <a:off x="3997440" y="3787560"/>
            <a:ext cx="358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33" idx="2"/>
            <a:endCxn id="138" idx="3"/>
          </p:cNvCxnSpPr>
          <p:nvPr/>
        </p:nvCxnSpPr>
        <p:spPr>
          <a:xfrm flipV="1" rot="10800000">
            <a:off x="3997440" y="4292280"/>
            <a:ext cx="358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4" name=""/>
          <p:cNvCxnSpPr>
            <a:stCxn id="134" idx="2"/>
            <a:endCxn id="139" idx="3"/>
          </p:cNvCxnSpPr>
          <p:nvPr/>
        </p:nvCxnSpPr>
        <p:spPr>
          <a:xfrm rot="10800000">
            <a:off x="3997440" y="4796640"/>
            <a:ext cx="358920" cy="1080"/>
          </a:xfrm>
          <a:prstGeom prst="curvedConnector2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41" idx="3"/>
          </p:cNvCxnSpPr>
          <p:nvPr/>
        </p:nvCxnSpPr>
        <p:spPr>
          <a:xfrm flipV="1" rot="10800000">
            <a:off x="3997440" y="5300280"/>
            <a:ext cx="358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6" name=""/>
          <p:cNvCxnSpPr>
            <a:stCxn id="135" idx="2"/>
            <a:endCxn id="140" idx="3"/>
          </p:cNvCxnSpPr>
          <p:nvPr/>
        </p:nvCxnSpPr>
        <p:spPr>
          <a:xfrm rot="10800000">
            <a:off x="3997440" y="5804640"/>
            <a:ext cx="358920" cy="1080"/>
          </a:xfrm>
          <a:prstGeom prst="curvedConnector2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7" name=""/>
          <p:cNvCxnSpPr>
            <a:stCxn id="137" idx="1"/>
            <a:endCxn id="131" idx="6"/>
          </p:cNvCxnSpPr>
          <p:nvPr/>
        </p:nvCxnSpPr>
        <p:spPr>
          <a:xfrm flipV="1" rot="10800000">
            <a:off x="1620000" y="3788280"/>
            <a:ext cx="864360" cy="10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" name=""/>
          <p:cNvCxnSpPr>
            <a:stCxn id="138" idx="1"/>
            <a:endCxn id="131" idx="6"/>
          </p:cNvCxnSpPr>
          <p:nvPr/>
        </p:nvCxnSpPr>
        <p:spPr>
          <a:xfrm flipV="1" rot="10800000">
            <a:off x="1620000" y="4293000"/>
            <a:ext cx="864360" cy="538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9" name=""/>
          <p:cNvCxnSpPr>
            <a:stCxn id="139" idx="1"/>
            <a:endCxn id="131" idx="6"/>
          </p:cNvCxnSpPr>
          <p:nvPr/>
        </p:nvCxnSpPr>
        <p:spPr>
          <a:xfrm flipV="1" rot="10800000">
            <a:off x="1620000" y="4796280"/>
            <a:ext cx="864360" cy="35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0" name=""/>
          <p:cNvCxnSpPr>
            <a:stCxn id="141" idx="1"/>
            <a:endCxn id="131" idx="6"/>
          </p:cNvCxnSpPr>
          <p:nvPr/>
        </p:nvCxnSpPr>
        <p:spPr>
          <a:xfrm rot="10800000">
            <a:off x="1620000" y="4831560"/>
            <a:ext cx="864360" cy="470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0" idx="1"/>
            <a:endCxn id="131" idx="6"/>
          </p:cNvCxnSpPr>
          <p:nvPr/>
        </p:nvCxnSpPr>
        <p:spPr>
          <a:xfrm rot="10800000">
            <a:off x="1620000" y="4831560"/>
            <a:ext cx="864360" cy="973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588000" y="3933720"/>
            <a:ext cx="2303640" cy="165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ode0 [$ns node]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ode1 [$ns node]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ode2 [$ns node]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ode3 [$ns node]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ode4 [$ns node]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508720" y="3789000"/>
            <a:ext cx="12240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508720" y="4292640"/>
            <a:ext cx="1224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508720" y="4724280"/>
            <a:ext cx="122400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508720" y="5013360"/>
            <a:ext cx="1224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508720" y="5300640"/>
            <a:ext cx="1224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 rot="10800000">
            <a:off x="4571640" y="2349000"/>
            <a:ext cx="431640" cy="1295640"/>
          </a:xfrm>
          <a:prstGeom prst="upArrow">
            <a:avLst>
              <a:gd name="adj1" fmla="val 50000"/>
              <a:gd name="adj2" fmla="val 7504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5580000" y="2349360"/>
            <a:ext cx="432000" cy="129564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Tracking from a Start Scheduler</a:t>
            </a:r>
            <a:endParaRPr b="1" lang="en-US" sz="40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2556000" y="263700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191628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2556000" y="335592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2556000" y="400536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2556000" y="472428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537372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2556000" y="609300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6875640" y="263700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6875640" y="191628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6875640" y="335592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6875640" y="400536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6875640" y="472428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6875640" y="537372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6875640" y="609300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068720" y="3932280"/>
            <a:ext cx="2376360" cy="576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S Schedul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76" name=""/>
          <p:cNvCxnSpPr>
            <a:stCxn id="162" idx="3"/>
            <a:endCxn id="175" idx="0"/>
          </p:cNvCxnSpPr>
          <p:nvPr/>
        </p:nvCxnSpPr>
        <p:spPr>
          <a:xfrm>
            <a:off x="3637080" y="2131560"/>
            <a:ext cx="1621440" cy="18010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5" idx="1"/>
            <a:endCxn id="161" idx="3"/>
          </p:cNvCxnSpPr>
          <p:nvPr/>
        </p:nvCxnSpPr>
        <p:spPr>
          <a:xfrm flipV="1" rot="16200000">
            <a:off x="3444120" y="3044160"/>
            <a:ext cx="1164600" cy="78012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61" idx="2"/>
            <a:endCxn id="175" idx="2"/>
          </p:cNvCxnSpPr>
          <p:nvPr/>
        </p:nvCxnSpPr>
        <p:spPr>
          <a:xfrm flipH="1" rot="16200000">
            <a:off x="3006000" y="3158280"/>
            <a:ext cx="1152720" cy="97236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5" idx="1"/>
            <a:endCxn id="163" idx="3"/>
          </p:cNvCxnSpPr>
          <p:nvPr/>
        </p:nvCxnSpPr>
        <p:spPr>
          <a:xfrm flipV="1" rot="16200000">
            <a:off x="3803760" y="3403800"/>
            <a:ext cx="445320" cy="78012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63" idx="2"/>
            <a:endCxn id="175" idx="2"/>
          </p:cNvCxnSpPr>
          <p:nvPr/>
        </p:nvCxnSpPr>
        <p:spPr>
          <a:xfrm flipH="1" rot="16200000">
            <a:off x="3365280" y="3518280"/>
            <a:ext cx="433800" cy="97236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5" idx="3"/>
            <a:endCxn id="164" idx="3"/>
          </p:cNvCxnSpPr>
          <p:nvPr/>
        </p:nvCxnSpPr>
        <p:spPr>
          <a:xfrm flipV="1" rot="16200000">
            <a:off x="3924360" y="3932280"/>
            <a:ext cx="204120" cy="780120"/>
          </a:xfrm>
          <a:prstGeom prst="curvedConnector5">
            <a:avLst>
              <a:gd name="adj1" fmla="val -53886"/>
              <a:gd name="adj2" fmla="val 36149"/>
              <a:gd name="adj3" fmla="val -5388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64" idx="2"/>
            <a:endCxn id="175" idx="4"/>
          </p:cNvCxnSpPr>
          <p:nvPr/>
        </p:nvCxnSpPr>
        <p:spPr>
          <a:xfrm flipH="1" rot="16200000">
            <a:off x="4141440" y="3392280"/>
            <a:ext cx="72360" cy="2161080"/>
          </a:xfrm>
          <a:prstGeom prst="curvedConnector5">
            <a:avLst>
              <a:gd name="adj1" fmla="val 408500"/>
              <a:gd name="adj2" fmla="val 50000"/>
              <a:gd name="adj3" fmla="val 4085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5" idx="3"/>
            <a:endCxn id="165" idx="3"/>
          </p:cNvCxnSpPr>
          <p:nvPr/>
        </p:nvCxnSpPr>
        <p:spPr>
          <a:xfrm rot="5400000">
            <a:off x="3768120" y="4292280"/>
            <a:ext cx="516600" cy="78012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65" idx="2"/>
            <a:endCxn id="175" idx="4"/>
          </p:cNvCxnSpPr>
          <p:nvPr/>
        </p:nvCxnSpPr>
        <p:spPr>
          <a:xfrm flipH="1" flipV="1" rot="5400000">
            <a:off x="3853440" y="3751560"/>
            <a:ext cx="648360" cy="2161080"/>
          </a:xfrm>
          <a:prstGeom prst="curvedConnector5">
            <a:avLst>
              <a:gd name="adj1" fmla="val -35277"/>
              <a:gd name="adj2" fmla="val 50000"/>
              <a:gd name="adj3" fmla="val -35277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5" idx="3"/>
            <a:endCxn id="166" idx="3"/>
          </p:cNvCxnSpPr>
          <p:nvPr/>
        </p:nvCxnSpPr>
        <p:spPr>
          <a:xfrm rot="5400000">
            <a:off x="3443400" y="4617000"/>
            <a:ext cx="1166040" cy="78012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66" idx="2"/>
            <a:endCxn id="175" idx="4"/>
          </p:cNvCxnSpPr>
          <p:nvPr/>
        </p:nvCxnSpPr>
        <p:spPr>
          <a:xfrm flipH="1" flipV="1" rot="5400000">
            <a:off x="3528720" y="4076280"/>
            <a:ext cx="1297440" cy="2161080"/>
          </a:xfrm>
          <a:prstGeom prst="curvedConnector5">
            <a:avLst>
              <a:gd name="adj1" fmla="val -7688"/>
              <a:gd name="adj2" fmla="val 50000"/>
              <a:gd name="adj3" fmla="val -7688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75" idx="3"/>
            <a:endCxn id="167" idx="3"/>
          </p:cNvCxnSpPr>
          <p:nvPr/>
        </p:nvCxnSpPr>
        <p:spPr>
          <a:xfrm rot="5400000">
            <a:off x="3083760" y="4976640"/>
            <a:ext cx="1884960" cy="78012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67" idx="2"/>
            <a:endCxn id="175" idx="4"/>
          </p:cNvCxnSpPr>
          <p:nvPr/>
        </p:nvCxnSpPr>
        <p:spPr>
          <a:xfrm flipH="1" flipV="1" rot="5400000">
            <a:off x="3169080" y="4435920"/>
            <a:ext cx="2016720" cy="2161080"/>
          </a:xfrm>
          <a:prstGeom prst="curvedConnector5">
            <a:avLst>
              <a:gd name="adj1" fmla="val -11337"/>
              <a:gd name="adj2" fmla="val 50000"/>
              <a:gd name="adj3" fmla="val -11337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69" idx="1"/>
            <a:endCxn id="175" idx="0"/>
          </p:cNvCxnSpPr>
          <p:nvPr/>
        </p:nvCxnSpPr>
        <p:spPr>
          <a:xfrm flipV="1" rot="10800000">
            <a:off x="5257080" y="2130840"/>
            <a:ext cx="1618560" cy="18010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75" idx="7"/>
            <a:endCxn id="168" idx="1"/>
          </p:cNvCxnSpPr>
          <p:nvPr/>
        </p:nvCxnSpPr>
        <p:spPr>
          <a:xfrm flipH="1" flipV="1" rot="5400000">
            <a:off x="5904360" y="3044880"/>
            <a:ext cx="1164600" cy="7786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68" idx="2"/>
            <a:endCxn id="175" idx="6"/>
          </p:cNvCxnSpPr>
          <p:nvPr/>
        </p:nvCxnSpPr>
        <p:spPr>
          <a:xfrm rot="5400000">
            <a:off x="6354000" y="3158280"/>
            <a:ext cx="1152720" cy="97236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5" idx="7"/>
            <a:endCxn id="170" idx="1"/>
          </p:cNvCxnSpPr>
          <p:nvPr/>
        </p:nvCxnSpPr>
        <p:spPr>
          <a:xfrm flipH="1" flipV="1" rot="5400000">
            <a:off x="6264000" y="3404520"/>
            <a:ext cx="445320" cy="7786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70" idx="2"/>
            <a:endCxn id="175" idx="6"/>
          </p:cNvCxnSpPr>
          <p:nvPr/>
        </p:nvCxnSpPr>
        <p:spPr>
          <a:xfrm rot="5400000">
            <a:off x="6713640" y="3518280"/>
            <a:ext cx="433800" cy="97236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75" idx="5"/>
            <a:endCxn id="171" idx="1"/>
          </p:cNvCxnSpPr>
          <p:nvPr/>
        </p:nvCxnSpPr>
        <p:spPr>
          <a:xfrm flipH="1" flipV="1" rot="5400000">
            <a:off x="6383880" y="3933000"/>
            <a:ext cx="204120" cy="778680"/>
          </a:xfrm>
          <a:prstGeom prst="curvedConnector5">
            <a:avLst>
              <a:gd name="adj1" fmla="val -58480"/>
              <a:gd name="adj2" fmla="val 36216"/>
              <a:gd name="adj3" fmla="val -5848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71" idx="2"/>
            <a:endCxn id="175" idx="4"/>
          </p:cNvCxnSpPr>
          <p:nvPr/>
        </p:nvCxnSpPr>
        <p:spPr>
          <a:xfrm rot="5400000">
            <a:off x="6300720" y="3393000"/>
            <a:ext cx="72360" cy="2159640"/>
          </a:xfrm>
          <a:prstGeom prst="curvedConnector5">
            <a:avLst>
              <a:gd name="adj1" fmla="val 420000"/>
              <a:gd name="adj2" fmla="val 50000"/>
              <a:gd name="adj3" fmla="val 42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75" idx="5"/>
            <a:endCxn id="172" idx="1"/>
          </p:cNvCxnSpPr>
          <p:nvPr/>
        </p:nvCxnSpPr>
        <p:spPr>
          <a:xfrm flipH="1" rot="16200000">
            <a:off x="6227640" y="4293000"/>
            <a:ext cx="516600" cy="7786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72" idx="2"/>
            <a:endCxn id="175" idx="4"/>
          </p:cNvCxnSpPr>
          <p:nvPr/>
        </p:nvCxnSpPr>
        <p:spPr>
          <a:xfrm flipV="1" rot="16200000">
            <a:off x="6012720" y="3752280"/>
            <a:ext cx="648360" cy="2159640"/>
          </a:xfrm>
          <a:prstGeom prst="curvedConnector5">
            <a:avLst>
              <a:gd name="adj1" fmla="val -35277"/>
              <a:gd name="adj2" fmla="val 50000"/>
              <a:gd name="adj3" fmla="val -35277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75" idx="5"/>
            <a:endCxn id="173" idx="1"/>
          </p:cNvCxnSpPr>
          <p:nvPr/>
        </p:nvCxnSpPr>
        <p:spPr>
          <a:xfrm flipH="1" rot="16200000">
            <a:off x="5902920" y="4617720"/>
            <a:ext cx="1166040" cy="7786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73" idx="2"/>
            <a:endCxn id="175" idx="4"/>
          </p:cNvCxnSpPr>
          <p:nvPr/>
        </p:nvCxnSpPr>
        <p:spPr>
          <a:xfrm flipV="1" rot="16200000">
            <a:off x="5688360" y="4077000"/>
            <a:ext cx="1297440" cy="2159640"/>
          </a:xfrm>
          <a:prstGeom prst="curvedConnector5">
            <a:avLst>
              <a:gd name="adj1" fmla="val -17624"/>
              <a:gd name="adj2" fmla="val 50000"/>
              <a:gd name="adj3" fmla="val -17624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75" idx="5"/>
            <a:endCxn id="174" idx="1"/>
          </p:cNvCxnSpPr>
          <p:nvPr/>
        </p:nvCxnSpPr>
        <p:spPr>
          <a:xfrm flipH="1" rot="16200000">
            <a:off x="5543640" y="4977360"/>
            <a:ext cx="1884960" cy="7786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74" idx="2"/>
            <a:endCxn id="175" idx="4"/>
          </p:cNvCxnSpPr>
          <p:nvPr/>
        </p:nvCxnSpPr>
        <p:spPr>
          <a:xfrm flipV="1" rot="16200000">
            <a:off x="5328720" y="4436640"/>
            <a:ext cx="2016720" cy="2159640"/>
          </a:xfrm>
          <a:prstGeom prst="curvedConnector5">
            <a:avLst>
              <a:gd name="adj1" fmla="val -11337"/>
              <a:gd name="adj2" fmla="val 50000"/>
              <a:gd name="adj3" fmla="val -11337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7956720" y="55008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all Scheduler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8028000" y="6048360"/>
            <a:ext cx="1763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alled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y Scheduler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204" name=""/>
          <p:cNvCxnSpPr>
            <a:stCxn id="175" idx="1"/>
            <a:endCxn id="162" idx="2"/>
          </p:cNvCxnSpPr>
          <p:nvPr/>
        </p:nvCxnSpPr>
        <p:spPr>
          <a:xfrm flipV="1" rot="16200000">
            <a:off x="2921760" y="2521800"/>
            <a:ext cx="1669320" cy="1320120"/>
          </a:xfrm>
          <a:prstGeom prst="curvedConnector5">
            <a:avLst>
              <a:gd name="adj1" fmla="val 52502"/>
              <a:gd name="adj2" fmla="val 50000"/>
              <a:gd name="adj3" fmla="val 525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75" idx="7"/>
            <a:endCxn id="169" idx="2"/>
          </p:cNvCxnSpPr>
          <p:nvPr/>
        </p:nvCxnSpPr>
        <p:spPr>
          <a:xfrm flipH="1" flipV="1" rot="5400000">
            <a:off x="5922720" y="2522160"/>
            <a:ext cx="1669320" cy="1319760"/>
          </a:xfrm>
          <a:prstGeom prst="curvedConnector5">
            <a:avLst>
              <a:gd name="adj1" fmla="val 52502"/>
              <a:gd name="adj2" fmla="val 49986"/>
              <a:gd name="adj3" fmla="val 525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2700360" y="1484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de 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948360" y="1484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de 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8101080" y="5429160"/>
            <a:ext cx="503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8101080" y="595008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1916280"/>
            <a:ext cx="20160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here isn’t main function like Windows programming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here aren’t continuous procedure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Just depend on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“call scheduler” and “called by scheduler”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1341360"/>
            <a:ext cx="2519280" cy="720720"/>
          </a:xfrm>
          <a:prstGeom prst="ellipse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S Schedul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imes New Roman"/>
              </a:rPr>
              <a:t>Tracking Packet Processing </a:t>
            </a: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335772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1042920" y="28544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38624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1042920" y="436572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1042920" y="48704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537372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587844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6732720" y="32846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732720" y="278136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6732720" y="378936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6732720" y="42926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6732720" y="479736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6732720" y="530064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732720" y="580536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2421000"/>
            <a:ext cx="0" cy="41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692360" y="2421000"/>
            <a:ext cx="0" cy="41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242100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380360" y="242064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348000" y="1844640"/>
            <a:ext cx="2376360" cy="576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hedul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232" name=""/>
          <p:cNvCxnSpPr>
            <a:stCxn id="214" idx="3"/>
            <a:endCxn id="231" idx="2"/>
          </p:cNvCxnSpPr>
          <p:nvPr/>
        </p:nvCxnSpPr>
        <p:spPr>
          <a:xfrm flipV="1">
            <a:off x="2124000" y="2133000"/>
            <a:ext cx="1224720" cy="93708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13" idx="3"/>
            <a:endCxn id="231" idx="2"/>
          </p:cNvCxnSpPr>
          <p:nvPr/>
        </p:nvCxnSpPr>
        <p:spPr>
          <a:xfrm flipV="1">
            <a:off x="2124000" y="2133000"/>
            <a:ext cx="1224720" cy="144036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15" idx="3"/>
            <a:endCxn id="231" idx="2"/>
          </p:cNvCxnSpPr>
          <p:nvPr/>
        </p:nvCxnSpPr>
        <p:spPr>
          <a:xfrm flipV="1">
            <a:off x="2124000" y="2133360"/>
            <a:ext cx="1224720" cy="1945440"/>
          </a:xfrm>
          <a:prstGeom prst="curvedConnector5">
            <a:avLst>
              <a:gd name="adj1" fmla="val 49926"/>
              <a:gd name="adj2" fmla="val 4999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16" idx="3"/>
            <a:endCxn id="231" idx="2"/>
          </p:cNvCxnSpPr>
          <p:nvPr/>
        </p:nvCxnSpPr>
        <p:spPr>
          <a:xfrm flipV="1">
            <a:off x="2124000" y="2133000"/>
            <a:ext cx="1224720" cy="244836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7" idx="3"/>
            <a:endCxn id="231" idx="2"/>
          </p:cNvCxnSpPr>
          <p:nvPr/>
        </p:nvCxnSpPr>
        <p:spPr>
          <a:xfrm flipV="1">
            <a:off x="2124000" y="2133360"/>
            <a:ext cx="1224720" cy="2953440"/>
          </a:xfrm>
          <a:prstGeom prst="curvedConnector5">
            <a:avLst>
              <a:gd name="adj1" fmla="val 49926"/>
              <a:gd name="adj2" fmla="val 49993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8" idx="3"/>
            <a:endCxn id="231" idx="2"/>
          </p:cNvCxnSpPr>
          <p:nvPr/>
        </p:nvCxnSpPr>
        <p:spPr>
          <a:xfrm flipV="1">
            <a:off x="2124000" y="2133360"/>
            <a:ext cx="1224720" cy="3456720"/>
          </a:xfrm>
          <a:prstGeom prst="curvedConnector5">
            <a:avLst>
              <a:gd name="adj1" fmla="val 49926"/>
              <a:gd name="adj2" fmla="val 49994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31" idx="2"/>
          </p:cNvCxnSpPr>
          <p:nvPr/>
        </p:nvCxnSpPr>
        <p:spPr>
          <a:xfrm flipV="1">
            <a:off x="2124000" y="2133720"/>
            <a:ext cx="1224720" cy="396108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1" idx="1"/>
            <a:endCxn id="231" idx="6"/>
          </p:cNvCxnSpPr>
          <p:nvPr/>
        </p:nvCxnSpPr>
        <p:spPr>
          <a:xfrm rot="10800000">
            <a:off x="5723640" y="2133000"/>
            <a:ext cx="1008720" cy="86436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20" idx="1"/>
            <a:endCxn id="231" idx="6"/>
          </p:cNvCxnSpPr>
          <p:nvPr/>
        </p:nvCxnSpPr>
        <p:spPr>
          <a:xfrm rot="10800000">
            <a:off x="5723640" y="2133000"/>
            <a:ext cx="1008720" cy="1367280"/>
          </a:xfrm>
          <a:prstGeom prst="curvedConnector5">
            <a:avLst>
              <a:gd name="adj1" fmla="val 49910"/>
              <a:gd name="adj2" fmla="val 49986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22" idx="1"/>
            <a:endCxn id="231" idx="6"/>
          </p:cNvCxnSpPr>
          <p:nvPr/>
        </p:nvCxnSpPr>
        <p:spPr>
          <a:xfrm rot="10800000">
            <a:off x="5723640" y="2133000"/>
            <a:ext cx="1008720" cy="187236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23" idx="1"/>
            <a:endCxn id="231" idx="6"/>
          </p:cNvCxnSpPr>
          <p:nvPr/>
        </p:nvCxnSpPr>
        <p:spPr>
          <a:xfrm rot="10800000">
            <a:off x="5723640" y="2133000"/>
            <a:ext cx="1008720" cy="2375280"/>
          </a:xfrm>
          <a:prstGeom prst="curvedConnector5">
            <a:avLst>
              <a:gd name="adj1" fmla="val 49910"/>
              <a:gd name="adj2" fmla="val 49992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24" idx="1"/>
            <a:endCxn id="231" idx="6"/>
          </p:cNvCxnSpPr>
          <p:nvPr/>
        </p:nvCxnSpPr>
        <p:spPr>
          <a:xfrm rot="10800000">
            <a:off x="5723640" y="2133000"/>
            <a:ext cx="1008720" cy="288036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25" idx="1"/>
            <a:endCxn id="231" idx="6"/>
          </p:cNvCxnSpPr>
          <p:nvPr/>
        </p:nvCxnSpPr>
        <p:spPr>
          <a:xfrm rot="10800000">
            <a:off x="5723640" y="2133000"/>
            <a:ext cx="1008720" cy="338364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26" idx="1"/>
            <a:endCxn id="231" idx="6"/>
          </p:cNvCxnSpPr>
          <p:nvPr/>
        </p:nvCxnSpPr>
        <p:spPr>
          <a:xfrm rot="10800000">
            <a:off x="5723640" y="2133000"/>
            <a:ext cx="1008720" cy="388836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3059280" y="1484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ust schedule Event and Packe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79280" y="198900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rt of the Packet Scheduling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6227640" y="198900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rt of the Packet Scheduling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700360" y="4078440"/>
            <a:ext cx="863640" cy="79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de 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364000" y="4005360"/>
            <a:ext cx="863640" cy="79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de 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There are Three Part of NS Simulation Codes</a:t>
            </a:r>
            <a:endParaRPr b="1" lang="en-US" sz="32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042920" y="2492280"/>
            <a:ext cx="1727280" cy="3673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Set ns [new Simulator]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Node-config ……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set node [$ns node]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$ns at 1.0 “cbr start”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$ns run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2925720"/>
            <a:ext cx="122580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++ initiate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3132000" y="2349360"/>
            <a:ext cx="1225800" cy="50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imes New Roman"/>
              </a:rPr>
              <a:t>Otcl initiate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322200" y="2276640"/>
            <a:ext cx="8353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14560" y="1700280"/>
            <a:ext cx="0" cy="46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3924360" y="3355920"/>
            <a:ext cx="1944720" cy="1081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king Topology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y using element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6156360" y="5661000"/>
            <a:ext cx="2808360" cy="6494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++ are changed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y processing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156360" y="4795920"/>
            <a:ext cx="2736720" cy="720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imes New Roman"/>
              </a:rPr>
              <a:t>Otcl are changed </a:t>
            </a:r>
            <a:br>
              <a:rPr sz="1800"/>
            </a:br>
            <a:r>
              <a:rPr b="0" lang="ko-KR" sz="1800" spc="-1" strike="noStrike">
                <a:solidFill>
                  <a:srgbClr val="ffffff"/>
                </a:solidFill>
                <a:latin typeface="Times New Roman"/>
              </a:rPr>
              <a:t>by processing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012000" y="1700280"/>
            <a:ext cx="0" cy="46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4581360"/>
            <a:ext cx="82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43000" y="3716280"/>
            <a:ext cx="97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evel of Node setup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244440" y="4797360"/>
            <a:ext cx="10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evel of Running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313200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level conforms that the Object Initiated state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08:15:05Z</dcterms:created>
  <dc:creator>묻지마</dc:creator>
  <dc:description/>
  <dc:language>en-US</dc:language>
  <cp:lastModifiedBy>User</cp:lastModifiedBy>
  <dcterms:modified xsi:type="dcterms:W3CDTF">2004-06-29T11:32:03Z</dcterms:modified>
  <cp:revision>50</cp:revision>
  <dc:subject/>
  <dc:title>Network Simulator 2  Source Code Analysis Method</dc:title>
</cp:coreProperties>
</file>