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3D37-601F-42A1-9C16-41853E6B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AEFA-BC89-49C0-BEC8-B867ACD0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02B4D-3701-42F0-86CC-9E30F7A0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0F49-36FA-461F-9345-AECB4BB2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4BE-60B3-49B5-A867-A48F9A73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2347-D0FA-4F8C-9F7D-4CD0453E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0E69-0B99-4B6F-8747-8DF6CA93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E30B-3B35-4004-B686-74073118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705A-CAC0-4104-B6AE-2FA7745D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EA9-089B-4164-A20D-83AD3CF0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4AE2-FD3B-4661-9B85-B6869C79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C689-CB42-40B8-8B11-D195F873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6CA9-91B3-4626-AF53-6C84A884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852B-4F9E-4535-9509-7E07A521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D8C8-DEBC-441D-B4F4-D4F24ED9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E5F-0CCA-4D84-88C1-3AC0053A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2741-EA12-45E1-A0BD-5B00318E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5B6F-D575-46C7-B68E-D20A6EA1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B514-F584-4178-930F-5B76805C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30DD6-D60B-49E5-B1A3-6286F786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69C8-C50E-47F3-93DF-CB73B285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376D-9077-4249-8C40-10309E83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A7941-0291-496C-A340-1844F6D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F38FF-05D8-4F95-B6AC-2A273C77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7145-240F-4650-B6D8-EDEF18085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142920" y="0"/>
            <a:ext cx="108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73080"/>
            <a:ext cx="914400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Times New Roman"/>
              </a:rPr>
              <a:t>Network Simulator 2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3123-B9FD-40CD-A5E4-5BF06F7957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3080"/>
            <a:ext cx="9144000" cy="115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514"/>
                </a:solidFill>
                <a:latin typeface="Times New Roman"/>
              </a:rPr>
              <a:t>Network Simulator 2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42920" y="0"/>
            <a:ext cx="108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Network Simulator 2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Source Code Analysis Method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560" y="5726160"/>
            <a:ext cx="78850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SungKyunKwan-Univ Mobile Computing LAB</a:t>
            </a:r>
            <a:br>
              <a:rPr sz="2800"/>
            </a:b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(http://csn.skku.ac.kr) </a:t>
            </a:r>
            <a:br>
              <a:rPr sz="2800"/>
            </a:br>
            <a:r>
              <a:rPr b="0" lang="ko-KR" sz="1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안혜환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Times New Roman"/>
                <a:ea typeface="HY헤드라인M"/>
              </a:rPr>
              <a:t>hyehwan@ece.skku.ac.kr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5e5ff"/>
                </a:solidFill>
                <a:latin typeface="Times New Roman"/>
              </a:rPr>
              <a:t>You Must Have the Point Of View Event and Packet Scheduling Concept</a:t>
            </a:r>
            <a:endParaRPr b="1" lang="en-US" sz="36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7844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5364000" y="4005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3357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854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042920" y="3862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4365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1042920" y="4870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104292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58784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6732720" y="3284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2781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789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4292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4797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53006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5805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69236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42100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380360" y="242064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3348000" y="184464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87" name=""/>
          <p:cNvCxnSpPr>
            <a:stCxn id="269" idx="3"/>
            <a:endCxn id="286" idx="2"/>
          </p:cNvCxnSpPr>
          <p:nvPr/>
        </p:nvCxnSpPr>
        <p:spPr>
          <a:xfrm flipV="1">
            <a:off x="2124000" y="2133000"/>
            <a:ext cx="1224720" cy="937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68" idx="3"/>
            <a:endCxn id="286" idx="2"/>
          </p:cNvCxnSpPr>
          <p:nvPr/>
        </p:nvCxnSpPr>
        <p:spPr>
          <a:xfrm flipV="1">
            <a:off x="2124000" y="2133000"/>
            <a:ext cx="1224720" cy="1440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9" name=""/>
          <p:cNvCxnSpPr>
            <a:stCxn id="270" idx="3"/>
            <a:endCxn id="286" idx="2"/>
          </p:cNvCxnSpPr>
          <p:nvPr/>
        </p:nvCxnSpPr>
        <p:spPr>
          <a:xfrm flipV="1">
            <a:off x="2124000" y="2133360"/>
            <a:ext cx="1224720" cy="1945440"/>
          </a:xfrm>
          <a:prstGeom prst="curvedConnector5">
            <a:avLst>
              <a:gd name="adj1" fmla="val 49926"/>
              <a:gd name="adj2" fmla="val 4999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1" idx="3"/>
            <a:endCxn id="286" idx="2"/>
          </p:cNvCxnSpPr>
          <p:nvPr/>
        </p:nvCxnSpPr>
        <p:spPr>
          <a:xfrm flipV="1">
            <a:off x="2124000" y="2133000"/>
            <a:ext cx="1224720" cy="2448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2" idx="3"/>
            <a:endCxn id="286" idx="2"/>
          </p:cNvCxnSpPr>
          <p:nvPr/>
        </p:nvCxnSpPr>
        <p:spPr>
          <a:xfrm flipV="1">
            <a:off x="2124000" y="2133360"/>
            <a:ext cx="1224720" cy="2953440"/>
          </a:xfrm>
          <a:prstGeom prst="curvedConnector5">
            <a:avLst>
              <a:gd name="adj1" fmla="val 49926"/>
              <a:gd name="adj2" fmla="val 49993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3" idx="3"/>
            <a:endCxn id="286" idx="2"/>
          </p:cNvCxnSpPr>
          <p:nvPr/>
        </p:nvCxnSpPr>
        <p:spPr>
          <a:xfrm flipV="1">
            <a:off x="2124000" y="2133360"/>
            <a:ext cx="1224720" cy="3456720"/>
          </a:xfrm>
          <a:prstGeom prst="curvedConnector5">
            <a:avLst>
              <a:gd name="adj1" fmla="val 49926"/>
              <a:gd name="adj2" fmla="val 49994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4" idx="3"/>
            <a:endCxn id="286" idx="2"/>
          </p:cNvCxnSpPr>
          <p:nvPr/>
        </p:nvCxnSpPr>
        <p:spPr>
          <a:xfrm flipV="1">
            <a:off x="2124000" y="2133720"/>
            <a:ext cx="1224720" cy="3961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6" idx="1"/>
            <a:endCxn id="286" idx="6"/>
          </p:cNvCxnSpPr>
          <p:nvPr/>
        </p:nvCxnSpPr>
        <p:spPr>
          <a:xfrm rot="10800000">
            <a:off x="5723640" y="2133000"/>
            <a:ext cx="1008720" cy="864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5" idx="1"/>
            <a:endCxn id="286" idx="6"/>
          </p:cNvCxnSpPr>
          <p:nvPr/>
        </p:nvCxnSpPr>
        <p:spPr>
          <a:xfrm rot="10800000">
            <a:off x="5723640" y="2133000"/>
            <a:ext cx="1008720" cy="1367280"/>
          </a:xfrm>
          <a:prstGeom prst="curvedConnector5">
            <a:avLst>
              <a:gd name="adj1" fmla="val 49910"/>
              <a:gd name="adj2" fmla="val 49986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7" idx="1"/>
            <a:endCxn id="286" idx="6"/>
          </p:cNvCxnSpPr>
          <p:nvPr/>
        </p:nvCxnSpPr>
        <p:spPr>
          <a:xfrm rot="10800000">
            <a:off x="5723640" y="2133000"/>
            <a:ext cx="1008720" cy="1872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78" idx="1"/>
            <a:endCxn id="286" idx="6"/>
          </p:cNvCxnSpPr>
          <p:nvPr/>
        </p:nvCxnSpPr>
        <p:spPr>
          <a:xfrm rot="10800000">
            <a:off x="5723640" y="2133000"/>
            <a:ext cx="1008720" cy="2375280"/>
          </a:xfrm>
          <a:prstGeom prst="curvedConnector5">
            <a:avLst>
              <a:gd name="adj1" fmla="val 49910"/>
              <a:gd name="adj2" fmla="val 49992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79" idx="1"/>
            <a:endCxn id="286" idx="6"/>
          </p:cNvCxnSpPr>
          <p:nvPr/>
        </p:nvCxnSpPr>
        <p:spPr>
          <a:xfrm rot="10800000">
            <a:off x="5723640" y="2133000"/>
            <a:ext cx="1008720" cy="2880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0" idx="1"/>
            <a:endCxn id="286" idx="6"/>
          </p:cNvCxnSpPr>
          <p:nvPr/>
        </p:nvCxnSpPr>
        <p:spPr>
          <a:xfrm rot="10800000">
            <a:off x="5723640" y="2133000"/>
            <a:ext cx="1008720" cy="338364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1" idx="1"/>
            <a:endCxn id="286" idx="6"/>
          </p:cNvCxnSpPr>
          <p:nvPr/>
        </p:nvCxnSpPr>
        <p:spPr>
          <a:xfrm rot="10800000">
            <a:off x="5723640" y="2133000"/>
            <a:ext cx="1008720" cy="3888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305928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st schedule Event and Packe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7928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22764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635280" y="3068640"/>
            <a:ext cx="1656000" cy="1079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Created Events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by Ns user like you,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uch as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at 0.1 “cbr start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305" name=""/>
          <p:cNvCxnSpPr>
            <a:stCxn id="266" idx="6"/>
            <a:endCxn id="304" idx="2"/>
          </p:cNvCxnSpPr>
          <p:nvPr/>
        </p:nvCxnSpPr>
        <p:spPr>
          <a:xfrm flipV="1">
            <a:off x="3564000" y="4147920"/>
            <a:ext cx="900720" cy="32760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"/>
          <p:cNvCxnSpPr>
            <a:stCxn id="267" idx="2"/>
            <a:endCxn id="304" idx="2"/>
          </p:cNvCxnSpPr>
          <p:nvPr/>
        </p:nvCxnSpPr>
        <p:spPr>
          <a:xfrm rot="10800000">
            <a:off x="4463280" y="4147560"/>
            <a:ext cx="900720" cy="2545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304" idx="0"/>
            <a:endCxn id="286" idx="4"/>
          </p:cNvCxnSpPr>
          <p:nvPr/>
        </p:nvCxnSpPr>
        <p:spPr>
          <a:xfrm flipH="1" flipV="1" rot="5400000">
            <a:off x="4176360" y="2707560"/>
            <a:ext cx="648360" cy="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8" name=""/>
          <p:cNvSpPr/>
          <p:nvPr/>
        </p:nvSpPr>
        <p:spPr>
          <a:xfrm>
            <a:off x="3203640" y="501336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Even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Don’t Forget the Important Concepts in NS-2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Scheduler is the core of NS-2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NS-2 Doesn’t Have MAIN() Function like Windows Programming, Please Don’t Find Continuous Procedures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Packe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Even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There are Shadow Objects between Otcl and C++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Reference 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Ns Manual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ns-documentation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Tc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uist course: http://www.cs.huji.ac.il/~uis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Otcl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otcl/README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NS-2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tutorial/index.htm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isi.edu/nsnam/ns/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Doxygen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stack.nl/~dimitri/doxygen/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Graphviz</a:t>
            </a:r>
            <a:br>
              <a:rPr sz="2000"/>
            </a:br>
            <a:r>
              <a:rPr b="0" lang="ko-KR" sz="2000" spc="-1" strike="noStrike">
                <a:solidFill>
                  <a:srgbClr val="ffffff"/>
                </a:solidFill>
                <a:latin typeface="Times New Roman"/>
              </a:rPr>
              <a:t>- http://www.research.att.com/sw/tools/graphviz/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For Your Interes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195640" y="3716280"/>
            <a:ext cx="771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Contents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Important Concepts in NS-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Very Progressive Source Analysis Tools  (ref. WinCam demo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Starting from the Tcl Exampl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Member Variances between Otcl and C++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from a Start Schedule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racking Packet Processing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re are Three Part of NS Simulation Codes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You Must Have the Point Of View Event and Packet Scheduling Concep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Don’t Forget the Important Concepts in NS-2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The Important Concepts in NS-2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Scheduler is the core of NS-2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NS-2 Doesn’t Have MAIN() Function like Windows Programming, Please Don’t Find Continuous Procedures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Packe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Always Running a Event Schedul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Times New Roman"/>
              </a:rPr>
              <a:t>There are Shadow Objects between Otcl and C++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The Very Progressive Source Analysis Tools  (ref. WinCam demo)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Doxygen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It can make the Documents from various source codes or directory</a:t>
            </a:r>
            <a:br>
              <a:rPr sz="3200"/>
            </a:b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Graphviz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It doesn’t work operations by itself </a:t>
            </a:r>
            <a:br>
              <a:rPr sz="3200"/>
            </a:br>
            <a:r>
              <a:rPr b="0" lang="ko-KR" sz="3200" spc="-1" strike="noStrike">
                <a:solidFill>
                  <a:srgbClr val="ffffff"/>
                </a:solidFill>
                <a:latin typeface="Times New Roman"/>
              </a:rPr>
              <a:t>- Added in Doxygen to make Map of source co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Starting from the Tcl Example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Default example tcl source positoin in ns-2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- “ns-allinone-2.xx/ns-2.xx/tcl/ex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hatever You make start from the simulation tcl.</a:t>
            </a:r>
            <a:br>
              <a:rPr sz="2400"/>
            </a:b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 architecture of simulation tcl source code in ns-2 or yours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127160" y="4149720"/>
            <a:ext cx="2521080" cy="1800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766800" y="450864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486900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20704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766800" y="5567400"/>
            <a:ext cx="7634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1271520" y="422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t ns [new Simulator]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1271520" y="458136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Node-config Or binding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271520" y="494172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ing Topology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1271520" y="53006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$ns at 0.1 “cbr start” 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1271520" y="566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$ns ru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3913200" y="42274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chedule Event and Packet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14640" y="4581360"/>
            <a:ext cx="383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etup Node configurations and Binding variances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3935520" y="495468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make simulation topology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935520" y="530064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run reserved simulation time 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3936960" y="5661000"/>
            <a:ext cx="30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run all of the simulation elements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Tracking Member Variable </a:t>
            </a:r>
            <a:br>
              <a:rPr sz="4000"/>
            </a:br>
            <a:r>
              <a:rPr b="1" lang="ko-KR" sz="4000" spc="-1" strike="noStrike">
                <a:solidFill>
                  <a:srgbClr val="e5e5ff"/>
                </a:solidFill>
                <a:latin typeface="Times New Roman"/>
              </a:rPr>
              <a:t>between Otcl and C++ 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There are shadow objects between Otcl and C++ Object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Shadow object can bind variances between Otcl and C++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imes New Roman"/>
              </a:rPr>
              <a:t>We cannot see shadow objects, just knowing in there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4508640"/>
            <a:ext cx="72072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++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3571920"/>
            <a:ext cx="115092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407664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458136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356000" y="5589720"/>
            <a:ext cx="115092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5084640"/>
            <a:ext cx="115092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Tcl </a:t>
            </a:r>
            <a:br>
              <a:rPr sz="1400"/>
            </a:b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3645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414972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653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566100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5157720"/>
            <a:ext cx="15130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hadow Object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2" name=""/>
          <p:cNvCxnSpPr>
            <a:stCxn id="132" idx="2"/>
            <a:endCxn id="137" idx="3"/>
          </p:cNvCxnSpPr>
          <p:nvPr/>
        </p:nvCxnSpPr>
        <p:spPr>
          <a:xfrm flipV="1" rot="10800000">
            <a:off x="3997440" y="378756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33" idx="2"/>
            <a:endCxn id="138" idx="3"/>
          </p:cNvCxnSpPr>
          <p:nvPr/>
        </p:nvCxnSpPr>
        <p:spPr>
          <a:xfrm flipV="1" rot="10800000">
            <a:off x="3997440" y="429228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" name=""/>
          <p:cNvCxnSpPr>
            <a:stCxn id="134" idx="2"/>
            <a:endCxn id="139" idx="3"/>
          </p:cNvCxnSpPr>
          <p:nvPr/>
        </p:nvCxnSpPr>
        <p:spPr>
          <a:xfrm rot="10800000">
            <a:off x="3997440" y="4796640"/>
            <a:ext cx="3589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41" idx="3"/>
          </p:cNvCxnSpPr>
          <p:nvPr/>
        </p:nvCxnSpPr>
        <p:spPr>
          <a:xfrm flipV="1" rot="10800000">
            <a:off x="3997440" y="5300280"/>
            <a:ext cx="358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6" name=""/>
          <p:cNvCxnSpPr>
            <a:stCxn id="135" idx="2"/>
            <a:endCxn id="140" idx="3"/>
          </p:cNvCxnSpPr>
          <p:nvPr/>
        </p:nvCxnSpPr>
        <p:spPr>
          <a:xfrm rot="10800000">
            <a:off x="3997440" y="5804640"/>
            <a:ext cx="3589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7" name=""/>
          <p:cNvCxnSpPr>
            <a:stCxn id="137" idx="1"/>
            <a:endCxn id="131" idx="6"/>
          </p:cNvCxnSpPr>
          <p:nvPr/>
        </p:nvCxnSpPr>
        <p:spPr>
          <a:xfrm flipV="1" rot="10800000">
            <a:off x="1620000" y="3788280"/>
            <a:ext cx="864360" cy="1043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>
            <a:stCxn id="138" idx="1"/>
            <a:endCxn id="131" idx="6"/>
          </p:cNvCxnSpPr>
          <p:nvPr/>
        </p:nvCxnSpPr>
        <p:spPr>
          <a:xfrm flipV="1" rot="10800000">
            <a:off x="1620000" y="4293000"/>
            <a:ext cx="864360" cy="5389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9" name=""/>
          <p:cNvCxnSpPr>
            <a:stCxn id="139" idx="1"/>
            <a:endCxn id="131" idx="6"/>
          </p:cNvCxnSpPr>
          <p:nvPr/>
        </p:nvCxnSpPr>
        <p:spPr>
          <a:xfrm flipV="1" rot="10800000">
            <a:off x="1620000" y="4796280"/>
            <a:ext cx="864360" cy="3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0" name=""/>
          <p:cNvCxnSpPr>
            <a:stCxn id="141" idx="1"/>
            <a:endCxn id="131" idx="6"/>
          </p:cNvCxnSpPr>
          <p:nvPr/>
        </p:nvCxnSpPr>
        <p:spPr>
          <a:xfrm rot="10800000">
            <a:off x="1620000" y="4831560"/>
            <a:ext cx="864360" cy="470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0" idx="1"/>
            <a:endCxn id="131" idx="6"/>
          </p:cNvCxnSpPr>
          <p:nvPr/>
        </p:nvCxnSpPr>
        <p:spPr>
          <a:xfrm rot="10800000">
            <a:off x="1620000" y="4831560"/>
            <a:ext cx="864360" cy="97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588000" y="3933720"/>
            <a:ext cx="2303640" cy="1656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0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1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2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3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ode4 [$ns node]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508720" y="3789000"/>
            <a:ext cx="12240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508720" y="4292640"/>
            <a:ext cx="122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508720" y="4724280"/>
            <a:ext cx="122400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508720" y="5013360"/>
            <a:ext cx="1224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508720" y="5300640"/>
            <a:ext cx="1224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rot="10800000">
            <a:off x="4571640" y="2349000"/>
            <a:ext cx="431640" cy="1295640"/>
          </a:xfrm>
          <a:prstGeom prst="upArrow">
            <a:avLst>
              <a:gd name="adj1" fmla="val 50000"/>
              <a:gd name="adj2" fmla="val 7504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2349360"/>
            <a:ext cx="432000" cy="1295640"/>
          </a:xfrm>
          <a:prstGeom prst="upArrow">
            <a:avLst>
              <a:gd name="adj1" fmla="val 50000"/>
              <a:gd name="adj2" fmla="val 7497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Times New Roman"/>
              </a:rPr>
              <a:t>Tracking from a Start Scheduler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2637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191628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2556000" y="335592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4005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2556000" y="472428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6093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6875640" y="2637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6875640" y="191628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6875640" y="335592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6875640" y="4005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6875640" y="472428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875640" y="609300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068720" y="393228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S 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76" name=""/>
          <p:cNvCxnSpPr>
            <a:stCxn id="162" idx="3"/>
            <a:endCxn id="175" idx="0"/>
          </p:cNvCxnSpPr>
          <p:nvPr/>
        </p:nvCxnSpPr>
        <p:spPr>
          <a:xfrm>
            <a:off x="3637080" y="2131560"/>
            <a:ext cx="1621440" cy="18010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5" idx="1"/>
            <a:endCxn id="161" idx="3"/>
          </p:cNvCxnSpPr>
          <p:nvPr/>
        </p:nvCxnSpPr>
        <p:spPr>
          <a:xfrm flipV="1" rot="16200000">
            <a:off x="3444120" y="3044160"/>
            <a:ext cx="116460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1" idx="2"/>
            <a:endCxn id="175" idx="2"/>
          </p:cNvCxnSpPr>
          <p:nvPr/>
        </p:nvCxnSpPr>
        <p:spPr>
          <a:xfrm flipH="1" rot="16200000">
            <a:off x="3006000" y="3158280"/>
            <a:ext cx="115272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5" idx="1"/>
            <a:endCxn id="163" idx="3"/>
          </p:cNvCxnSpPr>
          <p:nvPr/>
        </p:nvCxnSpPr>
        <p:spPr>
          <a:xfrm flipV="1" rot="16200000">
            <a:off x="3803760" y="3403800"/>
            <a:ext cx="44532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63" idx="2"/>
            <a:endCxn id="175" idx="2"/>
          </p:cNvCxnSpPr>
          <p:nvPr/>
        </p:nvCxnSpPr>
        <p:spPr>
          <a:xfrm flipH="1" rot="16200000">
            <a:off x="3365280" y="3518280"/>
            <a:ext cx="43380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3"/>
            <a:endCxn id="164" idx="3"/>
          </p:cNvCxnSpPr>
          <p:nvPr/>
        </p:nvCxnSpPr>
        <p:spPr>
          <a:xfrm flipV="1" rot="16200000">
            <a:off x="3924360" y="3932280"/>
            <a:ext cx="204120" cy="780120"/>
          </a:xfrm>
          <a:prstGeom prst="curvedConnector5">
            <a:avLst>
              <a:gd name="adj1" fmla="val -53886"/>
              <a:gd name="adj2" fmla="val 36149"/>
              <a:gd name="adj3" fmla="val -5388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64" idx="2"/>
            <a:endCxn id="175" idx="4"/>
          </p:cNvCxnSpPr>
          <p:nvPr/>
        </p:nvCxnSpPr>
        <p:spPr>
          <a:xfrm flipH="1" rot="16200000">
            <a:off x="4141440" y="3392280"/>
            <a:ext cx="72360" cy="2161080"/>
          </a:xfrm>
          <a:prstGeom prst="curvedConnector5">
            <a:avLst>
              <a:gd name="adj1" fmla="val 408500"/>
              <a:gd name="adj2" fmla="val 50000"/>
              <a:gd name="adj3" fmla="val 4085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5" idx="3"/>
            <a:endCxn id="165" idx="3"/>
          </p:cNvCxnSpPr>
          <p:nvPr/>
        </p:nvCxnSpPr>
        <p:spPr>
          <a:xfrm rot="5400000">
            <a:off x="3768120" y="4292280"/>
            <a:ext cx="51660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65" idx="2"/>
            <a:endCxn id="175" idx="4"/>
          </p:cNvCxnSpPr>
          <p:nvPr/>
        </p:nvCxnSpPr>
        <p:spPr>
          <a:xfrm flipH="1" flipV="1" rot="5400000">
            <a:off x="3853440" y="3751560"/>
            <a:ext cx="648360" cy="2161080"/>
          </a:xfrm>
          <a:prstGeom prst="curvedConnector5">
            <a:avLst>
              <a:gd name="adj1" fmla="val -35277"/>
              <a:gd name="adj2" fmla="val 50000"/>
              <a:gd name="adj3" fmla="val -3527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5" idx="3"/>
            <a:endCxn id="166" idx="3"/>
          </p:cNvCxnSpPr>
          <p:nvPr/>
        </p:nvCxnSpPr>
        <p:spPr>
          <a:xfrm rot="5400000">
            <a:off x="3443400" y="4617000"/>
            <a:ext cx="116604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66" idx="2"/>
            <a:endCxn id="175" idx="4"/>
          </p:cNvCxnSpPr>
          <p:nvPr/>
        </p:nvCxnSpPr>
        <p:spPr>
          <a:xfrm flipH="1" flipV="1" rot="5400000">
            <a:off x="3528720" y="4076280"/>
            <a:ext cx="1297440" cy="2161080"/>
          </a:xfrm>
          <a:prstGeom prst="curvedConnector5">
            <a:avLst>
              <a:gd name="adj1" fmla="val -7688"/>
              <a:gd name="adj2" fmla="val 50000"/>
              <a:gd name="adj3" fmla="val -7688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5" idx="3"/>
            <a:endCxn id="167" idx="3"/>
          </p:cNvCxnSpPr>
          <p:nvPr/>
        </p:nvCxnSpPr>
        <p:spPr>
          <a:xfrm rot="5400000">
            <a:off x="3083760" y="4976640"/>
            <a:ext cx="1884960" cy="78012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7" idx="2"/>
            <a:endCxn id="175" idx="4"/>
          </p:cNvCxnSpPr>
          <p:nvPr/>
        </p:nvCxnSpPr>
        <p:spPr>
          <a:xfrm flipH="1" flipV="1" rot="5400000">
            <a:off x="3169080" y="4435920"/>
            <a:ext cx="2016720" cy="2161080"/>
          </a:xfrm>
          <a:prstGeom prst="curvedConnector5">
            <a:avLst>
              <a:gd name="adj1" fmla="val -11337"/>
              <a:gd name="adj2" fmla="val 50000"/>
              <a:gd name="adj3" fmla="val -1133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9" idx="1"/>
            <a:endCxn id="175" idx="0"/>
          </p:cNvCxnSpPr>
          <p:nvPr/>
        </p:nvCxnSpPr>
        <p:spPr>
          <a:xfrm flipV="1" rot="10800000">
            <a:off x="5257080" y="2130840"/>
            <a:ext cx="1618560" cy="18010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75" idx="7"/>
            <a:endCxn id="168" idx="1"/>
          </p:cNvCxnSpPr>
          <p:nvPr/>
        </p:nvCxnSpPr>
        <p:spPr>
          <a:xfrm flipH="1" flipV="1" rot="5400000">
            <a:off x="5904360" y="3044880"/>
            <a:ext cx="116460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75" idx="6"/>
          </p:cNvCxnSpPr>
          <p:nvPr/>
        </p:nvCxnSpPr>
        <p:spPr>
          <a:xfrm rot="5400000">
            <a:off x="6354000" y="3158280"/>
            <a:ext cx="115272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5" idx="7"/>
            <a:endCxn id="170" idx="1"/>
          </p:cNvCxnSpPr>
          <p:nvPr/>
        </p:nvCxnSpPr>
        <p:spPr>
          <a:xfrm flipH="1" flipV="1" rot="5400000">
            <a:off x="6264000" y="3404520"/>
            <a:ext cx="44532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70" idx="2"/>
            <a:endCxn id="175" idx="6"/>
          </p:cNvCxnSpPr>
          <p:nvPr/>
        </p:nvCxnSpPr>
        <p:spPr>
          <a:xfrm rot="5400000">
            <a:off x="6713640" y="3518280"/>
            <a:ext cx="433800" cy="97236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75" idx="5"/>
            <a:endCxn id="171" idx="1"/>
          </p:cNvCxnSpPr>
          <p:nvPr/>
        </p:nvCxnSpPr>
        <p:spPr>
          <a:xfrm flipH="1" flipV="1" rot="5400000">
            <a:off x="6383880" y="3933000"/>
            <a:ext cx="204120" cy="778680"/>
          </a:xfrm>
          <a:prstGeom prst="curvedConnector5">
            <a:avLst>
              <a:gd name="adj1" fmla="val -58480"/>
              <a:gd name="adj2" fmla="val 36216"/>
              <a:gd name="adj3" fmla="val -584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71" idx="2"/>
            <a:endCxn id="175" idx="4"/>
          </p:cNvCxnSpPr>
          <p:nvPr/>
        </p:nvCxnSpPr>
        <p:spPr>
          <a:xfrm rot="5400000">
            <a:off x="6300720" y="3393000"/>
            <a:ext cx="72360" cy="2159640"/>
          </a:xfrm>
          <a:prstGeom prst="curvedConnector5">
            <a:avLst>
              <a:gd name="adj1" fmla="val 420000"/>
              <a:gd name="adj2" fmla="val 50000"/>
              <a:gd name="adj3" fmla="val 42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75" idx="5"/>
            <a:endCxn id="172" idx="1"/>
          </p:cNvCxnSpPr>
          <p:nvPr/>
        </p:nvCxnSpPr>
        <p:spPr>
          <a:xfrm flipH="1" rot="16200000">
            <a:off x="6227640" y="4293000"/>
            <a:ext cx="51660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72" idx="2"/>
            <a:endCxn id="175" idx="4"/>
          </p:cNvCxnSpPr>
          <p:nvPr/>
        </p:nvCxnSpPr>
        <p:spPr>
          <a:xfrm flipV="1" rot="16200000">
            <a:off x="6012720" y="3752280"/>
            <a:ext cx="648360" cy="2159640"/>
          </a:xfrm>
          <a:prstGeom prst="curvedConnector5">
            <a:avLst>
              <a:gd name="adj1" fmla="val -35277"/>
              <a:gd name="adj2" fmla="val 50000"/>
              <a:gd name="adj3" fmla="val -3527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75" idx="5"/>
            <a:endCxn id="173" idx="1"/>
          </p:cNvCxnSpPr>
          <p:nvPr/>
        </p:nvCxnSpPr>
        <p:spPr>
          <a:xfrm flipH="1" rot="16200000">
            <a:off x="5902920" y="4617720"/>
            <a:ext cx="116604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3" idx="2"/>
            <a:endCxn id="175" idx="4"/>
          </p:cNvCxnSpPr>
          <p:nvPr/>
        </p:nvCxnSpPr>
        <p:spPr>
          <a:xfrm flipV="1" rot="16200000">
            <a:off x="5688360" y="4077000"/>
            <a:ext cx="1297440" cy="2159640"/>
          </a:xfrm>
          <a:prstGeom prst="curvedConnector5">
            <a:avLst>
              <a:gd name="adj1" fmla="val -17624"/>
              <a:gd name="adj2" fmla="val 50000"/>
              <a:gd name="adj3" fmla="val -17624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75" idx="5"/>
            <a:endCxn id="174" idx="1"/>
          </p:cNvCxnSpPr>
          <p:nvPr/>
        </p:nvCxnSpPr>
        <p:spPr>
          <a:xfrm flipH="1" rot="16200000">
            <a:off x="5543640" y="4977360"/>
            <a:ext cx="1884960" cy="7786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74" idx="2"/>
            <a:endCxn id="175" idx="4"/>
          </p:cNvCxnSpPr>
          <p:nvPr/>
        </p:nvCxnSpPr>
        <p:spPr>
          <a:xfrm flipV="1" rot="16200000">
            <a:off x="5328720" y="4436640"/>
            <a:ext cx="2016720" cy="2159640"/>
          </a:xfrm>
          <a:prstGeom prst="curvedConnector5">
            <a:avLst>
              <a:gd name="adj1" fmla="val -11337"/>
              <a:gd name="adj2" fmla="val 50000"/>
              <a:gd name="adj3" fmla="val -1133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7956720" y="5500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ll Scheduler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8028000" y="6048360"/>
            <a:ext cx="1763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y Scheduler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4" name=""/>
          <p:cNvCxnSpPr>
            <a:stCxn id="175" idx="1"/>
            <a:endCxn id="162" idx="2"/>
          </p:cNvCxnSpPr>
          <p:nvPr/>
        </p:nvCxnSpPr>
        <p:spPr>
          <a:xfrm flipV="1" rot="16200000">
            <a:off x="2921760" y="2521800"/>
            <a:ext cx="1669320" cy="1320120"/>
          </a:xfrm>
          <a:prstGeom prst="curvedConnector5">
            <a:avLst>
              <a:gd name="adj1" fmla="val 52502"/>
              <a:gd name="adj2" fmla="val 50000"/>
              <a:gd name="adj3" fmla="val 525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75" idx="7"/>
            <a:endCxn id="169" idx="2"/>
          </p:cNvCxnSpPr>
          <p:nvPr/>
        </p:nvCxnSpPr>
        <p:spPr>
          <a:xfrm flipH="1" flipV="1" rot="5400000">
            <a:off x="5922720" y="2522160"/>
            <a:ext cx="1669320" cy="1319760"/>
          </a:xfrm>
          <a:prstGeom prst="curvedConnector5">
            <a:avLst>
              <a:gd name="adj1" fmla="val 52502"/>
              <a:gd name="adj2" fmla="val 49986"/>
              <a:gd name="adj3" fmla="val 525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700360" y="148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948360" y="1484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8101080" y="5429160"/>
            <a:ext cx="5032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8101080" y="59500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1916280"/>
            <a:ext cx="201600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re isn’t main function like Windows programming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here aren’t continuous procedures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ust depend on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“call scheduler” and “called by scheduler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4067280" y="1341360"/>
            <a:ext cx="2519280" cy="720720"/>
          </a:xfrm>
          <a:prstGeom prst="ellipse">
            <a:avLst/>
          </a:prstGeom>
          <a:solidFill>
            <a:srgbClr val="ffffff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S 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imes New Roman"/>
              </a:rPr>
              <a:t>Tracking Packet Processing 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357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2854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3862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365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48704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042920" y="537372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8784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6732720" y="3284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732720" y="2781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378936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6732720" y="4292640"/>
            <a:ext cx="108108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6732720" y="4797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6732720" y="530064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732720" y="5805360"/>
            <a:ext cx="1081080" cy="43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92360" y="2421000"/>
            <a:ext cx="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242100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80360" y="2420640"/>
            <a:ext cx="0" cy="41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348000" y="1844640"/>
            <a:ext cx="2376360" cy="5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32" name=""/>
          <p:cNvCxnSpPr>
            <a:stCxn id="214" idx="3"/>
            <a:endCxn id="231" idx="2"/>
          </p:cNvCxnSpPr>
          <p:nvPr/>
        </p:nvCxnSpPr>
        <p:spPr>
          <a:xfrm flipV="1">
            <a:off x="2124000" y="2133000"/>
            <a:ext cx="1224720" cy="937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13" idx="3"/>
            <a:endCxn id="231" idx="2"/>
          </p:cNvCxnSpPr>
          <p:nvPr/>
        </p:nvCxnSpPr>
        <p:spPr>
          <a:xfrm flipV="1">
            <a:off x="2124000" y="2133000"/>
            <a:ext cx="1224720" cy="1440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5" idx="3"/>
            <a:endCxn id="231" idx="2"/>
          </p:cNvCxnSpPr>
          <p:nvPr/>
        </p:nvCxnSpPr>
        <p:spPr>
          <a:xfrm flipV="1">
            <a:off x="2124000" y="2133360"/>
            <a:ext cx="1224720" cy="1945440"/>
          </a:xfrm>
          <a:prstGeom prst="curvedConnector5">
            <a:avLst>
              <a:gd name="adj1" fmla="val 49926"/>
              <a:gd name="adj2" fmla="val 4999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6" idx="3"/>
            <a:endCxn id="231" idx="2"/>
          </p:cNvCxnSpPr>
          <p:nvPr/>
        </p:nvCxnSpPr>
        <p:spPr>
          <a:xfrm flipV="1">
            <a:off x="2124000" y="2133000"/>
            <a:ext cx="1224720" cy="244836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7" idx="3"/>
            <a:endCxn id="231" idx="2"/>
          </p:cNvCxnSpPr>
          <p:nvPr/>
        </p:nvCxnSpPr>
        <p:spPr>
          <a:xfrm flipV="1">
            <a:off x="2124000" y="2133360"/>
            <a:ext cx="1224720" cy="2953440"/>
          </a:xfrm>
          <a:prstGeom prst="curvedConnector5">
            <a:avLst>
              <a:gd name="adj1" fmla="val 49926"/>
              <a:gd name="adj2" fmla="val 49993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8" idx="3"/>
            <a:endCxn id="231" idx="2"/>
          </p:cNvCxnSpPr>
          <p:nvPr/>
        </p:nvCxnSpPr>
        <p:spPr>
          <a:xfrm flipV="1">
            <a:off x="2124000" y="2133360"/>
            <a:ext cx="1224720" cy="3456720"/>
          </a:xfrm>
          <a:prstGeom prst="curvedConnector5">
            <a:avLst>
              <a:gd name="adj1" fmla="val 49926"/>
              <a:gd name="adj2" fmla="val 49994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31" idx="2"/>
          </p:cNvCxnSpPr>
          <p:nvPr/>
        </p:nvCxnSpPr>
        <p:spPr>
          <a:xfrm flipV="1">
            <a:off x="2124000" y="2133720"/>
            <a:ext cx="1224720" cy="3961080"/>
          </a:xfrm>
          <a:prstGeom prst="curvedConnector5">
            <a:avLst>
              <a:gd name="adj1" fmla="val 49926"/>
              <a:gd name="adj2" fmla="val 50000"/>
              <a:gd name="adj3" fmla="val 49926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1" idx="1"/>
            <a:endCxn id="231" idx="6"/>
          </p:cNvCxnSpPr>
          <p:nvPr/>
        </p:nvCxnSpPr>
        <p:spPr>
          <a:xfrm rot="10800000">
            <a:off x="5723640" y="2133000"/>
            <a:ext cx="1008720" cy="864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0" idx="1"/>
            <a:endCxn id="231" idx="6"/>
          </p:cNvCxnSpPr>
          <p:nvPr/>
        </p:nvCxnSpPr>
        <p:spPr>
          <a:xfrm rot="10800000">
            <a:off x="5723640" y="2133000"/>
            <a:ext cx="1008720" cy="1367280"/>
          </a:xfrm>
          <a:prstGeom prst="curvedConnector5">
            <a:avLst>
              <a:gd name="adj1" fmla="val 49910"/>
              <a:gd name="adj2" fmla="val 49986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2" idx="1"/>
            <a:endCxn id="231" idx="6"/>
          </p:cNvCxnSpPr>
          <p:nvPr/>
        </p:nvCxnSpPr>
        <p:spPr>
          <a:xfrm rot="10800000">
            <a:off x="5723640" y="2133000"/>
            <a:ext cx="1008720" cy="1872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3" idx="1"/>
            <a:endCxn id="231" idx="6"/>
          </p:cNvCxnSpPr>
          <p:nvPr/>
        </p:nvCxnSpPr>
        <p:spPr>
          <a:xfrm rot="10800000">
            <a:off x="5723640" y="2133000"/>
            <a:ext cx="1008720" cy="2375280"/>
          </a:xfrm>
          <a:prstGeom prst="curvedConnector5">
            <a:avLst>
              <a:gd name="adj1" fmla="val 49910"/>
              <a:gd name="adj2" fmla="val 49992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4" idx="1"/>
            <a:endCxn id="231" idx="6"/>
          </p:cNvCxnSpPr>
          <p:nvPr/>
        </p:nvCxnSpPr>
        <p:spPr>
          <a:xfrm rot="10800000">
            <a:off x="5723640" y="2133000"/>
            <a:ext cx="1008720" cy="2880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5" idx="1"/>
            <a:endCxn id="231" idx="6"/>
          </p:cNvCxnSpPr>
          <p:nvPr/>
        </p:nvCxnSpPr>
        <p:spPr>
          <a:xfrm rot="10800000">
            <a:off x="5723640" y="2133000"/>
            <a:ext cx="1008720" cy="338364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6" idx="1"/>
            <a:endCxn id="231" idx="6"/>
          </p:cNvCxnSpPr>
          <p:nvPr/>
        </p:nvCxnSpPr>
        <p:spPr>
          <a:xfrm rot="10800000">
            <a:off x="5723640" y="2133000"/>
            <a:ext cx="1008720" cy="3888360"/>
          </a:xfrm>
          <a:prstGeom prst="curvedConnector5">
            <a:avLst>
              <a:gd name="adj1" fmla="val 49910"/>
              <a:gd name="adj2" fmla="val 50000"/>
              <a:gd name="adj3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059280" y="14842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ust schedule Event and Packe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6227640" y="198900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rt of the Packet Schedul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407844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4005360"/>
            <a:ext cx="863640" cy="79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imes New Roman"/>
              </a:rPr>
              <a:t>There are Three Part of NS Simulation Codes</a:t>
            </a:r>
            <a:endParaRPr b="1" lang="en-US" sz="32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2492280"/>
            <a:ext cx="1727280" cy="3673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et ns [new Simulator]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Node-config ……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set node [$ns node]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at 1.0 “cbr start”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Times New Roman"/>
              </a:rPr>
              <a:t>$ns ru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2925720"/>
            <a:ext cx="1225800" cy="50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++ initiat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2349360"/>
            <a:ext cx="1225800" cy="505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Otcl initiat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322200" y="2276640"/>
            <a:ext cx="8353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14560" y="1700280"/>
            <a:ext cx="0" cy="46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924360" y="3355920"/>
            <a:ext cx="1944720" cy="1081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king Topolog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using element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156360" y="5661000"/>
            <a:ext cx="2808360" cy="649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++ are changed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process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4795920"/>
            <a:ext cx="2736720" cy="72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Otcl are changed </a:t>
            </a:r>
            <a:br>
              <a:rPr sz="1800"/>
            </a:br>
            <a:r>
              <a:rPr b="0" lang="ko-KR" sz="1800" spc="-1" strike="noStrike">
                <a:solidFill>
                  <a:srgbClr val="ffffff"/>
                </a:solidFill>
                <a:latin typeface="Times New Roman"/>
              </a:rPr>
              <a:t>by process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012000" y="1700280"/>
            <a:ext cx="0" cy="468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4581360"/>
            <a:ext cx="828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43000" y="3716280"/>
            <a:ext cx="97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of Node setup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244440" y="4797360"/>
            <a:ext cx="10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Level of Running 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313200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is level conforms that the Object Initiated state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08:15:05Z</dcterms:created>
  <dc:creator>묻지마</dc:creator>
  <dc:description/>
  <dc:language>en-US</dc:language>
  <cp:lastModifiedBy>User</cp:lastModifiedBy>
  <dcterms:modified xsi:type="dcterms:W3CDTF">2004-06-29T11:32:03Z</dcterms:modified>
  <cp:revision>50</cp:revision>
  <dc:subject/>
  <dc:title>Network Simulator 2  Source Code Analysis Method</dc:title>
</cp:coreProperties>
</file>