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2.gif" ContentType="image/gif"/>
  <Override PartName="/ppt/media/CelineDionPavarotti_IHateYouAndLoveYou.wav" ContentType="audio/x-wav"/>
  <Override PartName="/ppt/media/image3.gif" ContentType="image/gif"/>
  <Override PartName="/ppt/media/image12.jpeg" ContentType="image/jpeg"/>
  <Override PartName="/ppt/media/image24.gif" ContentType="image/gif"/>
  <Override PartName="/ppt/media/image21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3.gif" ContentType="image/gif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6C9-F61D-423A-BBB0-B30A623E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7F7-A5F9-4899-8130-A818A746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125-AE3E-4446-A57E-1DE6C921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299-6EBD-4F88-9510-E358BCDD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F33-F05F-4B48-8660-B082CFF5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DDC-A928-4930-83A0-4694C081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EDB-3998-4B64-BCC0-52BFB5A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907-ED6B-4A55-A4BC-5A817C39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268-61AB-453F-A9EE-9BA8A65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5AE-1461-4CEF-9CB4-A15D7B3B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5AD-A00D-4053-9E36-0796B9A6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90E-48D1-4202-B34C-D92AAF95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975A-CD7B-4782-9E26-3BC7A4827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CelineDionPavarotti_IHateYouAndLoveYou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76320">
            <a:solidFill>
              <a:srgbClr val="ff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omic"/>
              </a:rPr>
              <a:t>THE  MAGIC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8816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5877000"/>
            <a:ext cx="1781280" cy="5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51280" y="1989000"/>
            <a:ext cx="1800360" cy="1656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  <p:sndAc>
      <p:stSnd>
        <p:snd r:embed="rId4" name="CelineDionPavarotti_IHateYouAndLoveYo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55640" y="620640"/>
            <a:ext cx="7632720" cy="5616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 advTm="19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72120" y="482760"/>
            <a:ext cx="448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800" spc="-1" strike="noStrike">
                <a:solidFill>
                  <a:srgbClr val="000000"/>
                </a:solidFill>
                <a:latin typeface="Monotype Corsiva"/>
              </a:rPr>
              <a:t>The end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408720" cy="340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5229360"/>
            <a:ext cx="2663640" cy="1284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2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04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 advTm="7000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2648160" cy="4105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308720" y="5805360"/>
            <a:ext cx="1008360" cy="57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859280" y="1268280"/>
            <a:ext cx="3795840" cy="33116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5:49:01Z</dcterms:created>
  <dc:creator>will</dc:creator>
  <dc:description/>
  <dc:language>en-US</dc:language>
  <cp:lastModifiedBy>Smets</cp:lastModifiedBy>
  <dcterms:modified xsi:type="dcterms:W3CDTF">2010-01-09T06:20:29Z</dcterms:modified>
  <cp:revision>3</cp:revision>
  <dc:subject/>
  <dc:title>Dia 1</dc:title>
</cp:coreProperties>
</file>