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026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3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DD192477-A14B-4170-931C-35DC0DCAD839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3896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lvl="1" marL="1119240" indent="0" algn="ctr">
              <a:spcBef>
                <a:spcPts val="1100"/>
              </a:spcBef>
              <a:buNone/>
              <a:tabLst>
                <a:tab algn="l" pos="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ical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838080" y="1447920"/>
            <a:ext cx="762012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_x0019_3.1 InsulinPumpStruct.eps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1295280" y="1752480"/>
            <a:ext cx="68580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80880" y="1447920"/>
            <a:ext cx="838224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data-f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_x0016_3.2 InsulinPumpDFD.eps   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609480" y="1981080"/>
            <a:ext cx="784872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shall be available to deliver insulin when required to do 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shall perform reliability and deliver the correct amount of insulin to counteract the current level of blood sug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ssential safety requirement is that excessive doses of insulin should never be delivered as this is potentially life threat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pendability of a system equates to its trustworth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pendable system is a system that is trusted by its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 dimensions of dependability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il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609480" y="1523880"/>
            <a:ext cx="8077320" cy="441972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mensions of 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_x0018_3.3 DependDimensions.eps 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her dependability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i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extent to which the system can be repaired in the event of a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extent to which the system can be adapted to new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iv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extent to which the system can deliver services whilst under hostile attac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extent to which user input errors can be avoided and toler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ystem attribute that is concerned with the ease of repairing the system after a failure has been discovered or changing the system to include new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y important for critical systems as faults are often introduced into a system because of maintenance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tainability is distinct from other dimensions of dependability because it is a static and not a dynamic system attribute. I do not cover it in this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urviv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bility of a system to continue to deliver its services to users in the face of deliberate or accidental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an increasingly important attribute for distributed systems whose security can be compromi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rvivability subsumes the notion of resilience - the ability of a system to continue in operation in spite of component fail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pendability vs perform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rustworthy systems may be rejected by their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 failure costs may be very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very difficult to tune systems to make them more depend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may be possible to compensate for poo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rustworthy systems may cause loss of valuable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pendability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pendability costs tend to increase exponentially as increasing levels of dependability are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two reasons for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use of more expensive development techniques and hardware that are required to achieve the higher levels of depend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creased testing and system validation that is required to convince the system client that the required levels of dependability have been achie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what is meant by a critical system where system failure can have severe human or economic consequ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four dimensions of dependability - availability, reliability, safety and secur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at, to achieve dependability, you need to avoid mistakes, detect and remove errors and limit damage caused by fail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4"/>
          <p:cNvSpPr/>
          <p:nvPr/>
        </p:nvSpPr>
        <p:spPr>
          <a:xfrm>
            <a:off x="1447920" y="1447920"/>
            <a:ext cx="662940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sts of increasing 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3" descr="_x0019_3.4 CostDependability.eps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pendability eco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cause of very high costs of dependability achievement, it may be more cost effective to accept untrustworthy systems and pay for failur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, this depends on social and political factors. A reputation for products  that can’t be trusted may lose futur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pends on system type - for business systems in particular, modest levels of dependability may be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vailability and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bability of failure-free system operation over a specified time in a given environment for a given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bability that a system, at a point in time, will be operational and able to deliver the requeste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th of these attributes can be expressed quantitativ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vailability and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sometimes possible to subsume system availability under system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viously if a system is unavailable it is not delivering the specified system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, it is possible to have systems with low reliability that must be available. So long as system failures can be repaired quickly and do not damage data, low reliability may not be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ailability takes repair time into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termi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914400" y="1676520"/>
            <a:ext cx="7772400" cy="441936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Object 9"/>
          <p:cNvGraphicFramePr/>
          <p:nvPr/>
        </p:nvGraphicFramePr>
        <p:xfrm>
          <a:off x="457200" y="1752480"/>
          <a:ext cx="8153280" cy="42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15328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aults and fail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Failur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usually a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resul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system 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erro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are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deri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faul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faults do not necessarily result in system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ulty system state may be transient and ‘corrected’ before an error a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s do not necessarily lead to system fail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rror can be corrected by built-in error detection and recove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ilure can be protected against by built-in protection facilities. These may, for example, protect system resources from system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erceptions of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ormal definition of reliability does not always reflect the user’s perception of a system’s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ssumptions that are made about the environment where a system will be used may be incor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 of a system in an office environment is likely to be quite different from usage of the same system in a university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onsequences of system failures affects the perception of re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reliable windscreen wipers in a car may be irrelevant in a dry cli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lures that have serious consequences (such as an engine breakdown in a car) are given greater weight by users than failures that are inconven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achie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ult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velopment technique are used that either minimise the possibility of mistakes or trap mistakes before they result in the introduction of system fa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ult detection and rem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ification and validation techniques that increase the probability of detecting and correcting errors before the system goes into service are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ult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un-time techniques are used to ensure that system faults do not result in system errors and/or that system errors do not lead to system fail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can model a system as an input-output mapping where some inputs will result in erroneous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liability of the system is the probability that a particular input will lie in the set of inputs that cause erroneous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erent people will use the system in different ways so this probability is not a static system attribute but depends on the system’s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90720" y="1447920"/>
            <a:ext cx="739116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put/output map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_x0011_3.6 IOMapping.eps        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safety-cr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depend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 and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990720" y="1447920"/>
            <a:ext cx="739116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perce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_x0015_3.7 UsagePatterns.eps    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1905120" y="1905120"/>
            <a:ext cx="548640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impro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moving X% of the faults in a system will not necessarily improve the reliability by X%.  A study at IBM showed that removing 60% of product defects resulted in a 3% improvement i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gram defects may be in rarely executed sections of the code so may never be encountered by users. Removing these does not affect the perceived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rogram with known faults may therefore still be seen as reliable by its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fety is a property of a system that reflects the system’s ability to operate, normally or abnormally, without danger of causing human injury or death and without damage to the system’s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increasingly important to consider software safety as more and more devices incorporate software-based control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fety requirements are exclusive requirements i.e. they exclude undesirable situations rather than specify required system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mary safety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bedded software systems whose failure can cause the associated hardware to fail and directly threaten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ondary safety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ystems whose failure results in faults in other systems which can threaten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 here focuses on primary safety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ondary safety-critical systems can only be considered on a one-off b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 critic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fety and reliability are related but di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eneral, reliability and availability are necessary but not sufficient conditions for system saf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iability is concerned with conformance to a given specification and delivery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fety is concerned with ensuring system cannot cause damage irrespective of whether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 not it conforms to its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 and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 system specification is incorrect then the system can behave as specified but still cause an acc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rdware failures generating spurious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anticipate in the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-sensitive commands i.e. issuing the right command at the wrong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ten the result of operator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609480"/>
            <a:ext cx="8247240" cy="68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nsafe reliabl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 termi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533520" y="1676520"/>
            <a:ext cx="8229600" cy="464796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0"/>
          <p:cNvGraphicFramePr/>
          <p:nvPr/>
        </p:nvGraphicFramePr>
        <p:xfrm>
          <a:off x="838080" y="1752480"/>
          <a:ext cx="7467840" cy="44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46784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 achie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zard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some classes of hazard simply cannot arise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zard detection and rem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hazards are detected and removed before they result in an acc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mage lim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ncludes protection features that minimise the damage that may result from an acc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Normal accid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idents in complex systems rarely have a single cause as these systems are designed to be resilient to a single point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igning systems so that a single point of failure does not cause an accident is a fundamental principle of safe systems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most all accidents are a result of combinations of mal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probably the case that anticipating all problem combinations, especially, in software controlled systems is impossible so achieving complete safety is im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ecurity of a system is a system property that reflects the system’s ability to protect itself from accidental or deliberate external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curity is becoming increasingly important as systems are networked so that external access to the system through the Internet i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curity is an essential pre-requisite for availability, reliability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ica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results in loss of life, injury or damage to the environ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plant protection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on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results in failure of some goal-directed activ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 navigation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results in high economic loss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 accounting system in a ban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ndamental sec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 system is a networked system and is insecure then statements about its reliability and its safety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statements depend on the executing system and the developed system being the same. However, intrusion can change the executing system and/or it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reliability and safety assuranc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curity termi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5800" y="1676520"/>
            <a:ext cx="8077320" cy="441936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0"/>
          <p:cNvGraphicFramePr/>
          <p:nvPr/>
        </p:nvGraphicFramePr>
        <p:xfrm>
          <a:off x="1066680" y="1828800"/>
          <a:ext cx="7239240" cy="39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amage from insec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forced into a state where normal services are unavailable or where service provision is significantly degra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rruption of programs 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rograms or data in the system may be modified in an unauthorised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losure of confidenti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rmation that is managed by the system may be exposed to people who are not authorised to read or use tha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curity assu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ulnerability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vulnerabilities do not occur. For example, if there is no external network connection then external attack is im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tack detection and eli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attacks on vulnerabilities are detected and neutralised before they result in an exposure. For example, virus checkers find and remove viruses before they infect a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osure lim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the adverse consequences of a successful attack are minimised. For example, a backup policy allows damaged information to be resto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critical system is a system where failure can lead to high economic loss, physical damage or threats to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ependability in a system reflects the user’s trust in tha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vailability of a system is the probability that it will be available to deliver services when requ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liability of a system is the probability that system services will be delivered as spec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iability and availability are generally seen as necessary but not sufficient conditions for safety 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iability is related to the probability of an error occurring in operational use. A system with known faults may be rel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fety is a system attribute that reflects the system’s ability to operate without threatening people or the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urity is a system attribute that reflects the system’s ability to protect itself from external at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pendability improvement requires a socio-technical approach to design where you consider the humans as well as the hardware an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critical systems, it is usually the case that the most important system property is the dependability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ependabil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a system reflects the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ser’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egre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ru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at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yste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It reflects the extent of the user’s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fid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it will operate as users expect and that it will not ‘fail’ in normal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fulness and trustworthiness are not the same thing. A system does not have to be trusted to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ortance of 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that are not dependable and are unreliable, unsafe or insecure may be rejected by their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syste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l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be ve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pendable systems may caus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a high consequent recovery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6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velopment methods for critic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l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be used that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ost-eff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other types of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development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Fo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thods of software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xter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lity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o-technical critica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ardw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fails because of design and manufacturing errors or because components have reached the end of their natural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oftw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fails due to errors in its specification, design or imple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Opera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operators make mistakes. Now perhaps the largest single cause of system fail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c0128"/>
                </a:solidFill>
                <a:latin typeface="Arial"/>
              </a:rPr>
              <a:t>software-controll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insul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pu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 diabetics to simulate the function of the pancreas which manufactures insulin, an essential hormone that metabolises blood gluc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blood glucose (sugar) using a micro-sensor and computes the insulin dose required to metabolise the gluc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0T13:09:21Z</dcterms:created>
  <dc:creator>Ian Sommerville</dc:creator>
  <dc:description/>
  <cp:keywords/>
  <dc:language>en-US</dc:language>
  <cp:lastModifiedBy>Sammak</cp:lastModifiedBy>
  <cp:lastPrinted>1999-12-14T09:42:02Z</cp:lastPrinted>
  <dcterms:modified xsi:type="dcterms:W3CDTF">2012-02-09T22:19:03Z</dcterms:modified>
  <cp:revision>31</cp:revision>
  <dc:subject/>
  <dc:title>Critical Systems Engineering</dc:title>
</cp:coreProperties>
</file>