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First%20Day%20Of%20My%20Life%20%20(Melanie%20C)1.wav" ContentType="audio/x-wav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B2B-E87E-4350-B87E-4221D06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A48-C972-4C80-B17E-A32D1CF3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63D-E46B-4716-8F26-6C674CAD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086-0C7D-4C02-BBE3-A2D9A5D0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C8E-504D-4C56-A30B-1AFFF31C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898-498E-407D-AFBC-4A327FB7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CB9-9F9D-4BF9-8E6F-448DF40A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F73-28E2-4F27-AFC2-2D5494E6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2CD-ED7E-4A5B-A5FB-C229760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46D-AEDD-44F4-9F3E-6A53B88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686-F8F5-44B7-8226-A8CAC6F7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A63-9020-48CE-B594-3F9198E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295E-0FEF-4252-90B9-18E262290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irst%20Day%20Of%20My%20Life%20%20(Melanie%20C)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600" spc="-1" strike="noStrike">
                <a:solidFill>
                  <a:srgbClr val="ffffcc"/>
                </a:solidFill>
                <a:latin typeface="Calisto MT"/>
              </a:rPr>
              <a:t>First day of </a:t>
            </a:r>
            <a:br>
              <a:rPr sz="9600"/>
            </a:br>
            <a:r>
              <a:rPr b="0" lang="nl-BE" sz="9600" spc="-1" strike="noStrike">
                <a:solidFill>
                  <a:srgbClr val="ffffcc"/>
                </a:solidFill>
                <a:latin typeface="Calisto MT"/>
              </a:rPr>
              <a:t>my lif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56360" y="530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Melanie</a:t>
            </a:r>
            <a:r>
              <a:rPr b="0" i="1" lang="nl-BE" sz="2400" spc="-1" strike="noStrike">
                <a:solidFill>
                  <a:srgbClr val="ffffcc"/>
                </a:solidFill>
                <a:latin typeface="Calisto MT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6165720"/>
            <a:ext cx="749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317080" y="981000"/>
            <a:ext cx="0" cy="5112000"/>
          </a:xfrm>
          <a:prstGeom prst="line">
            <a:avLst/>
          </a:prstGeom>
          <a:ln w="698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84360" y="692280"/>
            <a:ext cx="763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49360"/>
            <a:ext cx="0" cy="59040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981000"/>
            <a:ext cx="7199280" cy="0"/>
          </a:xfrm>
          <a:prstGeom prst="line">
            <a:avLst/>
          </a:prstGeom>
          <a:ln w="698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85080" y="981000"/>
            <a:ext cx="0" cy="504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981000"/>
            <a:ext cx="0" cy="5112000"/>
          </a:xfrm>
          <a:prstGeom prst="line">
            <a:avLst/>
          </a:prstGeom>
          <a:ln w="698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6093000"/>
            <a:ext cx="7201080" cy="0"/>
          </a:xfrm>
          <a:prstGeom prst="line">
            <a:avLst/>
          </a:prstGeom>
          <a:ln w="698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6453360"/>
            <a:ext cx="799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675640" y="549360"/>
            <a:ext cx="0" cy="5904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49360"/>
            <a:ext cx="799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  <p:sndAc>
      <p:stSnd>
        <p:snd r:embed="rId1" name="First%20Day%20Of%20My%20Life%20%20(Melanie%20C)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8500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4067280" y="112536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at you’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No one has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But you just want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593640"/>
            <a:ext cx="8353440" cy="578808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423240" y="1916280"/>
            <a:ext cx="53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o’s gonna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is could be the first day of m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39640"/>
            <a:ext cx="8424720" cy="584208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420000" y="1484280"/>
            <a:ext cx="548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 first time you really feel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 first time to break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 first time to walk away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19480" y="714240"/>
            <a:ext cx="41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at you’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No one has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We just want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0400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12480" y="508464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 who’s gonna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is could be the first day of your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9299" b="0"/>
          <a:stretch/>
        </p:blipFill>
        <p:spPr>
          <a:xfrm>
            <a:off x="395280" y="476280"/>
            <a:ext cx="8353440" cy="592452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96360" y="5013360"/>
            <a:ext cx="41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at you’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No one has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y just want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3100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496320" y="5229360"/>
            <a:ext cx="53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o’s gonna shine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is could be the first day of m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00" y="59500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d66b00"/>
                </a:solidFill>
                <a:latin typeface="Calisto MT"/>
              </a:rPr>
              <a:t>pps-m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240" r="0" b="0"/>
          <a:stretch/>
        </p:blipFill>
        <p:spPr>
          <a:xfrm>
            <a:off x="395280" y="260280"/>
            <a:ext cx="8352000" cy="6280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92360" y="33336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So I found a reason to stay ali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ry a little h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See the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604872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622880" y="5084640"/>
            <a:ext cx="59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alking to my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oo many sleepless n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ry to find a meaning to these stupi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740" t="3767" r="2740" b="3828"/>
          <a:stretch/>
        </p:blipFill>
        <p:spPr>
          <a:xfrm>
            <a:off x="468360" y="333360"/>
            <a:ext cx="8353440" cy="612288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882520" y="1052640"/>
            <a:ext cx="56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I don’t want your sy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But sometimes I don’t know who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10" t="3369" r="2051" b="2843"/>
          <a:stretch/>
        </p:blipFill>
        <p:spPr>
          <a:xfrm>
            <a:off x="468360" y="404640"/>
            <a:ext cx="8353440" cy="6048720"/>
          </a:xfrm>
          <a:prstGeom prst="rect">
            <a:avLst/>
          </a:prstGeom>
          <a:ln w="7920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6000" y="2492280"/>
            <a:ext cx="41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at you’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No one has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y just want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04836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27600" y="5445000"/>
            <a:ext cx="53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o’s gonna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is could be the first day of m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9760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356720" y="515772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So I found a reason to let it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ell you that I’m sm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But I still need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538200"/>
            <a:ext cx="8424720" cy="584352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11280" y="4869000"/>
            <a:ext cx="53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sto MT"/>
              </a:rPr>
              <a:t>Will I find salvation in the arms of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sto MT"/>
              </a:rPr>
              <a:t>Will it stop me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sto MT"/>
              </a:rPr>
              <a:t>Really be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7499" t="2112" r="6596" b="0"/>
          <a:stretch/>
        </p:blipFill>
        <p:spPr>
          <a:xfrm>
            <a:off x="395280" y="549360"/>
            <a:ext cx="8353440" cy="593064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03120" y="5611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537372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I don’t want your sy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Sometimes I don’t know who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1:40:34Z</dcterms:created>
  <dc:creator>Mia</dc:creator>
  <dc:description/>
  <dc:language>en-US</dc:language>
  <cp:lastModifiedBy>Smets</cp:lastModifiedBy>
  <dcterms:modified xsi:type="dcterms:W3CDTF">2008-09-09T19:21:21Z</dcterms:modified>
  <cp:revision>4</cp:revision>
  <dc:subject/>
  <dc:title>First day of  my life</dc:title>
</cp:coreProperties>
</file>