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6AD-7E55-4477-99C3-EB3888E8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B04-0AAA-4E18-A8E8-C6040FDE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EAF-6454-46FA-9ADE-68BC18FE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6F1-8A00-4B41-A93E-4E8C0FB0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EF7-5F91-485C-BCB3-39F38FB2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BA8-F854-4E3E-BBFF-F3DFAAA7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CD16-7B32-42D4-8EBE-79A24687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D87-C486-4008-9710-936A02ED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6D85-EFC3-459C-81B4-1FB3C064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F18-E5C1-4D65-BBC7-939248F4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2DF-DD17-4BD4-909B-8AA2B3B2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8B23-82F7-4560-94AB-26B3631D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93D4-2357-43A9-BC4F-7D439EC1E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840" y="-23760"/>
            <a:ext cx="912816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90720" y="1676520"/>
            <a:ext cx="7315200" cy="36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Bảng đơn vị đo độ dài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914400"/>
            <a:ext cx="5334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oán 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1438200" y="6340320"/>
            <a:ext cx="276480" cy="446400"/>
          </a:xfrm>
          <a:custGeom>
            <a:avLst/>
            <a:gdLst/>
            <a:ahLst/>
            <a:rect l="l" t="t" r="r" b="b"/>
            <a:pathLst>
              <a:path w="769" h="1242">
                <a:moveTo>
                  <a:pt x="4762" y="17611"/>
                </a:moveTo>
                <a:lnTo>
                  <a:pt x="4762" y="17611"/>
                </a:lnTo>
              </a:path>
              <a:path w="769" h="1242">
                <a:moveTo>
                  <a:pt x="3994" y="18579"/>
                </a:moveTo>
                <a:lnTo>
                  <a:pt x="3994" y="18579"/>
                </a:lnTo>
              </a:path>
              <a:path w="769" h="1242">
                <a:moveTo>
                  <a:pt x="4614" y="18579"/>
                </a:moveTo>
                <a:lnTo>
                  <a:pt x="4614" y="18579"/>
                </a:lnTo>
              </a:path>
              <a:path w="769" h="1242">
                <a:moveTo>
                  <a:pt x="4093" y="18852"/>
                </a:moveTo>
                <a:lnTo>
                  <a:pt x="4093" y="18852"/>
                </a:lnTo>
              </a:path>
              <a:path w="769" h="1242">
                <a:moveTo>
                  <a:pt x="4614" y="18852"/>
                </a:moveTo>
                <a:lnTo>
                  <a:pt x="4614" y="18852"/>
                </a:lnTo>
              </a:path>
            </a:pathLst>
          </a:custGeom>
          <a:noFill/>
          <a:ln cap="rnd" w="3492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82840" y="6330960"/>
            <a:ext cx="231840" cy="115920"/>
          </a:xfrm>
          <a:custGeom>
            <a:avLst/>
            <a:gdLst/>
            <a:ahLst/>
            <a:rect l="l" t="t" r="r" b="b"/>
            <a:pathLst>
              <a:path w="645" h="323">
                <a:moveTo>
                  <a:pt x="4762" y="17587"/>
                </a:moveTo>
                <a:cubicBezTo>
                  <a:pt x="4708" y="17587"/>
                  <a:pt x="4728" y="17608"/>
                  <a:pt x="4688" y="17611"/>
                </a:cubicBezTo>
                <a:cubicBezTo>
                  <a:pt x="4639" y="17615"/>
                  <a:pt x="4583" y="17632"/>
                  <a:pt x="4539" y="17661"/>
                </a:cubicBezTo>
                <a:cubicBezTo>
                  <a:pt x="4458" y="17715"/>
                  <a:pt x="4410" y="17699"/>
                  <a:pt x="4316" y="17735"/>
                </a:cubicBezTo>
                <a:cubicBezTo>
                  <a:pt x="4221" y="17783"/>
                  <a:pt x="4192" y="17800"/>
                  <a:pt x="4118" y="17785"/>
                </a:cubicBezTo>
              </a:path>
              <a:path w="645" h="323">
                <a:moveTo>
                  <a:pt x="4242" y="17909"/>
                </a:moveTo>
                <a:cubicBezTo>
                  <a:pt x="4325" y="17909"/>
                  <a:pt x="4407" y="17909"/>
                  <a:pt x="4490" y="17909"/>
                </a:cubicBezTo>
              </a:path>
            </a:pathLst>
          </a:custGeom>
          <a:noFill/>
          <a:ln cap="rnd" w="3492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00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 rot="2696400">
            <a:off x="2819160" y="16765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219320" y="533520"/>
            <a:ext cx="7086600" cy="6605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33720" y="2819520"/>
            <a:ext cx="4876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33680" y="2843280"/>
            <a:ext cx="40766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Chúc sức khỏe thầy c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269960" y="6858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4479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iểm tra bài c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2286000"/>
            <a:ext cx="458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290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iền số thích hợp vào ô trố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356400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hm = …. 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hm = ….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3639960"/>
            <a:ext cx="3124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hm   = …. 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dam = ….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5193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04960" y="42051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365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4267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69960" y="7761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8840" y="2590920"/>
            <a:ext cx="645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ãy nêu những đơn vị đo độ dài đã họ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8480" y="342900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7280" y="341784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9400" y="34290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92880" y="3429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1880" y="342900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9600" y="344340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5080" y="344340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68580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69960" y="6094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304920" y="2666880"/>
          <a:ext cx="9144000" cy="3413160"/>
        </p:xfrm>
        <a:graphic>
          <a:graphicData uri="http://schemas.openxmlformats.org/drawingml/2006/table">
            <a:tbl>
              <a:tblPr/>
              <a:tblGrid>
                <a:gridCol w="1447920"/>
                <a:gridCol w="1295280"/>
                <a:gridCol w="1176480"/>
                <a:gridCol w="1566720"/>
                <a:gridCol w="1371600"/>
                <a:gridCol w="1143000"/>
                <a:gridCol w="1143000"/>
              </a:tblGrid>
              <a:tr h="685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106560" y="342900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85000" y="342900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3440" y="34290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19560" y="34290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23480" y="342900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34160" y="3429000"/>
            <a:ext cx="6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4680" y="3429000"/>
            <a:ext cx="9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160" y="4038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68280" y="4038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22600" y="40384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d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560" y="4038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59640" y="4038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88320" y="40384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228600" y="457200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 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0 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4572000"/>
            <a:ext cx="12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4572000"/>
            <a:ext cx="116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 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0040" y="457200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45720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4572000"/>
            <a:ext cx="13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 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= 10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828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ớn hơn mé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2819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é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48360" y="2666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hỏ hơn mé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262200">
            <a:off x="1828800" y="914400"/>
            <a:ext cx="549576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Tiết :44 Bảng đơn vị đo độ dài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066680" y="685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541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685800"/>
            <a:ext cx="838188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ứ năm ngày 17 tháng 10 năm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Tiết 44: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Bảng đơn vị đo độ 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19191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ài 1: Số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5720" y="2819520"/>
            <a:ext cx="348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km = …     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km = .…. 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m = …... 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hm  =…….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dam=…….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43160" y="2819520"/>
            <a:ext cx="3245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m = ……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m = ……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 = ..….. 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dm=……..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cm=……..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98560" y="6858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4880" y="1096920"/>
            <a:ext cx="57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iết 44: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Bảng đơn vị đo độ 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1828800"/>
            <a:ext cx="762120" cy="609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152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ứ năm ngày 17 tháng 10 năm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5720" y="2819520"/>
            <a:ext cx="348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km = …     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km = .…. 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m = …... 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hm =…….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dam =…….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43160" y="2819520"/>
            <a:ext cx="3245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m = ……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  m = ……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 = ..….. 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dm=……..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cm=……..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920" y="2743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3200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3657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27432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3276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3657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4038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44956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4114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269960" y="6094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106668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iết 44: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Bảng đơn vị đo độ 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10920" y="204624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ài 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 Số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61360" y="2884320"/>
            <a:ext cx="283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8hm    =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…........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9 hm  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……..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7dam 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…….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3 dam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…….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9760" y="2819520"/>
            <a:ext cx="315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m    =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…….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 m   =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…….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cm  =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…….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 dm =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……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3352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88620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5040" y="3809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4191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3276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8620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2057400"/>
            <a:ext cx="762120" cy="609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2819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4114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191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269960" y="7002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iết 44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: Bảng đơn vị đo độ 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5520" y="1905120"/>
            <a:ext cx="37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ài 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 Tính (theo mẫ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2590920"/>
            <a:ext cx="3581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32 dam x 3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6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3320" y="3494160"/>
            <a:ext cx="212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5 m   x 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5 km x 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4cm x6  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2590920"/>
            <a:ext cx="32004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96 cm : 3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30640" y="3581280"/>
            <a:ext cx="207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6 hm : 3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0 km : 7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5dm  :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64080" y="350352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83480" y="3581280"/>
            <a:ext cx="12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5791320"/>
            <a:ext cx="5867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3886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3533760"/>
            <a:ext cx="13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2 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343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4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441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9296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33520"/>
            <a:ext cx="84582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ứ năm ngày 17 tháng 10 năm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To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Tiết 44: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Bảng đơn vị đo độ 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2:21:08Z</dcterms:created>
  <dc:creator>Bao Phi</dc:creator>
  <dc:description/>
  <dc:language>en-US</dc:language>
  <cp:lastModifiedBy>User</cp:lastModifiedBy>
  <dcterms:modified xsi:type="dcterms:W3CDTF">2013-10-17T10:49:22Z</dcterms:modified>
  <cp:revision>51</cp:revision>
  <dc:subject/>
  <dc:title>Slide 1</dc:title>
</cp:coreProperties>
</file>