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5.gif" ContentType="image/gif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A967-DCEE-4EE6-AF1B-BBDC84CF5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03D3-621D-4E7E-B599-4A6C6C682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519C-546D-41E4-B9BF-C492ED36E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D136-7559-483F-8F7B-B88835613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E17C-0AD9-4BA0-B383-9291C3666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0ACD-E877-46DB-ABD6-4F35757EE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FA04-1B56-49A5-BC5D-E5980C76B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219D-2742-42E8-B53D-6AF24D88E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8ECC-F372-4317-B7A5-4DA910D6B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599B-ECA1-400F-AB94-137A3237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ACA0-34EB-4DC4-816B-3544DF21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6481-C7B3-4D95-B945-54CF40E5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DFC99-E8B0-4B0B-BEB7-F7BA98EA9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840" y="-23760"/>
            <a:ext cx="9128160" cy="6881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990720" y="1676520"/>
            <a:ext cx="7315200" cy="361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Bảng đơn vị đo độ dài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143000" y="914400"/>
            <a:ext cx="53341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oán 3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/>
          <p:nvPr/>
        </p:nvSpPr>
        <p:spPr>
          <a:xfrm>
            <a:off x="1438200" y="6340320"/>
            <a:ext cx="276480" cy="446400"/>
          </a:xfrm>
          <a:custGeom>
            <a:avLst/>
            <a:gdLst/>
            <a:ahLst/>
            <a:rect l="l" t="t" r="r" b="b"/>
            <a:pathLst>
              <a:path w="769" h="1242">
                <a:moveTo>
                  <a:pt x="4762" y="17611"/>
                </a:moveTo>
                <a:lnTo>
                  <a:pt x="4762" y="17611"/>
                </a:lnTo>
              </a:path>
              <a:path w="769" h="1242">
                <a:moveTo>
                  <a:pt x="3994" y="18579"/>
                </a:moveTo>
                <a:lnTo>
                  <a:pt x="3994" y="18579"/>
                </a:lnTo>
              </a:path>
              <a:path w="769" h="1242">
                <a:moveTo>
                  <a:pt x="4614" y="18579"/>
                </a:moveTo>
                <a:lnTo>
                  <a:pt x="4614" y="18579"/>
                </a:lnTo>
              </a:path>
              <a:path w="769" h="1242">
                <a:moveTo>
                  <a:pt x="4093" y="18852"/>
                </a:moveTo>
                <a:lnTo>
                  <a:pt x="4093" y="18852"/>
                </a:lnTo>
              </a:path>
              <a:path w="769" h="1242">
                <a:moveTo>
                  <a:pt x="4614" y="18852"/>
                </a:moveTo>
                <a:lnTo>
                  <a:pt x="4614" y="18852"/>
                </a:lnTo>
              </a:path>
            </a:pathLst>
          </a:custGeom>
          <a:noFill/>
          <a:ln cap="rnd" w="3492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82840" y="6330960"/>
            <a:ext cx="231840" cy="115920"/>
          </a:xfrm>
          <a:custGeom>
            <a:avLst/>
            <a:gdLst/>
            <a:ahLst/>
            <a:rect l="l" t="t" r="r" b="b"/>
            <a:pathLst>
              <a:path w="645" h="323">
                <a:moveTo>
                  <a:pt x="4762" y="17587"/>
                </a:moveTo>
                <a:cubicBezTo>
                  <a:pt x="4708" y="17587"/>
                  <a:pt x="4728" y="17608"/>
                  <a:pt x="4688" y="17611"/>
                </a:cubicBezTo>
                <a:cubicBezTo>
                  <a:pt x="4639" y="17615"/>
                  <a:pt x="4583" y="17632"/>
                  <a:pt x="4539" y="17661"/>
                </a:cubicBezTo>
                <a:cubicBezTo>
                  <a:pt x="4458" y="17715"/>
                  <a:pt x="4410" y="17699"/>
                  <a:pt x="4316" y="17735"/>
                </a:cubicBezTo>
                <a:cubicBezTo>
                  <a:pt x="4221" y="17783"/>
                  <a:pt x="4192" y="17800"/>
                  <a:pt x="4118" y="17785"/>
                </a:cubicBezTo>
              </a:path>
              <a:path w="645" h="323">
                <a:moveTo>
                  <a:pt x="4242" y="17909"/>
                </a:moveTo>
                <a:cubicBezTo>
                  <a:pt x="4325" y="17909"/>
                  <a:pt x="4407" y="17909"/>
                  <a:pt x="4490" y="17909"/>
                </a:cubicBezTo>
              </a:path>
            </a:pathLst>
          </a:custGeom>
          <a:noFill/>
          <a:ln cap="rnd" w="3492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86800" cy="64008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 rot="2696400">
            <a:off x="2819160" y="167652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1219320" y="533520"/>
            <a:ext cx="7086600" cy="66056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133720" y="2819520"/>
            <a:ext cx="4876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533680" y="2843280"/>
            <a:ext cx="407664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Chúc sức khỏe thầy cô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pull dir="d"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269960" y="68580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To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44792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Kiểm tra bài c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2286000"/>
            <a:ext cx="4587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2900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iền số thích hợp vào ô trố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3564000"/>
            <a:ext cx="3048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hm = …. d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hm = ….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181480" y="3639960"/>
            <a:ext cx="3124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hm   = …. d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dam = …. 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43200" y="351936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04960" y="420516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629400" y="36576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29400" y="42670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269960" y="77616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To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68840" y="2590920"/>
            <a:ext cx="645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ãy nêu những đơn vị đo độ dài đã họ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68480" y="3429000"/>
            <a:ext cx="65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07280" y="3417840"/>
            <a:ext cx="67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669400" y="342900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d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92880" y="342900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1880" y="3429000"/>
            <a:ext cx="67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d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259600" y="3443400"/>
            <a:ext cx="65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75080" y="3443400"/>
            <a:ext cx="7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-685800" y="-304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269960" y="6094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To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-304920" y="2666880"/>
          <a:ext cx="9144000" cy="3413160"/>
        </p:xfrm>
        <a:graphic>
          <a:graphicData uri="http://schemas.openxmlformats.org/drawingml/2006/table">
            <a:tbl>
              <a:tblPr/>
              <a:tblGrid>
                <a:gridCol w="1447920"/>
                <a:gridCol w="1295280"/>
                <a:gridCol w="1176480"/>
                <a:gridCol w="1566720"/>
                <a:gridCol w="1371600"/>
                <a:gridCol w="1143000"/>
                <a:gridCol w="1143000"/>
              </a:tblGrid>
              <a:tr h="685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213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</a:tbl>
          </a:graphicData>
        </a:graphic>
      </p:graphicFrame>
      <p:sp>
        <p:nvSpPr>
          <p:cNvPr id="70" name=""/>
          <p:cNvSpPr/>
          <p:nvPr/>
        </p:nvSpPr>
        <p:spPr>
          <a:xfrm>
            <a:off x="106560" y="3429000"/>
            <a:ext cx="65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85000" y="3429000"/>
            <a:ext cx="67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93440" y="342900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d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219560" y="342900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23480" y="3429000"/>
            <a:ext cx="67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d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34160" y="3429000"/>
            <a:ext cx="65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924680" y="3429000"/>
            <a:ext cx="9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5160" y="40384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 k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268280" y="403848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 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622600" y="403848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 d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35560" y="403848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 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659640" y="40384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888320" y="403848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-228600" y="4572000"/>
            <a:ext cx="162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= 10 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= 100 d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= 100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81480" y="4572000"/>
            <a:ext cx="123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= 10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= 10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4572000"/>
            <a:ext cx="116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= 10 d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= 10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620040" y="4572000"/>
            <a:ext cx="11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= 1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90920" y="457200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= 1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33920" y="4572000"/>
            <a:ext cx="135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= 10 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= 100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= 100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38280" y="26668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ớn hơn mé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91120" y="28195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é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48360" y="26668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hỏ hơn mé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4038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1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 rot="262200">
            <a:off x="1828800" y="914400"/>
            <a:ext cx="5495760" cy="13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Tiết :44 Bảng đơn vị đo độ dài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pull dir="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1066680" y="6857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541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685800"/>
            <a:ext cx="8381880" cy="30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ứ năm ngày 17 tháng 10 năm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                              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To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Tiết 44: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 Bảng đơn vị đo độ dà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371600" y="191916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ài 1: Số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15720" y="2819520"/>
            <a:ext cx="3486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1  km = …     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1  km = .….  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99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hm = …... d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1  hm  =…….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1dam=……. 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43160" y="2819520"/>
            <a:ext cx="3245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1  m = ……d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1  m = ……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99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 = ..….. 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1dm=……..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1cm=……..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98560" y="68580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To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54880" y="1096920"/>
            <a:ext cx="576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Tiết 44: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 Bảng đơn vị đo độ dà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38280" y="1828800"/>
            <a:ext cx="762120" cy="6094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76520" y="15228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ứ năm ngày 17 tháng 10 năm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15720" y="2819520"/>
            <a:ext cx="3486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1  km = …     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1  km = .….  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99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hm = …... d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1  hm =…….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1dam =……. 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943160" y="2819520"/>
            <a:ext cx="3245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1  m = ……d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1  m = ……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99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 = ..….. 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1dm=……..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1cm=……..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920" y="27432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743200" y="32004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19520" y="36576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00800" y="27432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324480" y="32767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00800" y="36576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19520" y="40384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19520" y="44956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24480" y="41148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248520" y="45720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269960" y="6094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To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05120" y="106668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Tiết 44: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 Bảng đơn vị đo độ dà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10920" y="2046240"/>
            <a:ext cx="191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Bài 2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: Số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61360" y="2884320"/>
            <a:ext cx="283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8hm    = 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…........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9 hm   =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……..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7dam  =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…….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3 dam =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…….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49760" y="2819520"/>
            <a:ext cx="3152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8m    =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……..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d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6 m   =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……..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8cm  =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……..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4 dm =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…….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895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43200" y="33526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9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66880" y="388620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5040" y="3809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66880" y="4191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72200" y="2895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72200" y="3276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3886200"/>
            <a:ext cx="838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7220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958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666880" y="2057400"/>
            <a:ext cx="762120" cy="6094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43200" y="28195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43200" y="41148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95880" y="4191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04920" y="4572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269960" y="70020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To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828800" y="10666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iết 44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: Bảng đơn vị đo độ dà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45520" y="1905120"/>
            <a:ext cx="376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ài 3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: Tính (theo mẫ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62120" y="2590920"/>
            <a:ext cx="3581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32 dam x 3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6d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3320" y="3494160"/>
            <a:ext cx="2129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25 m   x 2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5 km x 4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34cm x6  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029200" y="2590920"/>
            <a:ext cx="32004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96 cm : 3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2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030640" y="3581280"/>
            <a:ext cx="207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6 hm : 3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0 km : 7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5dm  : 5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764080" y="3503520"/>
            <a:ext cx="107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0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783480" y="3581280"/>
            <a:ext cx="124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0 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371600" y="0"/>
            <a:ext cx="754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09680" y="5791320"/>
            <a:ext cx="58676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19520" y="3886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0 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934320" y="3533760"/>
            <a:ext cx="132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2 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43200" y="43434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4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0" y="4419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d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9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8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240" y="609480"/>
            <a:ext cx="92962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533520"/>
            <a:ext cx="845820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ứ năm ngày 17 tháng 10 năm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                             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To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Tiết 44: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 Bảng đơn vị đo độ dà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02:21:08Z</dcterms:created>
  <dc:creator>Bao Phi</dc:creator>
  <dc:description/>
  <dc:language>en-US</dc:language>
  <cp:lastModifiedBy>User</cp:lastModifiedBy>
  <dcterms:modified xsi:type="dcterms:W3CDTF">2013-10-17T10:49:22Z</dcterms:modified>
  <cp:revision>51</cp:revision>
  <dc:subject/>
  <dc:title>Slide 1</dc:title>
</cp:coreProperties>
</file>