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A2B-323E-46EE-853D-9BFEAAD3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213-F804-458E-893A-986307E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358-4E70-45AA-8E09-CF39DFA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D0E-3B82-4F16-9E0B-8F464418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FA0-25AA-4578-A007-368D0BC2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3F1-369E-4C2E-AA4F-33340E30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2C1-AA41-4C71-9424-F29159C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490-BF16-4C91-905A-2EB26DC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98F-F849-4DE3-B8A8-2593F0F6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A5E-E96A-47B8-889C-B9A2B282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2D4-0C3B-4829-891E-5AAB934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A53-8223-431F-AB93-B828D53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6F2D4-ED9A-41E5-B626-0A677D1CF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5EEEB-53BC-44B9-9F38-7E462DD6232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8:05:26Z</dcterms:created>
  <dc:creator>최봉수</dc:creator>
  <dc:description/>
  <dc:language>en-US</dc:language>
  <cp:lastModifiedBy>군만두 맛있다</cp:lastModifiedBy>
  <dcterms:modified xsi:type="dcterms:W3CDTF">2023-07-12T06:01:29Z</dcterms:modified>
  <cp:revision>2</cp:revision>
  <dc:subject/>
  <dc:title>슬라이드 1</dc:title>
</cp:coreProperties>
</file>