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7B3-F92A-44B4-8C5E-E5F70727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CB6-41FC-43F1-879F-5295AD06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4A6-7FE0-4438-9EA8-DD44D5E9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BA2-6D27-47A5-B1F0-EE89D07B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C74-6818-4D2F-997B-73440E04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BA5-2F74-4FB4-932B-5ADECD04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BCD-BFC6-4E8F-9618-75FA459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768-114E-4CE2-9F56-E7F46BCB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A00-FE35-4F4F-BC83-74D8848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EF2-315F-465E-AEE9-3C00A8D4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D43-977B-4E04-BE8F-530DAD16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3EF-EFC4-4228-A922-C1E472B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9950D-B0F3-4097-922F-27DA76DEE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40B35-4D62-437E-AE4D-F4D35AA6372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8:05:26Z</dcterms:created>
  <dc:creator>최봉수</dc:creator>
  <dc:description/>
  <dc:language>en-US</dc:language>
  <cp:lastModifiedBy>군만두 맛있다</cp:lastModifiedBy>
  <dcterms:modified xsi:type="dcterms:W3CDTF">2023-07-12T06:01:29Z</dcterms:modified>
  <cp:revision>2</cp:revision>
  <dc:subject/>
  <dc:title>슬라이드 1</dc:title>
</cp:coreProperties>
</file>