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F04-3D0D-4DDF-9BDA-B62D15F6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747-5A2D-462B-B419-D5138234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F2D-F232-487C-8DDC-D5DDEB72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264-E474-4D2E-BA44-3E96C8C9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E9A-5CD9-4286-8B5B-9620445D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A04-A3EA-499F-9DAA-CB3A2BD1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27F-BEB0-433E-9AA3-7885CD05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16F-1A7B-4D50-B4A6-2770762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E70-3741-4C9D-AFE5-8F36B04F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99F-8F34-475F-84E1-D510B8F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B1E-5D37-4438-9259-01B82C38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DBE-2B71-4533-B829-71CF710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43AB-3290-4AFE-B4DA-B070E1A4C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75040" y="0"/>
            <a:ext cx="49939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75040" y="0"/>
            <a:ext cx="49939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494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75040" y="0"/>
            <a:ext cx="49939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21040" y="0"/>
            <a:ext cx="510048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2896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6:18:32Z</dcterms:created>
  <dc:creator>MAITHAM</dc:creator>
  <dc:description/>
  <dc:language>en-US</dc:language>
  <cp:lastModifiedBy>MAITHAM</cp:lastModifiedBy>
  <dcterms:modified xsi:type="dcterms:W3CDTF">2004-08-14T06:24:47Z</dcterms:modified>
  <cp:revision>9</cp:revision>
  <dc:subject/>
  <dc:title>الشريحة 1</dc:title>
</cp:coreProperties>
</file>