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1C0-FEBC-4DDF-844B-46098F7E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E17-0A03-434A-AFD3-313B7B4E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DBF-B5F6-4964-90FE-C2FB71CF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798-BCF2-4FBC-A1E6-9D7027CF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DC1-42B8-402B-8323-C80AC37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ABC-EFAD-4F57-B909-AAB6253C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02D-5140-4FD0-86A1-70B06D3F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857-5B11-4840-B8F8-94E40F9A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2D7-1208-47D4-B3E0-5D0F421A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AC1-0651-44B8-BD86-9697217C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07B-87D7-49DE-AFAA-CBBBF243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614-57AE-4B70-AC2E-EEEE5AE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CA5-2A73-417D-BF06-CC14AD42A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75040" y="0"/>
            <a:ext cx="49939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75040" y="0"/>
            <a:ext cx="49939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494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75040" y="0"/>
            <a:ext cx="49939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2104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4804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2896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6:18:32Z</dcterms:created>
  <dc:creator>MAITHAM</dc:creator>
  <dc:description/>
  <dc:language>en-US</dc:language>
  <cp:lastModifiedBy>MAITHAM</cp:lastModifiedBy>
  <dcterms:modified xsi:type="dcterms:W3CDTF">2004-08-14T06:24:47Z</dcterms:modified>
  <cp:revision>9</cp:revision>
  <dc:subject/>
  <dc:title>الشريحة 1</dc:title>
</cp:coreProperties>
</file>