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3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ftr" idx="3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sldNum" idx="3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222-7981-4D66-9FFF-9DCDBA00DA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A850-AA61-4FAB-ADD2-1E1304AF2DA5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6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6C6B-5AAA-4057-959C-BFC5AD99C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9C23-6A92-4830-A64F-68D31F60C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F01F-EF95-4FCB-8A50-1E1BBA537D16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6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D4C-3F9F-4AD5-A292-FE48BE2B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BCC-8F73-48E4-9838-C6928D52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BC55D-E5EB-4BE9-94F9-0DC4A838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421C7-CF08-446C-8B18-DE9275E9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85755-B245-4F12-BB7B-4B1452FF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08E1F-1189-4B18-B48C-FE01E847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CF6E6-C0A3-454E-8CC0-9E86A73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4B4AD-BCC4-4D0F-AC62-6EA57C6E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3AA86-99F1-4CA1-984A-B44E6447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3BCB7-E74D-4CCD-8849-96B7140B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07992-5A70-4DE7-8566-90598C99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070BB-A5D5-4948-9367-F710F2CE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991-E844-4B86-96E5-A73B6F47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B2FDE-DA08-44E0-83D0-C375B586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5898D-74AC-49E7-8777-A0D8FA41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4202E-D30E-4ACF-A670-44F3F3FC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24346-8C28-4119-9115-48B9743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E1D7F-6CBC-4167-A026-EBB37BDD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67A32-C8C5-4AEC-9A90-326C9F1C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9C54B-A51A-4C0B-9F7B-396A518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38D8B-FFA5-4010-A3CC-BB5D704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AF25E-1F26-40A0-9460-A5084DFA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9A8F1-4A0D-4A5A-B541-994174B7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890-E9F7-475D-8EF5-659C7A47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62F01-CF7C-4130-A03C-D501D47C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AC5F-A84B-45B7-99F1-8E40A50C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5022-30C3-4244-9C2D-BB19F754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5451-3FED-4BB7-8FC7-0BF390B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C485-C7C5-44BA-AF99-D105E03F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2A60-6F37-4C64-85AD-83C63E2F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C13-9379-4F52-B7B6-344C444A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8C8A-90AE-4DFA-9D78-3A4A987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FC6-B063-46E9-B5A0-AC16C409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356B-57E8-414C-95EC-C7EEEF2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AD4-5CE5-42DB-80BB-680199B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8A5E-C7E7-4528-9FA9-D7772D3B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231E-5199-4D51-AF41-ED83281A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1152-E921-483A-960B-CBEC0CB8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7FA4-1A74-415F-9C75-00FC291B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2864-8C46-49D0-85B9-46A91070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1AAED-D0F5-4334-9348-3C7CBDEA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761A-FC47-4118-8007-F733F95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64D4-9D03-4657-873E-6213CB35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6EE-BEB4-4470-8EC5-A5806CCB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D5EE-2A2F-44DA-A197-FC6B0F1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CA02-CA3A-4EAC-8C89-94E88012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42EF-DF15-4010-9F49-80B5C2B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1625-52D8-42EE-A8F8-4599B0C6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E13D5-EE74-40A7-A0BF-3C41F998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C3A5-87D0-45BC-BDAB-37729146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2969-8BDF-4FB2-94AA-78F40EAE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6AEDC-AC1C-4539-8B88-4F33D45E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2A6C-56FE-4A46-ABBF-93039F1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37F5-2508-472E-A961-17E17CD7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6D3-D3B3-42FE-8D58-58E179B4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BDA4-29D4-488D-8A4B-63446C4D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CAEEA-0B10-4920-8FA1-5912284E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A102-4731-419D-9238-92B16CC1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23AD-1C47-4982-AB1F-675F16F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86E0-FADD-4908-8BFC-1AF16886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22CF-08B0-467D-AED2-B30DCCA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66B6D-0529-4C68-B641-31293FDE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5BED2-9DFD-4868-83A2-6C51791B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E22C-8C31-49CD-A76F-ACC0BC3B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28B2-5F85-40EC-8F91-14D13A76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92D-A4DF-4966-8216-B608FC3B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59CFC-A5B1-4AFE-BEEF-89987A7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DC51-D011-40B6-9E1E-25400565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382A-A850-4657-9B7B-B9A2BD64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BB0C-C669-4192-A02D-F7038297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E87A-E7C0-41F9-A42D-C43419A0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1182F-604E-4960-B2CE-A2355F4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E7201-3E19-47E4-982E-4DEA689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2937-4A72-4AE0-A89A-929280F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9FC28-A253-4229-9FEE-5A79BCE6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9724E-A087-43D9-9C0B-3E8C3C86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FCE-F944-4454-A32A-A3F1EF63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9D0EC-9930-467F-9A9A-6E458FA8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2922-0270-4AA4-86C8-C166D474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6C02-7F20-443F-891C-23C8559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C3F84-2BAC-4E72-888C-6070C765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00891-CFD0-44FE-9261-EEFCB1A4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A666-6FEB-4E0B-AD4B-2CC5A95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C40A-1031-42DA-AD35-48E97400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E73A2-8821-48C5-8B19-81DBFD52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5FFB1-E393-47A3-9B88-C0B826A2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D69B-D1BD-4240-8D0C-3F7AF8A2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395-A5A6-494C-87A5-631950C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536CC-44F5-4964-905E-6C3C134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1C8B-A79C-4B8E-9D84-8B7C0F90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73D9-9C76-4EEA-8EC7-18263A7D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67E6D-DF57-456B-AA23-2F6C4A29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87D2A-3436-4D07-AE86-6DB6E29B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2DF89-27AE-4B44-A5D3-E53C0C9D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12FDA-C821-4E87-9602-EA6A8750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7CF1-44A7-4A3F-BF6D-698C251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21A41-0698-4D94-81AC-7782E603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3BAF4-977C-48ED-AB0D-BD741625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ED7-EDDD-44AD-9352-E8F7481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8200B-8035-4717-B960-2AE2A6A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912C6-FAC6-4A96-8A3F-66AF2DE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87538-DBFA-43BB-A615-BB688CB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5C06-EC12-4816-A8C8-2293B9F5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E5DF-D6E5-4B62-84AC-95AF586E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E9B2-3940-4949-8E22-EF987796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6E87B-4174-4C4D-93AD-9913E304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3F858-D970-4964-B35E-7C3FA44D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F4F09-FFC3-46AF-8712-ED086459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15D49-D497-4726-8D24-6F776A45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DA7-93CE-4300-A7DB-BC65DCCE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EEF9C-2097-4079-AAC8-0552FDFB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E26C8-3EB2-48C5-A98E-F5F1B9C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8F57-0268-4C67-BEE8-16FC593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FB499-B3B8-48B2-BC61-CEB2DED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A533E-094B-453D-A555-E94A34F6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8429E-0331-4FFB-B827-DF37516B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6498F-4B76-4B70-AA74-8D3554E6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ED110-41D7-4DF8-91D4-46CFF266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99DCA-9097-424C-A329-6111FFE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EF2CE-CEB6-44D7-A04B-ACF60E6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Ing. Ronald Ponguillo Intri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DCBD-1935-42AE-A5E0-1486890B3146}" type="slidenum"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414840" y="637704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596520" y="6366960"/>
            <a:ext cx="1981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3E7-2DFD-44EC-86E1-BA9673BA6559}" type="slidenum">
              <a:rPr b="0" lang="es-EC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ponguil@espol.edu.e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ponguil@espol.edu.ec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485640" y="123660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92144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SEÑO DE SISTEMA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GITALE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EYAG1007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00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FACULTAD DE INGENIERIA EN ELECTRICIDAD Y COMPUTAC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896-A421-4592-ABC1-C1A2F4E45C12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PRUEBAS DE MÓDULOS RECONFIGURABLES Y REUTILIZABL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C74F-344B-43BF-8F1E-46ACC17DCF86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UNIDAD 8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72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DISEÑO DE CORES CON LENGUAJES 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Bookman Old Style"/>
              </a:rPr>
              <a:t>DESCRIPCIÓN DE HARD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mas a tratar… 4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SEÑO DE MÓDULOS RECONFIGURABLES Y REUTILIZABL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UEBAS DE MÓDULOS RECONFIGURABLES Y REUTILIZAB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4 Marcador de pie de página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4 Marcador de número de diapositiva"/>
          <p:cNvSpPr/>
          <p:nvPr/>
        </p:nvSpPr>
        <p:spPr>
          <a:xfrm>
            <a:off x="611280" y="63770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AA98-B343-4140-AD2D-0F3138973E0C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DISEÑO DE MÓDULOS RECONFIGURABLES Y REUTILIZABL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FFFB-1AB0-494E-95BC-2D6946AABB87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Imagen 1" descr=""/>
          <p:cNvPicPr/>
          <p:nvPr/>
        </p:nvPicPr>
        <p:blipFill>
          <a:blip r:embed="rId1"/>
          <a:stretch/>
        </p:blipFill>
        <p:spPr>
          <a:xfrm>
            <a:off x="541440" y="1197000"/>
            <a:ext cx="80629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0" name="Marcador de contenido 1" descr=""/>
          <p:cNvPicPr/>
          <p:nvPr/>
        </p:nvPicPr>
        <p:blipFill>
          <a:blip r:embed="rId1"/>
          <a:stretch/>
        </p:blipFill>
        <p:spPr>
          <a:xfrm>
            <a:off x="1781280" y="1219320"/>
            <a:ext cx="5581440" cy="4937040"/>
          </a:xfrm>
          <a:prstGeom prst="rect">
            <a:avLst/>
          </a:prstGeom>
          <a:ln w="0">
            <a:noFill/>
          </a:ln>
        </p:spPr>
      </p:pic>
      <p:sp>
        <p:nvSpPr>
          <p:cNvPr id="46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96A4-6381-4A64-964B-D119F4FB838F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4" name="Marcador de contenido 1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  <p:sp>
        <p:nvSpPr>
          <p:cNvPr id="465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F5D2-CE0B-441E-9FD9-B29B152222EE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66FB-E160-4A03-99C2-5D0C9B186678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CDD9-4CF2-49C7-8FCB-8F932402C653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D69-4E5C-4992-9089-3F17EA9AF66B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23:13:01Z</dcterms:created>
  <dc:creator>Ronald</dc:creator>
  <dc:description/>
  <dc:language>en-US</dc:language>
  <cp:lastModifiedBy>Ronald Alberto Ponguillo Intriago</cp:lastModifiedBy>
  <dcterms:modified xsi:type="dcterms:W3CDTF">2017-07-14T04:21:56Z</dcterms:modified>
  <cp:revision>253</cp:revision>
  <dc:subject/>
  <dc:title>Introducción a los Sistemas Digitales</dc:title>
</cp:coreProperties>
</file>