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DAMENTOS DE ROBOT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dt" idx="3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ftr" idx="3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g. Ronald Ponguillo Intri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 type="sldNum" idx="3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F3EC-9D8B-48F4-8A09-DB706528B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encabezado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NDAMENTOS DE ROBOT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4 Marcador de fecha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9546-0BD7-461C-8AD7-D7E4A1B074F8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5 Marcador de pie de página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g. Ronald Ponguillo Intria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6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494F-F306-4DB3-987D-C7722137E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A085-9631-41B1-A99C-31637D6EF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4 Marcador de fecha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5564-3304-4DA9-B7EE-684214837849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5 Marcador de pie de página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g. Ronald Ponguillo Intria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6 Marcador de encabezado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NDAMENTOS DE ROBOT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D630-CB1F-4D25-95FA-11A6D3BC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24C-89E7-4523-928A-D320E1CE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CDE62-04CC-461D-BB17-59A01CBE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7A248-2C3A-4BB9-9282-417BADBA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693EB-FD6C-4FEF-9EC8-1FEB0FE8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2E0E1-434E-4619-8486-B243A4EF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8743D-A02C-4882-B34E-4BFD1111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50C4B-E820-466A-9ADB-446F9DE2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B959B-A627-4718-8FDC-115D564E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F190E-6ED7-4838-944C-F6825A4C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9D6BA-4EE8-4897-8F91-A061FC76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B4486-71F8-46B0-A94E-58FC67EF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48F-2A49-4BC4-A027-34C3A0FC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8B865-9D46-4110-BF10-1F467BAA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004F6-2897-423F-AE1E-F8444A14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81C6B-86D5-4273-90BA-CAA753FF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026C8-8994-4928-9284-E2E7C374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6273D-463E-4470-A1B4-5A9823B8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0F6FB-7EC6-420D-A7D2-B810C487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841B8-2336-4121-87D4-947FC959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DAD90-875B-41B1-A999-CF5C5315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8BBEE-ED61-4EC2-8D66-CE602D41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D86D7-C7DF-4198-AA31-4CA841B4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02C-CA5B-4F43-85DF-E2B4763D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C8E17-C4D2-4289-88F8-6E5BE084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FE18-2591-4D12-AE87-5F7BF13B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CE30-DA50-4258-B063-18A0F1BA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2CB7-599D-4DB2-A300-EC2D3DD9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51A3-3F5A-46E1-B581-84887FC7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DE0A-B199-4E9F-AE8F-95D337AD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7554-0112-444C-8B20-A316FC37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61CB-98B4-4416-94EA-E447710E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79F-D509-4454-A6A8-FB65E62F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763C-4AFA-4962-90C1-59930D47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8775-80FB-43CC-84D3-B7BAA90C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1922-F2CA-4405-9C5B-CF059D9F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3DBB-0A3F-47C4-8E57-08A55E68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204D-7220-4BB9-9BCF-7908927C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8C249-BC91-4161-BE9D-534EEE7E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8F9ED-E9C2-440B-B4AB-5879B765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419C3-5C55-48A0-8D20-C53EEAD6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698C9-E0D4-4DA6-8EDA-68EF925F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44A29-2D2E-4A35-B1EC-F35AEDC4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F4A-DD31-4287-935B-4DCDB70F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0FB5-0070-4E8D-9DB3-4B79CC61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51401-9A59-4027-B556-C2E5AF92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4A3C8-62B8-44C1-8551-A1463794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E4A50-6E92-40CB-BF9F-C42D69FB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FA1B0-AA32-499A-A12F-91365DD5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3708-D59D-4246-BFA1-EAAF692E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2D35F-61E5-4E7C-B873-BA0E4F2A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466F3-A699-4881-A622-EF986695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102E0-540B-4AE1-835D-91EE087C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A82CD-AFA1-4BD5-B2B3-9E812F22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3CD-7960-4CC2-BD83-BF1C5D05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ACF23-549B-4895-83DE-8C509B35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1B4F5-A0CA-41ED-A5D1-DB20C17C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0FE75-E988-41C7-925C-FB06BC5C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5B41-F2F2-4ED2-BAC1-A3567D3E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D9F72-E9BB-466B-ACC7-1293FBE5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5F0F8-7A93-4DC2-85DF-B3745C50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A0168-DD07-4BD5-9328-BDE69318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5CA15-CCB1-4D34-B789-8EFC1FDF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9D417-9544-45E3-9E95-F53319D0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D255D-A9C3-4BD2-9D17-FA97B1F7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907-FED1-45E1-B8DF-B4C5AB17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20309-64EE-4A10-84F9-9A842C3B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399F8-A356-40B9-9EEF-4401E471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72581-D6F4-40ED-8E30-252015F4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11DB0-F0E1-4096-9190-16D3CBA4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07BA7-96B1-4B83-B399-C0F379E4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32E64-38F2-4632-A570-DA68C954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8E0DE-71FA-4F44-AA22-CF691E89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D23A3-F3B0-4007-B059-F1107E69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4AE0C-A1E4-4DB6-9E04-D6905901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70BA1-54B9-4B7E-BFFE-46020ED5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2F2-F610-4C80-A23F-0391A57E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EE61A-BA78-4C95-8687-C58462D0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7F0C1-EF0C-4297-8753-638D9B7B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6D236-F15F-41F7-AFD5-36532577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91A3A-4793-4F49-B698-4E9782D1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455A8-1632-4E44-93E9-16180914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3C411-312E-46E5-AA8F-43A75F39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ECE2B-6EDC-4A91-948E-AED90278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CBAB2-F75E-47D4-AC8F-8BB8247E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B2B49-F31B-42C3-BB3D-82E70C67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B6681-7610-47FE-B066-4EFE344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0FE-38FE-49CD-947E-AAEEB68D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B2DC7-2054-450B-80EA-81A4D43A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898E2-F5F6-47BE-B568-28CCA573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958C0-566A-4B18-8084-B5B7715F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ADD87-37F6-40AE-9874-AB1A42B9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4ED25-27F1-4B44-B72A-596EA83D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63B19-DD6D-4F33-9068-ECC462D4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DB2D2-FB6C-488D-810F-49D980C9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69C39-EDD5-4AE9-890C-B281D794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A1E3E-F512-483D-A4DB-884E2562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B4D13-C868-4851-9F24-CF1C1DA4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986-EC61-4082-A241-875945D2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80A80-60EF-43AD-B256-FA3F9572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F2EF2-98B8-4721-957E-918A774B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65CEC-69FC-4D5C-9198-CA24FA87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0B1A1-AEEA-468C-8873-C6627BA0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98178-92D6-4407-AD97-61C1D61E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E2755-A47B-4525-BBBB-F500DFA9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5154C-73AC-4D44-92BC-68DD1DF7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78B77-0D51-4DD1-81A9-EB071B43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EDBF8-D715-4677-B4AE-0C358E84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46C67-4CD0-43BE-84EB-A53DE4DC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496-1F06-4E70-AB0F-90E27067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99025-7AED-4A74-9544-E4210259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8DEB8-C021-4C73-B8D4-334AB0C8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864D5-AED5-4A1E-B2F1-11968EED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E73FC-ABED-40AB-8B8A-E70922CC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23D47-F529-449E-8A24-70590CD4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E4D5B-9996-4970-A807-CC6160B8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E3469-F4DD-4700-BA99-63DB96BB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4B417-330D-4869-8B8D-069DAE73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8D1C9-7138-4C54-8BFE-40435EDC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5C026-8C26-4B33-AF09-EC5684B6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Times New Roman"/>
              </a:rPr>
              <a:t>Ing. Ronald Ponguillo Intri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14E8-AF5B-4E35-8594-AC474AF77733}" type="slidenum">
              <a:rPr b="0" lang="es-EC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414840" y="637704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596520" y="6366960"/>
            <a:ext cx="1981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DC97-EC5C-470F-BC29-51CB5DDBEB0D}" type="slidenum">
              <a:rPr b="0" lang="es-EC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ponguil@espol.edu.e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rponguil@espol.edu.ec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485640" y="123660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92144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Bookman Old Style"/>
              </a:rPr>
              <a:t>DISEÑO DE SISTEMAS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Bookman Old Style"/>
              </a:rPr>
              <a:t>DIGITALES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Bookman Old Style"/>
              </a:rPr>
              <a:t>EYAG1007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42640" y="3643200"/>
            <a:ext cx="70009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FACULTAD DE INGENIERIA EN ELECTRICIDAD Y COMPUTAC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1143000" y="50688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. Ronald Ponguillo Intri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b292ca"/>
                </a:solidFill>
                <a:uFillTx/>
                <a:latin typeface="Arial"/>
                <a:hlinkClick r:id="rId2"/>
              </a:rPr>
              <a:t>rponguil@espol.edu.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83C1-3FB0-4BF3-BD5B-B35E5BCE0946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PRUEBAS DE MÓDULOS RECONFIGURABLES Y REUTILIZABLE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6B37-4B50-4284-ABB3-9EA8B8655683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14240" y="12139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Bookman Old Style"/>
              </a:rPr>
              <a:t>UNIDAD 8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142640" y="3643200"/>
            <a:ext cx="70722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Bookman Old Style"/>
              </a:rPr>
              <a:t>DISEÑO DE CORES CON LENGUAJES 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Bookman Old Style"/>
              </a:rPr>
              <a:t>DESCRIPCIÓN DE HARD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TextBox 5"/>
          <p:cNvSpPr/>
          <p:nvPr/>
        </p:nvSpPr>
        <p:spPr>
          <a:xfrm>
            <a:off x="1143000" y="50688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. Ronald Ponguillo Intri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b292ca"/>
                </a:solidFill>
                <a:uFillTx/>
                <a:latin typeface="Arial"/>
                <a:hlinkClick r:id="rId1"/>
              </a:rPr>
              <a:t>rponguil@espol.edu.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emas a tratar… 4h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DISEÑO DE MÓDULOS RECONFIGURABLES Y REUTILIZABL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UEBAS DE MÓDULOS RECONFIGURABLES Y REUTILIZABL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4 Marcador de pie de página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4 Marcador de número de diapositiva"/>
          <p:cNvSpPr/>
          <p:nvPr/>
        </p:nvSpPr>
        <p:spPr>
          <a:xfrm>
            <a:off x="611280" y="63770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F90A-4AE7-4AF3-BA60-0DC21C48A14C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DISEÑO DE MÓDULOS RECONFIGURABLES Y REUTILIZABLE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6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D6EE-A7EC-4CDE-8151-5B174145A41C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Imagen 1" descr=""/>
          <p:cNvPicPr/>
          <p:nvPr/>
        </p:nvPicPr>
        <p:blipFill>
          <a:blip r:embed="rId1"/>
          <a:stretch/>
        </p:blipFill>
        <p:spPr>
          <a:xfrm>
            <a:off x="541440" y="1197000"/>
            <a:ext cx="80629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0" name="Marcador de contenido 1" descr=""/>
          <p:cNvPicPr/>
          <p:nvPr/>
        </p:nvPicPr>
        <p:blipFill>
          <a:blip r:embed="rId1"/>
          <a:stretch/>
        </p:blipFill>
        <p:spPr>
          <a:xfrm>
            <a:off x="1781280" y="1219320"/>
            <a:ext cx="5581440" cy="4937040"/>
          </a:xfrm>
          <a:prstGeom prst="rect">
            <a:avLst/>
          </a:prstGeom>
          <a:ln w="0">
            <a:noFill/>
          </a:ln>
        </p:spPr>
      </p:pic>
      <p:sp>
        <p:nvSpPr>
          <p:cNvPr id="461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6A12-3FF1-4CB5-92EB-EE790CEBDB9C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4" name="Marcador de contenido 1" descr="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  <p:sp>
        <p:nvSpPr>
          <p:cNvPr id="465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4DE4-9695-47ED-A836-2DD08C25F965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686D-460E-4931-AAE1-23F0687C7FA4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3A23-BC86-4E9A-8733-A8E474078950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2E40-7232-407E-A997-B1E9DFF73F48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23:13:01Z</dcterms:created>
  <dc:creator>Ronald</dc:creator>
  <dc:description/>
  <dc:language>en-US</dc:language>
  <cp:lastModifiedBy>Ronald Alberto Ponguillo Intriago</cp:lastModifiedBy>
  <dcterms:modified xsi:type="dcterms:W3CDTF">2017-07-14T04:21:56Z</dcterms:modified>
  <cp:revision>253</cp:revision>
  <dc:subject/>
  <dc:title>Introducción a los Sistemas Digitales</dc:title>
</cp:coreProperties>
</file>