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ACD-2EAC-4067-9330-FF5E2DC5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6B7-F48F-48C0-A4B0-C8C90AAE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F71-D90B-4BA1-B4FF-512CAC0C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C03-4A75-4981-8B14-A99A607A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427-9E45-45BF-9E43-CD20ADA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FA6-E411-413A-B088-A373F68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39B-B453-4673-AB18-913F1BC4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685-8ED4-4983-93AB-65FE1432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BC6-526C-4C66-A1D2-4A5E3BD2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0B5-80BC-48BF-802A-320D713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719-384B-49CF-9C37-22C016E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BF3-FCAB-4BFD-90D6-CDAD89F4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E82-5839-4347-9E2E-5BDB4E7F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pb67/strasbourg&amp;page=2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crdp-strasbourg.fr/imageEcole/strbgCiel/index.php?page=0&amp;contexte=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base.com/pb67/strasbourg&amp;page=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pb67/strasbourg&amp;page=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base.com/pb67/strasbourg&amp;page=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galsace.org/BD_ORTHO_2002/zoom_detaille/0998-2413.htm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pb67/strasbourg&amp;page=2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r l’espace urbain par le développement durable 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 janvier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5013360"/>
            <a:ext cx="612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trasbour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Strasbourg : quartier de Cronenbourg - Cité nucléai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1308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6012000" y="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451640" y="0"/>
            <a:ext cx="1513080" cy="113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59680" y="0"/>
            <a:ext cx="184320" cy="120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4653000"/>
            <a:ext cx="303048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91160"/>
            <a:ext cx="3059280" cy="1620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32036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797360"/>
            <a:ext cx="1079640" cy="2037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12000" y="5083200"/>
            <a:ext cx="2808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Strasbourg"/>
          <p:cNvPicPr/>
          <p:nvPr/>
        </p:nvPicPr>
        <p:blipFill>
          <a:blip r:embed="rId2"/>
          <a:stretch/>
        </p:blipFill>
        <p:spPr>
          <a:xfrm>
            <a:off x="0" y="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763640" y="1197000"/>
            <a:ext cx="392760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68360" y="1125360"/>
            <a:ext cx="719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35280" y="1557360"/>
            <a:ext cx="2665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2000" y="2491920"/>
            <a:ext cx="1871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0" y="3428640"/>
            <a:ext cx="442764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délisatr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vi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ntre-périphér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ec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odèle polycen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31956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trasbour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16000" y="3428640"/>
            <a:ext cx="442764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délisatr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vi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ntre-périphér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ec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odèle polycen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Strasbourg : quartier de Cronenbourg - Cité nucléaire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Strasbourg : le centre ville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82760" cy="244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564000" y="0"/>
            <a:ext cx="2541600" cy="357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3280" y="3429000"/>
            <a:ext cx="4500720" cy="359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me espac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différenciations sociales au sein de l’espace urb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processus : évitement, sécession urbaine, relégation, gent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cohésion/fragmentation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rasbourg : le centre ville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Strasbourg : quartier de Cronenbourg - Cité nucléair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3429000"/>
            <a:ext cx="4500720" cy="359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me espac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différenciations sociales au sein de l’espace urb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processus : évitement, sécession urbaine, relégation, gent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cohésion/fragmentation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3357720"/>
            <a:ext cx="4572000" cy="36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comme objet de civi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ville préindustrielle, du X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pensée fonctionnaliste, spécialisation fonctionnelle des périph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contre-urbanisation pavill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recherche d’une urbanité centrale, reconquête des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68421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4836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12000" y="450684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jeux : performance, avantages compara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ités positiv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is, qualification, marché, services, logistique,  échanges informels, cadre d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ités négatives : encombrement, coût du foncier, crise urbaine, problèmes d’infrastruc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046920" y="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305928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0" y="451008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76640"/>
            <a:ext cx="9144000" cy="240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ises, collectivités, individus « rar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stratégies globalement conv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urbaine (concurrence) et intra-urbaine (localisation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articulation par les espaces fonctionnels (zonages, flux) et recherche d’amé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684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04692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916360" y="451008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cial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jeux : cohésion sociale (ville inclusive), inégalités réduites, pas d’ex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 qualité de vie : urbanité, cadre de vie, cohésion sociale, espace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iter la fragmentation socio-spatiale : coût du logement, stratégies résidentielles des catégories supérieures (évitement, sécession, gentrifiction), relégation des plus pauvres, crise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562640"/>
            <a:ext cx="3058920" cy="229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370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601200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084720" y="459108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276640"/>
            <a:ext cx="9144000" cy="282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s, secteur immobilier, collectivités (affectation des terra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stratégies concurrentes, comportements diver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er, rue pour l’individu / agglomération ou aire urbaine pour les pouvoirs publ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opposition des enjeux de niveau scalaire diffé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échelles de la v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oix de l’intra-urbain comme cadre d’é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mais ne pas isoler la ville du reste de son environnement, forcément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62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4537080"/>
            <a:ext cx="3095280" cy="232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987640" y="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6012000" y="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nement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jeux : coût environnemental, nuisances, écosystèmes, équilibres plané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ût environnemental  : les « inputs » (énergie, carburants, artificialisation…), les « outputs » (polluants, GES, santé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acité environnementale de la ville : densité/proximité/diversité, mobilités douces, consommation d’énergie, formes de l’habit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05928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276640"/>
            <a:ext cx="9144000" cy="282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nement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Action convergente négative (pas de gain, chacun « pour soi ») sauf prise de conscience ou enjeu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(injonct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local (NIMBY…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lomération (arbitr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complexité des interdépendances, nécessités d’une construction intelle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: quelques difficultés pour aborder le 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trois termes ne sont pas au même niveau dans les jeux d’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acteurs ont des stratégies complexes et paradox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échelles sont rarement articu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 : quelques difficultés pour aborder le 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asser l’arbre qui cache le carbone ou l’exc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développement durable ne peut se lire à l’aune de l’agrément d’un 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er une lecture systémique syst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espace comme entrée pour déjouer les mirages technologiques (motorisation ou maison à 100 000 €) ou les illusions analytiques (transport, loge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-Lire la ville par le développement durable : quel cadre conceptue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veloppement durable et pensée urba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harte d'Aalborg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NU habitat : the smart gr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297320"/>
                <a:gridCol w="4846320"/>
              </a:tblGrid>
              <a:tr h="461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ion de points de vue entre les Chartes d'Athènes et d'Aalbo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te d'Athènes (193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te d'Aalborg (199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Principe de la table 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Attitude patrimonia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Partir de l'existant et le mettre en 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2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Abstraction de l'architecture par rapport au contexte environnant (historique, géographique, culturel, écologique) Style inter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Insertion du bâti dans un environnement multidimensionne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Diversité architectur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Zon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Mixité fonctionnelle et politiques transvers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Fluidification de la circulation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Séparation des circu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Réduction de la mobilité contrain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Reconquête de la voirie par tous les modes de trans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Urbanisme d'experts Géométrisation et rationalisation de la vi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Urbanisme participatif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Singularité des ré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Quels caractères pour une ville dur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identité, patrimoine, urban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ntexte, particula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mpacité, renouvellement/ét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mixités social et fonctionnelles, proxim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logiques de localisation, mo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projet collectif, gou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un horizon à redéfinir indéfin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’après Cyria Emelia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-Lecture de la ville par le développement durable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che par type d’e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trasbour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centre-vi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cadre urbain et patrimoine, paysage, mobilité douce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ensité, peu de verdure, eaux de surface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attractivité (aménités, culture, image, densité...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coût du foncier, flu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urbanité, espace publ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gentrification : risque de fragmentation social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Strasbourg : quartier de Cronenbourg - Cité nucléaire"/>
          <p:cNvPicPr/>
          <p:nvPr/>
        </p:nvPicPr>
        <p:blipFill>
          <a:blip r:embed="rId1"/>
          <a:stretch/>
        </p:blipFill>
        <p:spPr>
          <a:xfrm>
            <a:off x="0" y="-46080"/>
            <a:ext cx="4572000" cy="343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3376440"/>
            <a:ext cx="4643280" cy="3481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anlieu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pace aéré, dense moindre, verd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éplacements importants, paysage peu apprécié (subjectif), coût énergé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ones d'activité, performance, spécialisation, flux pos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éplacements, vieillissement préc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ement ,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fférenciation sociale forte, dégradation, relégation, espaces publics  à l'abandon, crise urb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échelles de la ville. Le choix de l’intra-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r la v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&gt; La ville au sens large (par ex, aire urb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space périur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dre de vie rural magnifié, image de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placements très importants, coût énergétique élevé, consommation  d'espace élevé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ones d'activité, foncier disponible,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combrements, éloi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tisfaction des habitants, propriété privée, communau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évitement, très forte homogénéité sociale. Appropriation privative des espaces publics, absence d’urban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6381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Strasbourg : quartier de Cronenbourg - Cité nucléa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8895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échelles de la ville. Le choix de l’intra-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r la 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re la ville : les acteurs et leurs jeu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ats (et entités supranat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llectivités (et regroup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tre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ividus-mén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4473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 Quelques lectures possibles de l’espace urba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0"/>
            <a:ext cx="684216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3376440"/>
            <a:ext cx="4572000" cy="3519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rph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orme du bâ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genèse des formes spat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ffectation de l’espa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35440" y="0"/>
            <a:ext cx="53085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3429000"/>
            <a:ext cx="4572000" cy="3519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rph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orme du bâ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genèse des formes spat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ffectation de l’espa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Strasbourg : le Port aux Pétroles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Strasbourg : le quartier européen"/>
          <p:cNvPicPr/>
          <p:nvPr/>
        </p:nvPicPr>
        <p:blipFill>
          <a:blip r:embed="rId2"/>
          <a:stretch/>
        </p:blipFill>
        <p:spPr>
          <a:xfrm>
            <a:off x="-541440" y="29973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406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00720" y="3425760"/>
            <a:ext cx="4643280" cy="340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de la ville com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 système urbain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ypes de lieux : habitat, fonctions de centralité, de production, consomm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lux et interdépendan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emporalités (jour/nuit ; semaine ; sais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00720" y="3425760"/>
            <a:ext cx="4643280" cy="340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de la ville com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 système urbain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ypes de lieux : habitat, fonctions de centralité, de production, consomm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lux et interdépendan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emporalités (jour/nuit ; semaine ; sais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2:50:58Z</dcterms:created>
  <dc:creator>guyon</dc:creator>
  <dc:description/>
  <dc:language>en-US</dc:language>
  <cp:lastModifiedBy>François</cp:lastModifiedBy>
  <dcterms:modified xsi:type="dcterms:W3CDTF">2008-01-28T20:03:35Z</dcterms:modified>
  <cp:revision>67</cp:revision>
  <dc:subject/>
  <dc:title>Diapositive 1</dc:title>
</cp:coreProperties>
</file>