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3.png" ContentType="image/pn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A88-C4D0-41FB-BD9E-29EC8E06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54AC-AA82-4F9D-8190-20451672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F5B-F466-464C-876A-4F2E1BD6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493-0F50-4F0A-862D-8FB73F59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31EE-D963-4279-AFAA-F1B37D28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9C1F-CF6A-4D30-BAFD-453F4A16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D3A6-CB4B-4F31-87F4-C65B29A7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37D-7812-42C9-80D0-C97EFE5D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26C8-78E9-4453-95CD-A37F95C9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1FB-57F6-4E18-996F-DA419748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5A3-957B-4FB3-84F6-5A05EAF0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FC7-2C64-4DA8-AF6B-EE9B60FD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F625-EE08-4F98-8589-421636EBC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base.com/pb67/strasbourg&amp;page=2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crdp-strasbourg.fr/imageEcole/strbgCiel/index.php?page=0&amp;contexte=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pbase.com/pb67/strasbourg&amp;page=2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crdp-strasbourg.fr/imageEcole/strbgCiel/index.php?page=0&amp;contexte=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hyperlink" Target="http://www.pbase.com/pb67/strasbourg&amp;page=2" TargetMode="External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crdp-strasbourg.fr/imageEcole/strbgCiel/index.php?page=0&amp;contexte=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hyperlink" Target="http://www.pbase.com/pb67/strasbourg&amp;page=2" TargetMode="External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crdp-strasbourg.fr/imageEcole/strbgCiel/index.php?page=0&amp;contexte=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hyperlink" Target="http://www.pbase.com/pb67/strasbourg&amp;page=2" TargetMode="External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crdp-strasbourg.fr/imageEcole/strbgCiel/index.php?page=0&amp;contexte=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hyperlink" Target="http://www.pbase.com/pb67/strasbourg&amp;page=2" TargetMode="External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crdp-strasbourg.fr/imageEcole/strbgCiel/index.php?page=0&amp;contexte=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hyperlink" Target="http://www.pbase.com/pb67/strasbourg&amp;page=2" TargetMode="External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crdp-strasbourg.fr/imageEcole/strbgCiel/index.php?page=0&amp;contexte=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hyperlink" Target="http://www.pbase.com/pb67/strasbourg&amp;page=2" TargetMode="External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base.com/pb67/strasbourg&amp;page=2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base.com/pb67/strasbourg&amp;page=2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igalsace.org/BD_ORTHO_2002/zoom_detaille/0998-2413.htm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rdp-strasbourg.fr/imageEcole/strbgCiel/index.php?page=0&amp;contexte=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crdp-strasbourg.fr/imageEcole/strbgCiel/index.php?page=0&amp;contexte=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base.com/pb67/strasbourg&amp;page=2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2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alyser l’espace urbain par le développement durable 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9 janvier 200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5013360"/>
            <a:ext cx="612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Strasbourg : le centre 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476360" cy="1106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Strasbour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0"/>
            <a:ext cx="1511280" cy="1133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Strasbourg : quartier de Cronenbourg - Cité nucléair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87640" y="0"/>
            <a:ext cx="1513080" cy="1133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4500720" y="0"/>
            <a:ext cx="1511280" cy="113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6012000" y="0"/>
            <a:ext cx="1512720" cy="1135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7451640" y="0"/>
            <a:ext cx="1513080" cy="113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959680" y="0"/>
            <a:ext cx="184320" cy="1202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0" y="4653000"/>
            <a:ext cx="3030480" cy="364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491160"/>
            <a:ext cx="3059280" cy="1620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508640"/>
            <a:ext cx="32036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4797360"/>
            <a:ext cx="1079640" cy="2037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6012000" y="5083200"/>
            <a:ext cx="280800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445464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Strasbourg"/>
          <p:cNvPicPr/>
          <p:nvPr/>
        </p:nvPicPr>
        <p:blipFill>
          <a:blip r:embed="rId2"/>
          <a:stretch/>
        </p:blipFill>
        <p:spPr>
          <a:xfrm>
            <a:off x="0" y="0"/>
            <a:ext cx="3492360" cy="2620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763640" y="1197000"/>
            <a:ext cx="3927600" cy="472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68360" y="1125360"/>
            <a:ext cx="71928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635280" y="1557360"/>
            <a:ext cx="266544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32000" y="2491920"/>
            <a:ext cx="1871640" cy="28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16000" y="3428640"/>
            <a:ext cx="4427640" cy="3429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modélisatri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a vil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centre-périphéri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secteu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modèle polycen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319560"/>
            <a:ext cx="4716360" cy="3538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Strasbour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500720" y="0"/>
            <a:ext cx="4643280" cy="3483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16000" y="3428640"/>
            <a:ext cx="4427640" cy="3429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modélisatri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a vil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centre-périphéri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secteu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modèle polycen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Strasbourg : quartier de Cronenbourg - Cité nucléaire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373560"/>
            <a:ext cx="4643280" cy="3484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Strasbourg : le centre ville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2282760" cy="2449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3564000" y="0"/>
            <a:ext cx="2541600" cy="3573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43280" y="3429000"/>
            <a:ext cx="4500720" cy="3599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cture de la vill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me espac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différenciations sociales au sein de l’espace urb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processus : évitement, sécession urbaine, relégation, gentrifica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cohésion/fragmentation urbain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rasbourg : le centre ville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Strasbourg : quartier de Cronenbourg - Cité nucléaire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3373560"/>
            <a:ext cx="4643280" cy="3484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3429000"/>
            <a:ext cx="4500720" cy="3599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cture de la vill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me espac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différenciations sociales au sein de l’espace urb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processus : évitement, sécession urbaine, relégation, gentrifica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cohésion/fragmentation urbain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Strasbourg : le centre 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342756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72000" y="3357720"/>
            <a:ext cx="4572000" cy="3630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8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cture de la ville comme objet de civilis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-ville préindustrielle, du XI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-pensée fonctionnaliste, spécialisation fonctionnelle des périphé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-contre-urbanisation pavill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-recherche d’une urbanité centrale, reconquête des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Lire la ville par le développement durable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71640" y="2781360"/>
            <a:ext cx="68421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Strasbourg : le centre 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0"/>
            <a:ext cx="3059280" cy="2295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Strasbourg : quartier de Cronenbourg - Cité nucléai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48360" y="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012000" y="4506840"/>
            <a:ext cx="3132000" cy="2351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Strasbour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59280" y="4510080"/>
            <a:ext cx="3132000" cy="2347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0" y="445464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0" y="0"/>
            <a:ext cx="3059280" cy="2293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2276640"/>
            <a:ext cx="9144000" cy="2260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02080" indent="-2602080"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e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080" indent="-2602080"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jeux : performance, avantages comparat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080" indent="-2602080"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ités positives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lois, qualification, marché, services, logistique,  échanges informels, cadre de 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2080" indent="-2602080"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ités négatives : encombrement, coût du foncier, crise urbaine, problèmes d’infrastructur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Strasbourg : le centre 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059280" cy="2295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Strasbourg : quartier de Cronenbourg - Cité nucléai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7640" y="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6046920" y="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Strasbour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2000" y="4510080"/>
            <a:ext cx="3132000" cy="2347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3059280" y="453384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0" y="4510080"/>
            <a:ext cx="3132000" cy="2347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276640"/>
            <a:ext cx="9144000" cy="240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e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eurs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eprises, collectivités, individus « rare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stratégies globalement converg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helles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urbaine (concurrence) et intra-urbaine (localisation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articulation par les espaces fonctionnels (zonages, flux) et recherche d’amén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Strasbourg : le centre 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506840"/>
            <a:ext cx="3132000" cy="2351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Strasbourg : quartier de Cronenbourg - Cité nucléai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059280" y="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Strasbour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2000" y="0"/>
            <a:ext cx="3132000" cy="2347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6046920" y="453384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2916360" y="4510080"/>
            <a:ext cx="3132000" cy="2347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2276640"/>
            <a:ext cx="9144000" cy="2260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ocial :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jeux : cohésion sociale (ville inclusive), inégalités réduites, pas d’ex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 qualité de vie : urbanité, cadre de vie, cohésion sociale, espace publ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iter la fragmentation socio-spatiale : coût du logement, stratégies résidentielles des catégories supérieures (évitement, sécession, gentrifiction), relégation des plus pauvres, crise urbain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Strasbourg : le centre 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4562640"/>
            <a:ext cx="3058920" cy="2295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Strasbourg : quartier de Cronenbourg - Cité nucléai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53708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132000" cy="2351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rasbour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987640" y="0"/>
            <a:ext cx="3132000" cy="2347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6012000" y="0"/>
            <a:ext cx="3132000" cy="2351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6084720" y="4591080"/>
            <a:ext cx="3059280" cy="2293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2276640"/>
            <a:ext cx="9144000" cy="2820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al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eurs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s, secteur immobilier, collectivités (affectation des terrai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stratégies concurrentes, comportements diver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helles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ier, rue pour l’individu / agglomération ou aire urbaine pour les pouvoirs publ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opposition des enjeux de niveau scalaire diffé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- Cadre initial : l’entrée dans la 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échelles de la vi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choix de l’intra-urbain comme cadre d’ét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mais ne pas isoler la ville du reste de son environnement, forcément glob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Strasbourg : le centre 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4562640"/>
            <a:ext cx="3059280" cy="2295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Strasbourg : quartier de Cronenbourg - Cité nucléai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9280" y="4537080"/>
            <a:ext cx="3095280" cy="2320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0" y="453384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Strasbour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3132000" cy="2347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2987640" y="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9"/>
          <a:stretch/>
        </p:blipFill>
        <p:spPr>
          <a:xfrm>
            <a:off x="6012000" y="0"/>
            <a:ext cx="3132000" cy="2347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2276640"/>
            <a:ext cx="9144000" cy="2260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nemental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jeux : coût environnemental, nuisances, écosystèmes, équilibres plané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ût environnemental  : les « inputs » (énergie, carburants, artificialisation…), les « outputs » (polluants, GES, santé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acité environnementale de la ville : densité/proximité/diversité, mobilités douces, consommation d’énergie, formes de l’habit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Strasbourg : le centre 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0"/>
            <a:ext cx="3132000" cy="2351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Strasbourg : quartier de Cronenbourg - Cité nucléai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4510080"/>
            <a:ext cx="3132000" cy="2347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059280" y="453384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Strasbour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4510080"/>
            <a:ext cx="3132000" cy="2347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0" y="0"/>
            <a:ext cx="3132000" cy="2351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059280" y="0"/>
            <a:ext cx="3132000" cy="2347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2276640"/>
            <a:ext cx="9144000" cy="2820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nemental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eurs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Action convergente négative (pas de gain, chacun « pour soi ») sauf prise de conscience ou enjeu lo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helles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lobal (injonction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local (NIMBY…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glomération (arbitr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complexité des interdépendances, nécessités d’une construction intellectu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-Lire la ville par le développement durable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: quelques difficultés pour aborder le 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es trois termes ne sont pas au même niveau dans les jeux d’ac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es acteurs ont des stratégies complexes et paradox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es échelles sont rarement articul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-Lire la ville par le développement durable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 : quelques difficultés pour aborder le D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passer l’arbre qui cache le carbone ou l’excl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développement durable ne peut se lire à l’aune de l’agrément d’un e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er une lecture systémique systé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dre l’espace comme entrée pour déjouer les mirages technologiques (motorisation ou maison à 100 000 €) ou les illusions analytiques (transport, logeme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-Lire la ville par le développement durable : quel cadre conceptue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veloppement durable et pensée urbai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 :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a Charte d'Aalborg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NU habitat : the smart gr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4297320"/>
                <a:gridCol w="4846320"/>
              </a:tblGrid>
              <a:tr h="461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rsion de points de vue entre les Chartes d'Athènes et d'Aalbo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te d'Athènes (1933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te d'Aalborg (1994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08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Principe de la table r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Attitude patrimonia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Partir de l'existant et le mettre en val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72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Abstraction de l'architecture par rapport au contexte environnant (historique, géographique, culturel, écologique) Style internat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Insertion du bâti dans un environnement multidimensionne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Diversité architectura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Zona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Mixité fonctionnelle et politiques transversa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15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Fluidification de la circulation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Séparation des circul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Réduction de la mobilité contraint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Reconquête de la voirie par tous les modes de transpo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15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Urbanisme d'experts Géométrisation et rationalisation de la vi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Urbanisme participatif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2a186c"/>
                          </a:solidFill>
                          <a:latin typeface="Arial"/>
                          <a:ea typeface="Times New Roman"/>
                        </a:rPr>
                        <a:t>Singularité des répo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Quels caractères pour une ville durabl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identité, patrimoine, urban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contexte, particula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compacité, renouvellement/éta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mixités social et fonctionnelles, proxim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logiques de localisation, mo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projet collectif, gou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-un horizon à redéfinir indéfin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’après Cyria Emelian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-Lecture de la ville par le développement durable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roche par type d’e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Strasbourg : le centre 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Strasbour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42756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Le centre-vil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 u="sng">
                <a:solidFill>
                  <a:srgbClr val="000000"/>
                </a:solidFill>
                <a:uFillTx/>
                <a:latin typeface="Arial"/>
              </a:rPr>
              <a:t>Environnement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5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cadre urbain et patrimoine, paysage, mobilité douce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5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densité, peu de verdure, eaux de surface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 u="sng">
                <a:solidFill>
                  <a:srgbClr val="000000"/>
                </a:solidFill>
                <a:uFillTx/>
                <a:latin typeface="Arial"/>
              </a:rPr>
              <a:t>Economie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5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attractivité (aménités, culture, image, densité...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5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coût du foncier, flu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 u="sng">
                <a:solidFill>
                  <a:srgbClr val="000000"/>
                </a:solidFill>
                <a:uFillTx/>
                <a:latin typeface="Arial"/>
              </a:rPr>
              <a:t>Social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5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urbanité, espace public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5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 gentrification : risque de fragmentation social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Strasbourg : quartier de Cronenbourg - Cité nucléaire"/>
          <p:cNvPicPr/>
          <p:nvPr/>
        </p:nvPicPr>
        <p:blipFill>
          <a:blip r:embed="rId1"/>
          <a:stretch/>
        </p:blipFill>
        <p:spPr>
          <a:xfrm>
            <a:off x="0" y="-46080"/>
            <a:ext cx="4572000" cy="3430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3376440"/>
            <a:ext cx="4643280" cy="3481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banlieue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vironn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space aéré, dense moindre, verd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éplacements importants, paysage peu apprécié (subjectif), coût énergé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conom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zones d'activité, performance, spécialisation, flux poss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éplacements, vieillissement préco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c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gement , 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fférenciation sociale forte, dégradation, relégation, espaces publics  à l'abandon, crise urb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1- Cadre initial : l’entrée dans la 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s échelles de la ville. Le choix de l’intra-urb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finir la vi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=&gt; La ville au sens large (par ex, aire urba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’espace périurb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vironn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dre de vie rural magnifié, image de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éplacements très importants, coût énergétique élevé, consommation  d'espace élevé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conom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zones d'activité, foncier disponible, infra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combrements, éloig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c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atisfaction des habitants, propriété privée, communau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évitement, très forte homogénéité sociale. Appropriation privative des espaces publics, absence d’urban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Strasbourg : le centre 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Strasbou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43280" y="638172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e P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Strasbourg : quartier de Cronenbourg - Cité nucléai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488952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39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1- Cadre initial : l’entrée dans la 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s échelles de la ville. Le choix de l’intra-urb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finir la v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ire la ville : les acteurs et leurs jeux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tats (et entités supranation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llectivités (et regroup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trep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dividus-mén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908000" y="571680"/>
            <a:ext cx="44737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- Quelques lectures possibles de l’espace urbai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STRASBOU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684360" y="0"/>
            <a:ext cx="6842160" cy="6842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0" y="3376440"/>
            <a:ext cx="4572000" cy="3519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morpholo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orme du bâ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genèse des formes spati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affectation de l’espa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35440" y="0"/>
            <a:ext cx="53085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Strasbourg : le centre vi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Strasbourg : quartier de Cronenbourg - Cité nucléai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7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0" y="342756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0" y="3429000"/>
            <a:ext cx="4572000" cy="3519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morpholo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orme du bâ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genèse des formes spati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affectation de l’espa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Strasbourg : le Port aux Pétroles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Strasbourg : le quartier européen"/>
          <p:cNvPicPr/>
          <p:nvPr/>
        </p:nvPicPr>
        <p:blipFill>
          <a:blip r:embed="rId2"/>
          <a:stretch/>
        </p:blipFill>
        <p:spPr>
          <a:xfrm>
            <a:off x="-541440" y="2997360"/>
            <a:ext cx="5148360" cy="3860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76720" cy="4067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00720" y="3425760"/>
            <a:ext cx="4643280" cy="3408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de la ville comm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 système urbain 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ypes de lieux : habitat, fonctions de centralité, de production, consomma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lux et interdépendanc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emporalités (jour/nuit ; semaine ; saison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00720" y="3425760"/>
            <a:ext cx="4643280" cy="3408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de la ville comm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 système urbain 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ypes de lieux : habitat, fonctions de centralité, de production, consomma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lux et interdépendanc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emporalités (jour/nuit ; semaine ; saison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Strasbou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7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2:50:58Z</dcterms:created>
  <dc:creator>guyon</dc:creator>
  <dc:description/>
  <dc:language>en-US</dc:language>
  <cp:lastModifiedBy>François</cp:lastModifiedBy>
  <dcterms:modified xsi:type="dcterms:W3CDTF">2008-01-28T20:03:35Z</dcterms:modified>
  <cp:revision>67</cp:revision>
  <dc:subject/>
  <dc:title>Diapositive 1</dc:title>
</cp:coreProperties>
</file>