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12.jpeg" ContentType="image/jpeg"/>
  <Override PartName="/ppt/media/Sacrifice.wav" ContentType="audio/x-wav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36D-9489-4CEB-B435-C10E468B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5DE-BEBB-4BBE-BB07-125914B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BED9A-6999-4C0E-9DE5-0F9557EB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808EF-849F-46A1-A269-1B44FD52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F6CBA-2ED2-4327-AF82-02622274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6E542-BC3A-46F7-8A5D-C7E3BAE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AD5B9-5451-42DC-B09A-0AEAD026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5BA60-F210-4B4B-9D8C-EAC12DA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F8D93-E230-4B32-AF8A-4C00E57A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89686-31B0-45C7-8659-8D389648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EDCFA-D3EA-4839-8CA8-E58B5ADC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65ABA-DB4D-475E-A6E8-261C763C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5B5-3B51-4C1E-84CF-C0E16B2D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3D257-812B-4FF4-AF35-C30AB6BE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C34C4-2C76-4296-B42D-9FA3AEE6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54FBE-4257-4B3A-B9AE-AD0B76A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D26A0-F17A-4FE9-B742-2B40F0E3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5E7B4-DC76-43D6-800E-30A5E8D4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7B2A0-72E7-4C50-93D9-3CDC215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7C18F-EAE5-4438-9DD1-FF6D4877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489CF-32AB-445C-9E04-DD420EA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F64D7-F478-4A22-9FA3-D221D9CD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8769D-C7E8-4FDA-BD27-F40404DD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2CF-C99C-43D4-AA76-AC7ED99A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9675D-469E-4E2A-8692-64B18AB8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F90DC-8B67-4FE2-902B-A238D37D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BF14B-7D5F-4676-BD11-9532AA7D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545C1-5E1F-42DE-82AE-765B8B4C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75FFB-CD1B-49B5-BDBA-CA23F874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8B70A-7C3F-4648-BA8B-F977FA04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9CCB7-9CBE-4C2B-81B4-D7F2DEDA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7A8D1-A0C2-4551-B769-4A82EC1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56968-134A-4038-BBA2-B05AFA7A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FD4D9-1A06-411A-A099-270D1BB0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CFC0-92FE-4E49-B2DC-F1B94F3F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0D490-4D69-4AE8-A853-F69C37ED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E64F0-8A8B-4B58-9AD6-AAAD9BA7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DB419-A4CD-4E62-B56B-95B0B1A8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6B8E5-A0DF-4293-AFBC-DE0C86B7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A5B22-D771-4780-A436-2FA69F5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45C0E-F20C-4EB5-B363-2E91CCF1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445D1-39B7-44A6-BA3A-BFEA1DF5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EEF00-95D3-49F8-8EEA-0C34432A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C3753-217D-418D-93DC-813D63A4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CD5D4-E2A4-4BF0-8015-4D5805E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BAB-5C22-4B27-AC65-69BBC734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B73DF-F8E1-4B2F-A2A4-D88E3FE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CA053-17D9-44F9-BF84-0C31351F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69EAF-86AB-4F67-B14A-1A89C1F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047F7-5B73-4950-98F9-32CBEEA9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0C496-E629-44CB-BE03-FD9005E8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3E58D-4A6A-4188-AF7D-FAE0C83D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8ED4B-88CF-47BF-8B95-19504009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8C13A-1B2B-4429-B9E4-09338FE8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184F7-358F-4746-874A-4D945E0D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907FC-4004-4661-B030-32B0FBC9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9326-49EC-4C40-ACA7-A65170FA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A536C-7212-4EDE-AC28-29DE8BE3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AD23D-401C-4BFB-93F4-549275DB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029A8-DD60-4508-9646-B927400E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BBFF2-F902-4CC2-8DB8-F326A5A6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F7010-D734-4C2A-8237-319E10D3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E8CC2-B3E8-4CFA-BE41-04670A56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7C16E-62FC-4F46-8F2C-1C520622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E8573-96D7-4474-BCE9-3C0D322B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2F01D-69F5-4F65-BAC9-6AC7C658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36FA0-7B39-4769-8C6D-D2D2B044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2E74-0C1D-432B-AE67-81336BB7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42FD6-6096-4DA2-B134-DFF55184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565A9-8231-46D5-B005-E80A7BD8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F93C4-44EC-4D06-BDCB-AB8762AB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080C2-E435-4977-BB21-3C0FD805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11FEF-1C8A-457F-9CF7-BF6076A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833E5-CDA7-4DC0-B100-C8FFE68E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F3EEE-24F6-4851-BAE2-64340FFC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1E534-9876-426A-A3F5-339BCC0A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9E193-0FB5-43BB-B46A-D06D45D4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56FB0-D179-4350-814A-13FCAEA5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E92F-D6F0-47C5-8E11-80311951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A5234-2528-425D-945A-6E7D8C25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E4391-2F2B-45E7-852D-CD4F2AFD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7971C-41F7-47C3-9FC7-2D781F09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E6E0E-0BDD-42DA-9868-836B443E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39CD3-6A82-45B4-B13B-276AD0CD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C8458-954D-425C-A3A4-44231B5F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CA8F2-C351-4DA0-AB64-35FA573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357EE-DCE3-4408-8E02-E7D8AD1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ADAD7-920C-4870-A75C-193B96F5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0909F-2DFC-446A-8D4C-EFCF6CB5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22BC-9DE1-4A12-ABD8-AEEB0217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F0E51-3BAD-43A4-AF64-E877B85E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54F77-8E17-4371-AFD0-88EB79FD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C4D45-2CAF-46D2-8DF6-EFA8A9EE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61205-B1ED-4807-B10D-E9511F8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35D92-CD8B-44BA-BA1A-778F8ED9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7AEF8-8668-40F3-B2B3-40596E02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058B5-8AB8-4D8D-812B-7D1E9415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062D3-C933-4B99-B585-CF59FAC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7CE95-8703-490D-8B62-1715C1B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6620C-193D-416E-936F-A4081719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B794-3B7C-4895-ACA8-0199E7A3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D6B0C1-3BD6-460F-B6FC-61FB311F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710B7-340F-4FF8-A7EC-60B4186E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F76E3-4BC1-4E72-89A3-7E2B072D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E131C-1483-4A39-B465-C8CB2B1E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7BA02-EEEA-44DE-9980-79B27470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A8906-0424-47F6-BE13-A3A20F95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1F322-7C22-40DD-B82C-34C3F12D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3A248-531F-4C58-88BD-2B37F80E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3096C-3D5F-41FD-9C04-9F7DC74C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319FC-66F2-4039-95F1-E9F3BD7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C35-2A49-4EE5-9B06-C39C3DF6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74E7-B28B-489F-9802-E598909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EFDA0-F4F2-40E6-8B5D-99E2056C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794F8-4200-49C0-BC6E-50AA01F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11573D-54C7-4878-AEFC-197407B9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E9F38-65C0-4C80-AA6D-E2A53335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EA03E3-971F-4E19-8BDA-30984154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319588-7AF4-4B8B-B1C3-01457331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837CF-9E74-47B5-88A9-B5D3CAF9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D8F1B-BCCF-406F-A3B9-ACAFA8F9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51000-21F7-451E-B0CE-5D0AF9B6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5CB4D-F1D1-4C21-B243-C3C75414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8841-974F-47C6-9E6B-C1D8CEEF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E0D44-7B1B-472B-AE74-9E5BECE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164B25-D0C6-4E09-872B-CF14462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8D61FC-9C9A-48C4-B499-91A4CC0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32196-28B0-4A78-BD51-057A768C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E94F5-1E83-467B-B410-8A529BE7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94531-D939-4583-83B1-7214DBE0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C7E52-DFEE-4EB2-A2AB-01EF140E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DB7BD-B06D-44E4-938C-A37CAA99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184EE-DEA4-4E68-AE6E-5EA7A1E6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44700-E066-466F-BDE0-0F802D0A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677-5B42-4EF5-8467-D23CF208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3A23B-5182-46D9-9CCB-55EDDA19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927D4-0ED1-46F1-A496-4AE026FC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CA39A7-7DB5-495F-805E-84695E41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4B9C0-44F4-492C-8C6D-CA06B59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BF4BC-3602-4BF9-9F41-D01CE5F6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F7FB4-354F-40DF-9534-064734F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7CF39-B500-410E-8AC3-48BD85F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FFB63-64B3-4685-9C55-E60C62F5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8DF4D0-ADFA-4F0F-84DF-72D1A7F8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C29C-A540-445C-A06A-2693F385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415-1178-422D-9BA2-C17D07C5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7196-4553-44E6-8EB3-335FFB58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EE50-E3E5-4332-9C87-05B0A84B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3D46-18C6-43CB-AF32-C83E6DA0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18A8-EB42-4815-847B-A41B80FD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7EC65-D14E-49A3-A1FF-303AE31B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D9B-62FD-4C79-9391-C276057C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3582-A53D-4E51-AF83-ABAC1D3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1B3E-B626-4D2D-9A3A-BA5F73CC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2B947-8D72-4FE7-BBB4-9741653D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0852-399A-496F-B4B5-87B143DE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0FEB-06C8-4AB6-899F-2D2119E4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6FE9-8A0E-4BA5-AC78-80403626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1906-4E90-47D5-B32D-634F82C5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5070-826A-408F-8B00-C334B2CF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D04B-7D5D-4272-941E-D926C219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BBD5-8FEA-4085-87C9-F85F3091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AFE-121C-4A65-8549-9C3AB8A0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EDCC7-66DD-40A0-B334-71A3BDAD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B107-2A7B-4A42-9C58-027A659F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BBDF-0963-4BC4-94A3-6FAD9B7F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DF13-DD7D-44AE-A06C-3FA2C97F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43CF-8020-423B-AEEB-0F5628D0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7304-84A1-4E8F-AEA2-2EFC1469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B521-1146-4276-9F85-0AECD715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BEF7-AE11-4954-8B93-8AE11AEB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E174-F9DC-40BE-A9F3-08FD4BCD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A1BF0-D96F-40D0-A71C-D43784FB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D6A-BAA2-425B-A9DB-BB17F368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C2590-E620-42E8-9308-6D13A6EA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3A625-5420-4BA0-BB08-D5A661E5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9A36B-9B0B-43B2-8B27-1F0AA590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74322-9BF6-4CBD-8A64-EBEAA127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C9CB4-9D02-4CED-A0A4-6C620EF5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E7205-F70F-49D6-9688-D8CEE5A4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14BE6-06D0-448E-92F7-6E2F93E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5DCEC-9050-46B0-90E4-26BF363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BD29B-526E-443C-9719-17C84883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12148-ACEE-4F54-888D-5544EC8E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1EA-BE78-471C-95AA-ACC83779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75A0-C7FF-44F0-ACCD-540C61B5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C4FBB-05EE-44E3-9402-CC3BE68C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522B5-9E26-4020-AD2E-5EE0142C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4AC5-9BFE-4730-9FAD-827F8351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F45D1-C158-490C-B869-DB05F57F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44FB-BCFB-4D80-A7D3-6971839F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76AE5-5F03-4ABD-9B90-0BA7189B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F215A-2BBE-4563-A703-EF98D62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4C602-B3D4-4706-ABC9-6ED4E44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EEC7A-0F01-47FB-8665-2A6E59A6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DF9-9810-4942-93AD-FD9F3C55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19D7C-1456-427E-9437-88FC9982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D22CB-F917-4D34-96AB-45C17064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5F8D9-F4ED-4944-B5C1-09E859B8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5374-966C-4B3B-BF7C-1B19D338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4F7B1-E602-41A2-9518-BC2FE057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72E0C-F3D6-47BE-ABBA-FB895EB0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A4A14-E3B1-4562-9CB7-A9488616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79315-CF35-4F4E-B2FF-38C7774C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0A85B-DECF-4495-8202-AFE6611E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3B454-AB18-40D4-899B-D64E1596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858-1C21-44FE-AC12-A228687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86E5-78E5-4E32-8724-4013B185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3B8B1-9DE3-4450-B374-0A64FAD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43EFB-FA89-4D7E-B813-8D48640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F15A2-B70B-43E8-8A79-0795CFFE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5075-662D-413B-881E-AF8AFCE6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66262-BF45-4377-AD52-4EC9BB02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C92F5-A9C9-4DC7-81C5-3D65823D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A49C3-A951-4289-B6AB-C48E7CD2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808B9-9748-4A87-A5E9-B41D060D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67A66-E2BD-4E46-A5CC-651CD103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5DB-BB20-4536-83EA-E69F7CCC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455C1-ABB4-4DB2-8288-6A1C7206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26535-88C6-4625-BFD2-970C9C4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67BB-C5C2-4D4F-ABF0-B71395F7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31618-3C17-4DEB-98FC-56F6AFAA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B8914-01E8-46CD-9575-5869BB29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3351C-898F-48B1-A2CF-DCC8BF64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6D984-63CE-49FB-BD6B-95683A00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34109-9F30-42BB-984D-65A9FF5E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1B7B0-0BCA-410F-AE73-EE03921E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3E686-ADEE-4738-9A6B-081AD42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BED9-2CDF-4317-9D9F-EDBEBF405F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8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8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9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1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DF4F-4282-432B-A16E-9998202606E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8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0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1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3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40D7-48D0-435E-A75D-D0A5ADCAA4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938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9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9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0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690F-8F8F-4D16-923F-3D25808D7FE5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938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8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dt" idx="3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FE02-EE27-4DCD-A5A2-D49ADED934E3}" type="slidenum">
              <a:rPr b="0" lang="fr-F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844E-77D5-43D9-A78B-3FE562CC75C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2A57-3A3D-45D3-950E-C8F13E00579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3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254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255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7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3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264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65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1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2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4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5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8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1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2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3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4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5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0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1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2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3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5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6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7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8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9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0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1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02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303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4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5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6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7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8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9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0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1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2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3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4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315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6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7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8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9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0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1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2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3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4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5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6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7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8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9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0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1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4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7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8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9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0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1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4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5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6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9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51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352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4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4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1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372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7" name="PlaceHolder 1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C9EC-CD58-452E-A600-29BFBA38209D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419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420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6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28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429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30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431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2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3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4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5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6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7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8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9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0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1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2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3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4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5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6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7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8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9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0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1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2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3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4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5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6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7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8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9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0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1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2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3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4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5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6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7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468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9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0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1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2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3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4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5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6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7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8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9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80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1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2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3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4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5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6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7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8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9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0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1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2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3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4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5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6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7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8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9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0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1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2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3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4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5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6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7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8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9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0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1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2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5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516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517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9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530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6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537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D38F-E0FE-4A97-8F0B-DFC2E789639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2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583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584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6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587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0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92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593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94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595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6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9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1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2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3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4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5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6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7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8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9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0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1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2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3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4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5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6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7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8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9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0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1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2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3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4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5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6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7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8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9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0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31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632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3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4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5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6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7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8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9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0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1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2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3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644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5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6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7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8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9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0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1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2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3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4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5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6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7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8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9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0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1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2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3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4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5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6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7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8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9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0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1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2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3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4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5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6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7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8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9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680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681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3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93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0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701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6" name="PlaceHolder 1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2B6D-F480-40A3-BC53-D25D080BAA30}" type="slidenum">
              <a:rPr b="0" lang="fr-F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748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749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1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55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56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7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58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59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60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1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2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3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4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5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6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7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8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9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0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1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2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3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4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5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6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7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8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9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0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1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2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3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4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5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6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7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8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9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0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1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2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3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4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5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96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797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8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9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0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1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2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3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4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5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6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7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08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9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2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5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8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4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7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0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1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4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5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7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9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0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1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2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3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4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45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46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8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9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58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859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5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866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F113-95D7-452F-8D71-F813C88C75B0}" type="slidenum">
              <a:rPr b="0" lang="fr-F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339C-3693-4EC7-AD62-8C3EF1C1A0B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08C-13D6-487C-BE6F-2843799030C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CAA8-8483-4CCE-AE1D-DE7073FE91B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09F7-D9B3-4C41-8856-4259C50F6C9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5818-6247-4BAB-9CF9-01CDFF69B8FD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0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458F-AB00-49D0-A7EB-7F8BA43CF3EC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8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50BE-49BB-48A2-BF9B-EA87C57C10E9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3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3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A59B-0471-4E1E-A397-906895FD5829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acrifice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"/>
          <p:cNvSpPr/>
          <p:nvPr/>
        </p:nvSpPr>
        <p:spPr>
          <a:xfrm>
            <a:off x="990720" y="144792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600" spc="-1" strike="noStrike">
                <a:solidFill>
                  <a:srgbClr val="000062"/>
                </a:solidFill>
                <a:latin typeface="Monotype Corsiva"/>
              </a:rPr>
              <a:t>La vie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ssolve/>
    <p:sndAc>
      <p:stSnd>
        <p:snd r:embed="rId1" name="Sacrific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418000" y="2349360"/>
            <a:ext cx="372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 t’intéresse p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à la riches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lle disparaîtra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5" name=""/>
          <p:cNvSpPr/>
          <p:nvPr/>
        </p:nvSpPr>
        <p:spPr>
          <a:xfrm>
            <a:off x="367344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0" y="260280"/>
            <a:ext cx="356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Book Antiqua"/>
              </a:rPr>
              <a:t>Rêve ce que t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Book Antiqua"/>
              </a:rPr>
              <a:t>désires rêver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9080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Va là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où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tu souhaites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ller 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38" name="" descr=""/>
          <p:cNvPicPr/>
          <p:nvPr/>
        </p:nvPicPr>
        <p:blipFill>
          <a:blip r:embed="rId1"/>
          <a:stretch/>
        </p:blipFill>
        <p:spPr>
          <a:xfrm>
            <a:off x="3033720" y="0"/>
            <a:ext cx="61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588000" y="274320"/>
            <a:ext cx="25560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herch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à être ce qu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u désires être .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19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5051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Parce que la vie est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938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t il n’exist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qu’un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ossibilité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fair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les choses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que nous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voulons faire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1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508720" y="333360"/>
            <a:ext cx="3635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00048"/>
                </a:solidFill>
                <a:latin typeface="Book Antiqua"/>
              </a:rPr>
              <a:t>Je te souha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00048"/>
                </a:solidFill>
                <a:latin typeface="Book Antiqua"/>
              </a:rPr>
              <a:t>beauc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00048"/>
                </a:solidFill>
                <a:latin typeface="Book Antiqua"/>
              </a:rPr>
              <a:t>de bonh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00048"/>
                </a:solidFill>
                <a:latin typeface="Book Antiqua"/>
              </a:rPr>
              <a:t>dans ta vi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372000" y="189000"/>
            <a:ext cx="277164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00048"/>
                </a:solidFill>
                <a:latin typeface="Arial Black"/>
              </a:rPr>
              <a:t>Pour te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900048"/>
                </a:solidFill>
                <a:latin typeface="Arial Black"/>
              </a:rPr>
              <a:t>sentir bien 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utant d’épreuves pour te rendre fort .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195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Des larmes, pour te rendre hum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3348000" y="0"/>
            <a:ext cx="5796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0" y="0"/>
            <a:ext cx="3276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Dans la v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il y a des mo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où une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te manque beaucou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394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 l’espoir,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our pouvoir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être heureux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44520" y="304920"/>
            <a:ext cx="5451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Les chanceux n’ont pas forcé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le meilleur du meilleu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Ils cherchent simplement le meil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de ce qu’ils rencontrent sur leur chem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580000" y="260280"/>
            <a:ext cx="3564000" cy="63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Le plus beau fu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dépendra touj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de la néces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d’oublier le pass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34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u ne pourras aller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 l’avant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ns la vi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ant que tu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’auras pas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rpassé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s erreurs du pass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3780000" y="5877000"/>
            <a:ext cx="5364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t tout ce qui blesse ton coeur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443560" y="0"/>
            <a:ext cx="37004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Book Antiqua"/>
              </a:rPr>
              <a:t>Quand tu es enf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Book Antiqua"/>
              </a:rPr>
              <a:t>et que tu ple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Book Antiqua"/>
              </a:rPr>
              <a:t>tout ton entou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Book Antiqua"/>
              </a:rPr>
              <a:t>sour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Vis la vie pleinenent, va au bout des choses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1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 façon à toujours sourire, malgré les larmes des autr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371600" y="228600"/>
            <a:ext cx="6400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02000"/>
                </a:solidFill>
                <a:latin typeface="Book Antiqua"/>
              </a:rPr>
              <a:t>Envoie ce message aux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02000"/>
                </a:solidFill>
                <a:latin typeface="Book Antiqua"/>
              </a:rPr>
              <a:t>qui comptent beaucoup pour toi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86696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2209680" y="228600"/>
            <a:ext cx="4648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Comme je le fais</a:t>
            </a:r>
            <a:r>
              <a:rPr b="1" lang="cs-CZ" sz="2400" spc="-1" strike="noStrike">
                <a:solidFill>
                  <a:srgbClr val="000000"/>
                </a:solidFill>
                <a:latin typeface="Book Antiqu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74644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t tu voudrais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a faire sortir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 tes rêv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73536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50920" y="1197000"/>
            <a:ext cx="3313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Book Antiqua"/>
              </a:rPr>
              <a:t>     </a:t>
            </a:r>
            <a:r>
              <a:rPr b="1" lang="cs-CZ" sz="24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À ce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qui ont mar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ok Antiqua"/>
              </a:rPr>
              <a:t>ma vi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67344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24000" y="1052640"/>
            <a:ext cx="30956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0066"/>
                </a:solidFill>
                <a:latin typeface="Book Antiqua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1" lang="es-AR" sz="25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À</a:t>
            </a:r>
            <a:r>
              <a:rPr b="1" lang="es-MX" sz="2500" spc="-1" strike="noStrike">
                <a:solidFill>
                  <a:srgbClr val="000000"/>
                </a:solidFill>
                <a:latin typeface="Book Antiqua"/>
              </a:rPr>
              <a:t> ceux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ook Antiqua"/>
              </a:rPr>
              <a:t>qui m’ont fait ri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ook Antiqua"/>
              </a:rPr>
              <a:t>quand j’en avai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Book Antiqua"/>
              </a:rPr>
              <a:t>vraiment besoin </a:t>
            </a:r>
            <a:r>
              <a:rPr b="1" lang="it-IT" sz="2500" spc="-1" strike="noStrike">
                <a:solidFill>
                  <a:srgbClr val="000000"/>
                </a:solidFill>
                <a:latin typeface="Book Antiqua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67344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0" y="0"/>
            <a:ext cx="3635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3300"/>
                </a:solidFill>
                <a:latin typeface="Book Antiqua"/>
              </a:rPr>
              <a:t>…</a:t>
            </a:r>
            <a:r>
              <a:rPr b="1" lang="es-AR" sz="25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333300"/>
                </a:solidFill>
                <a:latin typeface="Book Antiqua"/>
              </a:rPr>
              <a:t>À</a:t>
            </a:r>
            <a:r>
              <a:rPr b="1" lang="es-MX" sz="2500" spc="-1" strike="noStrike">
                <a:solidFill>
                  <a:srgbClr val="333300"/>
                </a:solidFill>
                <a:latin typeface="Book Antiqua"/>
              </a:rPr>
              <a:t> ceu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3300"/>
                </a:solidFill>
                <a:latin typeface="Book Antiqua"/>
              </a:rPr>
              <a:t>qui m’ont montré</a:t>
            </a:r>
            <a:r>
              <a:rPr b="1" lang="es-MX" sz="2500" spc="-1" strike="noStrike">
                <a:solidFill>
                  <a:srgbClr val="003300"/>
                </a:solidFill>
                <a:latin typeface="Book Antiqu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3300"/>
                </a:solidFill>
                <a:latin typeface="Book Antiqua"/>
              </a:rPr>
              <a:t>les choses posi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3300"/>
                </a:solidFill>
                <a:latin typeface="Book Antiqua"/>
              </a:rPr>
              <a:t>quan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3300"/>
                </a:solidFill>
                <a:latin typeface="Book Antiqua"/>
              </a:rPr>
              <a:t>je touchais le fond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651640" y="3068640"/>
            <a:ext cx="3171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333399"/>
                </a:solidFill>
                <a:latin typeface="Book Antiqua"/>
              </a:rPr>
              <a:t>… </a:t>
            </a:r>
            <a:r>
              <a:rPr b="1" lang="it-IT" sz="2500" spc="-1" strike="noStrike">
                <a:solidFill>
                  <a:srgbClr val="333399"/>
                </a:solidFill>
                <a:latin typeface="Book Antiqua"/>
              </a:rPr>
              <a:t>À mes amis ..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2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5580000" y="1557360"/>
            <a:ext cx="356400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Book Antiqua"/>
              </a:rPr>
              <a:t>…</a:t>
            </a:r>
            <a:r>
              <a:rPr b="1" lang="es-A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Book Antiqua"/>
              </a:rPr>
              <a:t>À ceux d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Book Antiqua"/>
              </a:rPr>
              <a:t>je ne pourra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ook Antiqua"/>
              </a:rPr>
              <a:t>me passer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348000" y="0"/>
            <a:ext cx="5796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0" y="692280"/>
            <a:ext cx="327672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Et si tu 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l’envoies p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ne t’inquiète p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il ne t’arriv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 Antiqua"/>
              </a:rPr>
              <a:t>rien de mauvai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580000" y="333360"/>
            <a:ext cx="356400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u vas juste perd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opportun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’illum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journ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’une person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vec ce messag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435640" y="404640"/>
            <a:ext cx="370836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La 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ne se compte 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en respirat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m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par les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qui t’ont coup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Book Antiqua"/>
              </a:rPr>
              <a:t>le souffl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012000" y="292428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Book Antiqua"/>
              </a:rPr>
              <a:t>Alors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/>
          <p:nvPr/>
        </p:nvSpPr>
        <p:spPr>
          <a:xfrm>
            <a:off x="1619280" y="0"/>
            <a:ext cx="5897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9999"/>
                </a:solidFill>
                <a:latin typeface="Book Antiqua"/>
              </a:rPr>
              <a:t> </a:t>
            </a:r>
            <a:r>
              <a:rPr b="1" lang="es-MX" sz="3500" spc="-1" strike="noStrike">
                <a:solidFill>
                  <a:srgbClr val="ff9999"/>
                </a:solidFill>
                <a:latin typeface="Book Antiqua"/>
              </a:rPr>
              <a:t>Bonne</a:t>
            </a:r>
            <a:r>
              <a:rPr b="1" lang="cs-CZ" sz="3500" spc="-1" strike="noStrike">
                <a:solidFill>
                  <a:srgbClr val="ff9999"/>
                </a:solidFill>
                <a:latin typeface="Book Antiqua"/>
              </a:rPr>
              <a:t>                    </a:t>
            </a:r>
            <a:r>
              <a:rPr b="1" lang="es-MX" sz="3500" spc="-1" strike="noStrike">
                <a:solidFill>
                  <a:srgbClr val="ff9999"/>
                </a:solidFill>
                <a:latin typeface="Book Antiqua"/>
              </a:rPr>
              <a:t>chance</a:t>
            </a:r>
            <a:r>
              <a:rPr b="1" lang="cs-CZ" sz="3500" spc="-1" strike="noStrike">
                <a:solidFill>
                  <a:srgbClr val="ff9999"/>
                </a:solidFill>
                <a:latin typeface="Book Antiqua"/>
              </a:rPr>
              <a:t> 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500" fill="hold"/>
                                        <p:tgtEl>
                                          <p:spTgt spid="20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88e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96000" y="277560"/>
            <a:ext cx="33480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our la serrer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rès fort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ans tes bras !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6156360" y="620640"/>
            <a:ext cx="253512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Quand une porte 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bonheur se fer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une autre s’ouvr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Mais no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nous continu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à reg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la porte ferm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et nous n’accord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pas d’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à celle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Book Antiqua"/>
              </a:rPr>
              <a:t>nous venons d’ouvri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9383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"/>
          <p:cNvSpPr/>
          <p:nvPr/>
        </p:nvSpPr>
        <p:spPr>
          <a:xfrm>
            <a:off x="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580000" y="0"/>
            <a:ext cx="356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Ne te fie p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aux apparen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elles so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souvent trompeuses</a:t>
            </a:r>
            <a:r>
              <a:rPr b="0" lang="cs-CZ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748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herche quelqu’un qui te communique le ri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5481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332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ar il en suffit d’un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our que la journé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la plus trist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evienne meilleure 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00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341964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herche quelqu’un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qui fasse rir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on coeur .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1"/>
          <a:stretch/>
        </p:blipFill>
        <p:spPr>
          <a:xfrm>
            <a:off x="356544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8:45:45Z</dcterms:created>
  <dc:creator>Andrea</dc:creator>
  <dc:description/>
  <dc:language>en-US</dc:language>
  <cp:lastModifiedBy>Smets</cp:lastModifiedBy>
  <dcterms:modified xsi:type="dcterms:W3CDTF">2008-09-21T05:35:08Z</dcterms:modified>
  <cp:revision>24</cp:revision>
  <dc:subject/>
  <dc:title>Diapositiva 1</dc:title>
</cp:coreProperties>
</file>