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12.jpeg" ContentType="image/jpeg"/>
  <Override PartName="/ppt/media/Sacrifice.wav" ContentType="audio/x-wav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024-6624-46EE-99F5-6CD8576A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4A0-FDC2-49F9-B552-51F02820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E3815-9B84-4CC5-9362-D4704F91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79B86-AE03-4947-8C77-1CCAAB69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774B3-376E-4A39-9BCD-DED3511D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C1596-1A81-46C7-929D-E056C33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DE048-E634-4BB8-BF6F-AA0823F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4E539-C462-456F-A309-0869332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D4EAB-909F-41C0-9914-2503A6E6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4CD2A-0F99-4FBF-9B52-CB476029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417C1-9B66-4FCE-A9ED-FA6DFD4F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237F9-54D8-4A39-8D08-6D55B1A5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F82-FB18-4CDD-AA93-67A36808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63255-A976-4DFA-83F7-4E9D0A1F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DC777-9E4D-4E34-B3E2-F97681A0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E9FAB-9BC5-4852-BCA1-2902F3AF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E582B-8049-4CA4-BFFF-97C23199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AB1DD-C4ED-40D0-8E0F-124ADD2E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A1868-267E-42EA-A636-54BDC4C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50200-BBDF-4587-B980-7BC85E7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4C2F0-FEAF-42F0-BE3D-4F76A794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FAC9D-CB84-413E-A5F3-E475BBC1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D0323-76B9-4443-A107-32D310D3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F0A-A701-49B3-86DB-38E959F8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AEFF6-5312-4C7B-880E-4405BFCB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447BA-3F10-48B8-BF2C-074D831A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DC26B-B082-4FBC-801D-CE64A2B0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19E26-E133-45BE-88BC-1B35A766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7A1FC-1737-4A88-BC19-F60BBC7A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5EF93-0396-4719-9B09-5717990D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4E3E4-A37C-4053-AAC2-F2C84FE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EE13B-9994-4B78-9257-BFA67130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4D466-C3AD-490F-9900-B1D6A093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F14E2-667A-49CA-B4F2-43B524F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EA55-B66C-4FA1-AED6-3DF81208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BA939-A344-4654-AD4A-5A8F289B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6A71C-87EF-467C-81FE-B3C884F9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5A7CE-A524-4D2D-B75F-B281A32C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B7ED8-97DD-4BD2-9D50-D5B65FCB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0E01A-F434-471B-8CCB-A5F59119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A35E4-084C-441E-88CF-7931067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37FAF-5E04-4399-8E01-88F150F4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D08F5-8EC4-4193-8F1F-11EEB12C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66398-4806-4993-8951-EADF9547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65084-D2E0-44B5-950C-1B5C7D7B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4B5B-854E-4DFC-ABBF-0FE6A720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EAEB4-441A-4BFA-BC46-484D8910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2D218-CD2D-4828-A50E-86D0413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EAF96-FFBF-43B5-9B9B-8C0699D4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35207-AB3E-4DEE-8F90-DADE4DB4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2365F-7E69-4763-B4F5-A9A335CF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2BE20-5E94-49DA-B20C-79613C2A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1AF33-4E78-4136-A884-A80C750A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C4DD0-F957-4A43-8F95-69740CC7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C5328-C646-49D0-BB62-CC9CBA01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BAE7E-0032-440C-8B1E-22C6D0A1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3602-0378-4FBA-89EA-B3FB7EB3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290D8-B1B6-4CDA-A0EE-536EB901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637E0-FDBE-4575-B5D1-86D657B9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A011A-13BD-4145-8DFF-00C7D914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EB80F-7805-4179-AAC6-0A78EE5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1E767-3118-4726-A977-8935799B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242B4-1D95-4081-A506-74E396FA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4FBA6-8B29-4050-9D81-4E065B6E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36B90-8841-41B9-A1F9-033559CD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58FED-2D1A-4679-B39E-B54B02BC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80840-317A-4B96-AA89-3471D7A3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0484-7CFE-460B-A229-29382702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F9EAB-0702-4699-91B2-B9ED5B48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748CD-3D24-478D-9BC4-7D355B4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1DDFB-9ECE-464E-BD0D-0EFDCCAA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E6540-E5B7-4B09-A068-2A588BE4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7B60B-A25F-4771-B597-A2C6216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0D741-268E-48BB-ADC9-1BE2354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9CDD9-83E5-454D-A26D-8F7C03A1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59151-7E24-4204-9F5E-B69074B1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FDB1D-218D-4A11-992D-CB7E5B36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37B33-C1C2-4683-AB72-BFED1B13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2B96-01DE-4773-911B-8599E60B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93B2C-77ED-4608-987E-268A3DB5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532BB-7286-4DB2-B328-61FBCB95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DC07E-DB6A-45CA-878C-3FF4660C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CE985-79E5-43EF-AB19-5242B633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4D339-941F-4E4D-A769-CC873CFB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72503-DE80-4F18-B504-80A6623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ED46A-ABBE-4B2E-956D-B80A251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BF75C-703D-41BE-B94F-28B5492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C01A0-01F1-434E-8F5D-52EA27F4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41B6A-3CAD-43FD-A52F-AD43AA96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00A0-3BA5-49CB-9752-AA06D9F5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8AD6C-D3DD-4372-978B-A01C533E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3962C-5C2C-4640-A6BC-F4C49545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731AA-5CAB-47D5-A820-1ED4DF95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59DC2-1195-4F13-9793-03C3347C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A2D82-D710-44B8-9C3F-48D8B27A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8E6D1-DB09-4BCA-BF3F-1E8A485F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320C9-C2A4-4D1E-843A-44764548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C61F4-669A-48B4-92CF-252ECB84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FEFAA-DE3B-4F38-BAB8-BF7E7C86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C8FCDD-F52C-40BF-BB49-7F2E5B0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9BEE-01FB-4246-9D4C-1D7D72CA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E37AB-56AE-48C4-90CB-8EEF598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3A44A-A100-492A-999A-82C1BC35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57E83-E1AA-4604-9D0A-1294B4FB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BCD17-318A-416D-B248-E52CFCDD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E0EBBD-F948-4C09-A62B-76CA410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0BCC1-8E26-406C-BB15-5DCFD227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7E9194-2C89-4B88-B309-851AB1B8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C77A4-8678-4FFC-B981-58F8F0BE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FCE16-0793-492E-BCC8-97128CA7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BF055-7B3A-4C4E-B289-FC5A4E3C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BE6-94D2-448D-806F-657D6EBC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01BF-CC14-4C96-9BB5-3116C7B3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F3EFD-7C7D-46E9-8A7A-5C3F4B70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C8654-52E5-4E18-9278-ECEE3A03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D0795-6CFF-486B-94EB-FF11E31F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FD345-5889-41CA-99DF-014BB442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B7826-DA79-4B28-B3F3-D7E7E918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EB7C9-6C29-4B46-9964-19262E53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498C5-ACDF-4808-9ACB-0A9F8251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E5AE3-13A3-4AC3-808C-6BA968D1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87569-E80A-49E7-8107-09274713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CFC1A-05D3-4E58-B61B-278A8814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9676-B120-4566-95B5-DDE7DDE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569E8-2AC3-4C7B-BB62-C32464BF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27EDB2-B908-4770-8D50-BEF76D6C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6AE359-3A5A-44CB-A915-846C91D3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ABB99-CBF2-4C2A-B7F6-9AE8CA4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29448-E2CE-4ECB-BDBC-9E12F7FB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3E699-5768-4DAF-AE8A-57CBA3AE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2570C-A7CD-457C-8D5F-D6DA36F9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ABB7A9-EA14-488F-9ED0-09C53DBC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5D638-60A0-4758-8FAD-4CB53E4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CD8AA0-8C5D-4812-B847-499A1B13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7CB6-3589-41FE-9143-BF3550CF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C94F8-62A4-4D4D-A061-5F496E08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7CFC29-8EEE-47A9-B1FD-DC4656BF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75574-5283-4510-9872-3CDC741B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A43D7-9EE1-4860-9336-E14A1F0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6C487-8435-4415-9D5B-1B43FF5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BECDD-FF87-456B-B80E-8577790A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FDD267-8F13-46FD-90BB-282A4BC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465BA-06C9-492F-87DA-D0E20D61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C93EA-5C09-4933-8D0E-429A04B4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2F4F-D308-4D0A-B866-18313714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1A1B-6CDC-4E6C-BF68-E33948BC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AC96-3C42-4F11-BF5D-382F2796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1D7B-AE44-4B25-BA51-825A78E6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DC72-6BC4-4C3E-995A-31DB1E45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3F15-274B-4A81-A5C7-C73C9DA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1D7E-F3CE-4869-9DB2-E0A94444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799-048B-42EF-A0CF-8E85205C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2B42-2DF3-45F8-96B6-15DE806C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9F39-52B2-43AF-8DD4-8954F81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5DDB-300F-4047-B31D-0211E0C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B65B-163A-4771-AE8B-B0BA456B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82BE-B156-43B7-80E6-5F343400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FBAB-28BE-4D2B-9C39-2AF6E059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17D5-17B9-4E75-8B56-209678DE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761D7-332A-4123-84DE-96841E76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FCAF-2BF1-461A-B0E6-0CF1B330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417D-8DEF-4CB4-BCCE-444C5923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90D-9164-4629-BB44-9D3EFE38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22BC1-C2A2-41AD-8653-972BA899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9D520-B934-4F6F-B1D3-7A5FFD78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1B1CC-8F8B-441F-B8CD-296D0B43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1B29C-00C8-40C5-B9C3-CA89E765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4A4A-F317-497E-A949-CB35D80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CB7C2-E53B-4106-BFA1-EAFEB448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C2B3-6805-44BB-A0D1-E10F357F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C9AD-2467-4524-A45F-441B3D64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8F63C-19E9-4FDD-B5EC-3393BC1A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15A46-A130-4AB7-89BB-B6FF2F3E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8BD-E0F5-44EB-BB7A-2CEAC6F3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08AB3-3807-43E5-93D6-3A5FAD65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7E466-0E20-43E2-945E-E68FF10E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901E5-8B3D-44A7-B2CB-7F919851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48C7-BEE0-43BB-AABB-0927A9E6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0B28-3D98-4519-BA8B-C8FB3880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00134-484A-45BE-9DB4-B48FE7E8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2F51-80A1-4D32-AD46-6BA847EE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4EC5A-DB14-43E9-B0FD-D5E74ED4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818AD-EE58-4A85-A470-195634BE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460EC-01DA-4F40-8F0E-972F8C51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10C-85FC-45F6-A7CD-B54600CA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A28D0-73C8-43A8-A7CD-25DE4BFA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96FA6-5ED1-43C8-8AB0-2D06C367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BCC40-1A24-4245-866C-0E5B4C7B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6B895-4E8D-4289-B508-A85FEECB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AD41E-F9D6-4866-9249-1AA445AD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B262D-C85A-4055-B5CF-C6D98850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B74CE-0E02-473F-9783-A2D5BB2C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382C-E0E4-49D1-90D5-AA39A5F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0EEDD-8F58-4590-8D70-99847DD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73F9E-26B6-463B-B33C-F21304C1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069-B0B1-4CA5-B336-D4413B49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561B-4ED4-443C-951D-BF8D037F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10DF8-C3E8-4933-A596-AC7E381D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3BA63-98C9-476D-B4DB-325013A1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30B2D-70B2-4A88-9C36-06667D91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695BA-BA19-4585-AB3A-F1F1418B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2E44E-29F1-4096-B462-48881A47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0E04-78EE-4A4B-A30D-FB4E0D6D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98F1D-0364-4286-B094-4E94B442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913AE-2763-45FC-B509-EB343426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2B38-9512-4EE7-A184-004EE06A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BDB-8EC6-487A-9934-2F1AA3BF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E9D07-6733-4178-8F9A-96B3C770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69DCB-5538-400D-9C25-0D0FF018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EE38A-B68D-4710-A0B5-9C6CF8A8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66A89-55B5-4FC2-848A-6458C30C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B8F20-EACC-4320-A393-3436EE2A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4EE42-1954-4F98-BEFA-0BF430B6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52621-D18A-4EDD-B688-B87D134E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C7B01-F92D-416F-8B27-3C342D63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21BA7-6B02-4DE8-A3FB-B2674BC0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9CDCE-C69A-4326-9373-02DE8D9E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33B-45ED-48A8-A43C-8E35E99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86741-3E97-4377-AD4C-3819943E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BDA7C-5FDD-4989-BD54-0EAE67A1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5A907-6AFA-41B9-A5C5-55BCF30B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67D35-C95C-44ED-9E43-13897932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6B7D2-BE65-45F5-967E-07858CDD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AE4A2-8C63-46D5-B822-5E9B9C3D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51CE6-F31B-42A7-AC2F-9BDA3440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F0159-6E5F-44C6-AE88-157070A8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DCBEA-81F8-4DBE-819C-6B95C35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57926-356A-484D-A21D-7B3B4151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8EBF-5837-4846-8DFC-31DAFBD0F72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8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8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9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1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145A-1F22-415E-A7CC-A8386DFC16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8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0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1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3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53C6-ACC1-42AB-B6B4-BEFF14A9AF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938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9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9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0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17E6-879F-45C9-8852-EBC0634394CA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938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8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dt" idx="3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BC8E-A783-4751-8BBD-4671B205F371}" type="slidenum">
              <a:rPr b="0" lang="fr-F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333A-7762-4D48-9DFD-FCCE481E23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D4EE-DB01-45CD-9A97-8F7BC4E2A7F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3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254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255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7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3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264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65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1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2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4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5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8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1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2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3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4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5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0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1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2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3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5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6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7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8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9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0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1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02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303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4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5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6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7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8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9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0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1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2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3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4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315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6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7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8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9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0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1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2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3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4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5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6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7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8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9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0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1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4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7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8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9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0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1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4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5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6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9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51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352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4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4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1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372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7" name="PlaceHolder 1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B143-06EA-4493-87B4-109CE0BDCC9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419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420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6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28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429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30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431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2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3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4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5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6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7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8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9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0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1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2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3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4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5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6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7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8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9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0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1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2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3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4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5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6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7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8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9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0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1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2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3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4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5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6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7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468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9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0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1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2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3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4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5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6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7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8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9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80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1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2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3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4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5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6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7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8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9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0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1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2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3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4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5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6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7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8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9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0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1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2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3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4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5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6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7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8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9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0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1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2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5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516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517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9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530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6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537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FC2C-BE90-40E6-914C-55672210A7C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2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583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584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6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587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0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92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593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94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595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6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9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1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2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3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4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5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6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7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8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9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0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1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2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3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4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5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6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7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8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9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0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1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2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3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4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5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6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7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8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9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0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31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632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3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4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5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6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7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8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9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0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1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2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3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644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5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6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7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8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9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0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1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2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3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4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5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6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7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8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9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0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1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2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3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4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5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6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7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8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9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0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1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2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3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4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5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6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7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8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9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680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681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3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93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0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701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6" name="PlaceHolder 1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A994-E974-4B7D-98EA-91571428D810}" type="slidenum">
              <a:rPr b="0" lang="fr-F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748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749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1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55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56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7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58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59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60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1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2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3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4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5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6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7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8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9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0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1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2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3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4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5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6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7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8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9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0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1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2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3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4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5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6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7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8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9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0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1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2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3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4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5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96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797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8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9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0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1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2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3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4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5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6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7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8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9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2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5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8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4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7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0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1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4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5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7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9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0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1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2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3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4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45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46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8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9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58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859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5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866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44CC-E073-46C3-99EC-C8ABEE690ECC}" type="slidenum">
              <a:rPr b="0" lang="fr-F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3651-6371-4494-B75F-807DE090FD2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E7F1-0EF5-4E5E-B6FB-3290E9239BE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84FC-75FE-4F24-9673-4CB3DB93F0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9262-47FD-4D4E-B2F2-27633EC801E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AC1F-6B71-452C-A294-23CC98BA6B44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0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18B-4E22-459F-A2B7-DE2AC88DC193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8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8C69-4F9D-4E1C-8BE3-4655308DFE5C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3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3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EA36-A810-4CEE-A9D7-38C9A72DA82A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acrifice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"/>
          <p:cNvSpPr/>
          <p:nvPr/>
        </p:nvSpPr>
        <p:spPr>
          <a:xfrm>
            <a:off x="990720" y="144792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600" spc="-1" strike="noStrike">
                <a:solidFill>
                  <a:srgbClr val="000062"/>
                </a:solidFill>
                <a:latin typeface="Monotype Corsiva"/>
              </a:rPr>
              <a:t>La vie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ssolve/>
    <p:sndAc>
      <p:stSnd>
        <p:snd r:embed="rId1" name="Sacrific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418000" y="2349360"/>
            <a:ext cx="372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 t’intéresse p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à la riches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lle disparaîtra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5" name=""/>
          <p:cNvSpPr/>
          <p:nvPr/>
        </p:nvSpPr>
        <p:spPr>
          <a:xfrm>
            <a:off x="367344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0" y="260280"/>
            <a:ext cx="356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Book Antiqua"/>
              </a:rPr>
              <a:t>Rêve ce que t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Book Antiqua"/>
              </a:rPr>
              <a:t>désires rêver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9080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Va là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où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tu souhaites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ller 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38" name="" descr=""/>
          <p:cNvPicPr/>
          <p:nvPr/>
        </p:nvPicPr>
        <p:blipFill>
          <a:blip r:embed="rId1"/>
          <a:stretch/>
        </p:blipFill>
        <p:spPr>
          <a:xfrm>
            <a:off x="3033720" y="0"/>
            <a:ext cx="61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588000" y="274320"/>
            <a:ext cx="25560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herch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à être ce qu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u désires être .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19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5051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Parce que la vie est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938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t il n’exist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qu’un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ossibilité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fair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les choses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que nous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voulons faire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1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508720" y="333360"/>
            <a:ext cx="3635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00048"/>
                </a:solidFill>
                <a:latin typeface="Book Antiqua"/>
              </a:rPr>
              <a:t>Je te souha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00048"/>
                </a:solidFill>
                <a:latin typeface="Book Antiqua"/>
              </a:rPr>
              <a:t>beauc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00048"/>
                </a:solidFill>
                <a:latin typeface="Book Antiqua"/>
              </a:rPr>
              <a:t>de bonh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00048"/>
                </a:solidFill>
                <a:latin typeface="Book Antiqua"/>
              </a:rPr>
              <a:t>dans ta vi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372000" y="189000"/>
            <a:ext cx="277164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00048"/>
                </a:solidFill>
                <a:latin typeface="Arial Black"/>
              </a:rPr>
              <a:t>Pour te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900048"/>
                </a:solidFill>
                <a:latin typeface="Arial Black"/>
              </a:rPr>
              <a:t>sentir bien 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utant d’épreuves pour te rendre fort .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195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Des larmes, pour te rendre hum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3348000" y="0"/>
            <a:ext cx="5796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0" y="0"/>
            <a:ext cx="3276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Dans la v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il y a des mo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où une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te manque beaucou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39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 l’espoir,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our pouvoir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être heureux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44520" y="304920"/>
            <a:ext cx="5451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Les chanceux n’ont pas forcé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le meilleur du meilleu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Ils cherchent simplement le meil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de ce qu’ils rencontrent sur leur chem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580000" y="260280"/>
            <a:ext cx="3564000" cy="63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Le plus beau fu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dépendra touj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de la néces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d’oublier le pass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34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u ne pourras aller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 l’avant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ns la vi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ant que tu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’auras pas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rpassé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s erreurs du pass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3780000" y="5877000"/>
            <a:ext cx="5364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t tout ce qui blesse ton coeur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443560" y="0"/>
            <a:ext cx="37004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Book Antiqua"/>
              </a:rPr>
              <a:t>Quand tu es enf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Book Antiqua"/>
              </a:rPr>
              <a:t>et que tu ple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Book Antiqua"/>
              </a:rPr>
              <a:t>tout ton entou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Book Antiqua"/>
              </a:rPr>
              <a:t>sour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Vis la vie pleinenent, va au bout des choses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1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 façon à toujours sourire, malgré les larmes des autr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371600" y="228600"/>
            <a:ext cx="6400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02000"/>
                </a:solidFill>
                <a:latin typeface="Book Antiqua"/>
              </a:rPr>
              <a:t>Envoie ce message aux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02000"/>
                </a:solidFill>
                <a:latin typeface="Book Antiqua"/>
              </a:rPr>
              <a:t>qui comptent beaucoup pour toi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86696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2209680" y="228600"/>
            <a:ext cx="4648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Comme je le fais</a:t>
            </a:r>
            <a:r>
              <a:rPr b="1" lang="cs-CZ" sz="2400" spc="-1" strike="noStrike">
                <a:solidFill>
                  <a:srgbClr val="000000"/>
                </a:solidFill>
                <a:latin typeface="Book Antiqu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74644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t tu voudrais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faire sortir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 tes rêv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73536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50920" y="1197000"/>
            <a:ext cx="3313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Book Antiqua"/>
              </a:rPr>
              <a:t>     </a:t>
            </a:r>
            <a:r>
              <a:rPr b="1" lang="cs-CZ" sz="24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À ce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qui ont mar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ma vi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67344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24000" y="1052640"/>
            <a:ext cx="30956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0066"/>
                </a:solidFill>
                <a:latin typeface="Book Antiqua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1" lang="es-AR" sz="2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À</a:t>
            </a:r>
            <a:r>
              <a:rPr b="1" lang="es-MX" sz="2500" spc="-1" strike="noStrike">
                <a:solidFill>
                  <a:srgbClr val="000000"/>
                </a:solidFill>
                <a:latin typeface="Book Antiqua"/>
              </a:rPr>
              <a:t> ceux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ook Antiqua"/>
              </a:rPr>
              <a:t>qui m’ont fait r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ook Antiqua"/>
              </a:rPr>
              <a:t>quand j’en avai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ook Antiqua"/>
              </a:rPr>
              <a:t>vraiment besoin </a:t>
            </a:r>
            <a:r>
              <a:rPr b="1" lang="it-IT" sz="2500" spc="-1" strike="noStrike">
                <a:solidFill>
                  <a:srgbClr val="000000"/>
                </a:solidFill>
                <a:latin typeface="Book Antiqua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67344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0" y="0"/>
            <a:ext cx="3635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3300"/>
                </a:solidFill>
                <a:latin typeface="Book Antiqua"/>
              </a:rPr>
              <a:t>…</a:t>
            </a:r>
            <a:r>
              <a:rPr b="1" lang="es-AR" sz="25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À</a:t>
            </a:r>
            <a:r>
              <a:rPr b="1" lang="es-MX" sz="2500" spc="-1" strike="noStrike">
                <a:solidFill>
                  <a:srgbClr val="333300"/>
                </a:solidFill>
                <a:latin typeface="Book Antiqua"/>
              </a:rPr>
              <a:t> ceu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3300"/>
                </a:solidFill>
                <a:latin typeface="Book Antiqua"/>
              </a:rPr>
              <a:t>qui m’ont montré</a:t>
            </a:r>
            <a:r>
              <a:rPr b="1" lang="es-MX" sz="2500" spc="-1" strike="noStrike">
                <a:solidFill>
                  <a:srgbClr val="003300"/>
                </a:solidFill>
                <a:latin typeface="Book Antiqu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3300"/>
                </a:solidFill>
                <a:latin typeface="Book Antiqua"/>
              </a:rPr>
              <a:t>les choses posi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3300"/>
                </a:solidFill>
                <a:latin typeface="Book Antiqua"/>
              </a:rPr>
              <a:t>quan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3300"/>
                </a:solidFill>
                <a:latin typeface="Book Antiqua"/>
              </a:rPr>
              <a:t>je touchais le fond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651640" y="3068640"/>
            <a:ext cx="3171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333399"/>
                </a:solidFill>
                <a:latin typeface="Book Antiqua"/>
              </a:rPr>
              <a:t>… </a:t>
            </a:r>
            <a:r>
              <a:rPr b="1" lang="it-IT" sz="2500" spc="-1" strike="noStrike">
                <a:solidFill>
                  <a:srgbClr val="333399"/>
                </a:solidFill>
                <a:latin typeface="Book Antiqua"/>
              </a:rPr>
              <a:t>À mes amis ..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2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5580000" y="1557360"/>
            <a:ext cx="356400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1" lang="es-A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Book Antiqua"/>
              </a:rPr>
              <a:t>À ceux d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Book Antiqua"/>
              </a:rPr>
              <a:t>je ne pourra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ook Antiqua"/>
              </a:rPr>
              <a:t>me passer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348000" y="0"/>
            <a:ext cx="5796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0" y="692280"/>
            <a:ext cx="327672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Et si tu 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l’envoies p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ne t’inquiète p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il ne t’arriv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rien de mauvai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580000" y="333360"/>
            <a:ext cx="356400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u vas juste perd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opportun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’illum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journ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’une person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vec ce messag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435640" y="404640"/>
            <a:ext cx="370836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La 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ne se compte 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en respirat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m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par les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qui t’ont coup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le souffl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012000" y="292428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Book Antiqua"/>
              </a:rPr>
              <a:t>Alors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/>
          <p:nvPr/>
        </p:nvSpPr>
        <p:spPr>
          <a:xfrm>
            <a:off x="1619280" y="0"/>
            <a:ext cx="5897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9999"/>
                </a:solidFill>
                <a:latin typeface="Book Antiqua"/>
              </a:rPr>
              <a:t> </a:t>
            </a:r>
            <a:r>
              <a:rPr b="1" lang="es-MX" sz="3500" spc="-1" strike="noStrike">
                <a:solidFill>
                  <a:srgbClr val="ff9999"/>
                </a:solidFill>
                <a:latin typeface="Book Antiqua"/>
              </a:rPr>
              <a:t>Bonne</a:t>
            </a:r>
            <a:r>
              <a:rPr b="1" lang="cs-CZ" sz="3500" spc="-1" strike="noStrike">
                <a:solidFill>
                  <a:srgbClr val="ff9999"/>
                </a:solidFill>
                <a:latin typeface="Book Antiqua"/>
              </a:rPr>
              <a:t>                    </a:t>
            </a:r>
            <a:r>
              <a:rPr b="1" lang="es-MX" sz="3500" spc="-1" strike="noStrike">
                <a:solidFill>
                  <a:srgbClr val="ff9999"/>
                </a:solidFill>
                <a:latin typeface="Book Antiqua"/>
              </a:rPr>
              <a:t>chance</a:t>
            </a:r>
            <a:r>
              <a:rPr b="1" lang="cs-CZ" sz="3500" spc="-1" strike="noStrike">
                <a:solidFill>
                  <a:srgbClr val="ff9999"/>
                </a:solidFill>
                <a:latin typeface="Book Antiqua"/>
              </a:rPr>
              <a:t> 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500" fill="hold"/>
                                        <p:tgtEl>
                                          <p:spTgt spid="20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96000" y="277560"/>
            <a:ext cx="33480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our la serrer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rès fort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ans tes bras !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6156360" y="620640"/>
            <a:ext cx="253512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Quand une porte 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bonheur se fer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une autre s’ouvr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Mais no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nous continu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à reg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la porte ferm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et nous n’accord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pas d’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à celle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nous venons d’ouvri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938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"/>
          <p:cNvSpPr/>
          <p:nvPr/>
        </p:nvSpPr>
        <p:spPr>
          <a:xfrm>
            <a:off x="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580000" y="0"/>
            <a:ext cx="356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Ne te fie p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aux apparen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elles s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souvent trompeuses</a:t>
            </a:r>
            <a:r>
              <a:rPr b="0" lang="cs-CZ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748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herche quelqu’un qui te communique le ri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332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ar il en suffit d’un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our que la journé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la plus trist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evienne meilleure 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341964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herche quelqu’un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qui fasse rir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on coeur .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1"/>
          <a:stretch/>
        </p:blipFill>
        <p:spPr>
          <a:xfrm>
            <a:off x="356544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8:45:45Z</dcterms:created>
  <dc:creator>Andrea</dc:creator>
  <dc:description/>
  <dc:language>en-US</dc:language>
  <cp:lastModifiedBy>Smets</cp:lastModifiedBy>
  <dcterms:modified xsi:type="dcterms:W3CDTF">2008-09-21T05:35:08Z</dcterms:modified>
  <cp:revision>24</cp:revision>
  <dc:subject/>
  <dc:title>Diapositiva 1</dc:title>
</cp:coreProperties>
</file>